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EDEA-4853-42E9-9568-3A8A1A1D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FEF5-30C4-429E-9C99-28E28786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A87F-3994-463C-8463-05DAE486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6EB2-5B5C-4C7F-8573-8162A7EC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DADF-EC36-4705-8D8D-6F4507C8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6F29-F97E-4D48-B28C-C3240FFB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9FA2-9816-4073-9260-C42685B8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4AA5-98D3-4421-A578-467D3CEC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F3C7-EB2C-4EF8-81C5-99250A84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2DC9-1F23-4AD2-B098-AF6A07D5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8C05-3E31-4877-A479-A69BF0BE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49E4-B436-4039-9A6D-F99ED3D7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2CF5-6179-4832-B4BB-0FB34C0DC9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2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Заголовок 1"/>
          <p:cNvSpPr/>
          <p:nvPr/>
        </p:nvSpPr>
        <p:spPr>
          <a:xfrm>
            <a:off x="1727280" y="1700280"/>
            <a:ext cx="74167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br>
              <a:rPr sz="6600"/>
            </a:b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ОВНІШНЄ НЕЗАЛЕЖНЕ ОЦІНЮВАННЯ  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014</a:t>
            </a: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ро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71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-201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08000" y="1528560"/>
            <a:ext cx="72360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Мета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ознайомлення з процедурою проведення 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значається самостійно після виконання всіх завдань та отримання правильних відпові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шкалою 100-200 балів може бути встановлений за умови використання учасником сервісу з визначення результатів пробного 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Пробне ЗНО проводиться на платній основ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9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СОБЛИВОСТІ ПРОБНОГ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-201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280" y="907560"/>
            <a:ext cx="7417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еєстрація: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 по 30 листопада 20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Терміни проведенн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Для проходження пробного ЗНО обирається лише один предмет в кожен із днів проведення тестуван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92360" y="1700280"/>
          <a:ext cx="7129440" cy="3662280"/>
        </p:xfrm>
        <a:graphic>
          <a:graphicData uri="http://schemas.openxmlformats.org/drawingml/2006/table">
            <a:tbl>
              <a:tblPr/>
              <a:tblGrid>
                <a:gridCol w="3546720"/>
                <a:gridCol w="3582720"/>
              </a:tblGrid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ерезня 2014 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ерезня 2014 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їнська мова і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імі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ійська м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світня істор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оземна мов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глійська, німецька, французька, іспанська (за виборо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сторія Украї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іолог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ітова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" name="Group 2"/>
          <p:cNvGrpSpPr/>
          <p:nvPr/>
        </p:nvGrpSpPr>
        <p:grpSpPr>
          <a:xfrm>
            <a:off x="0" y="189000"/>
            <a:ext cx="1692360" cy="6408720"/>
            <a:chOff x="0" y="189000"/>
            <a:chExt cx="1692360" cy="6408720"/>
          </a:xfrm>
        </p:grpSpPr>
        <p:pic>
          <p:nvPicPr>
            <p:cNvPr id="56" name="Picture 3" descr="logo"/>
            <p:cNvPicPr/>
            <p:nvPr/>
          </p:nvPicPr>
          <p:blipFill>
            <a:blip r:embed="rId1"/>
            <a:stretch/>
          </p:blipFill>
          <p:spPr>
            <a:xfrm>
              <a:off x="69480" y="476280"/>
              <a:ext cx="12308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2"/>
            <p:cNvSpPr/>
            <p:nvPr/>
          </p:nvSpPr>
          <p:spPr>
            <a:xfrm>
              <a:off x="0" y="1773360"/>
              <a:ext cx="169236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"/>
            <p:cNvSpPr/>
            <p:nvPr/>
          </p:nvSpPr>
          <p:spPr>
            <a:xfrm>
              <a:off x="155088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0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Заголовок 1"/>
          <p:cNvSpPr/>
          <p:nvPr/>
        </p:nvSpPr>
        <p:spPr>
          <a:xfrm>
            <a:off x="1547640" y="549360"/>
            <a:ext cx="774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9 КРОКІВ: РЕЄСТРАЦІЯ, УЧАСТЬ, 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835280" y="1197000"/>
            <a:ext cx="70563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На сайті ХРЦОЯО у розділі «Пробне ЗНО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знайомитися з умовами проведенн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повнити всі поля та отримати персональний код (зберегти код!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йти на сторінку «Особистий кабіне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Роздрукувати заяву та квитанції для оплати кожного замовленого предмета окре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формити заяву та надіслати поштою до ХРЦОЯ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платити квитанції в будь-якому банку протягом 3 робочих дні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Перевірити оплату та надходження заяви на сторінці «Особистий кабінет» через 10 робочих днів із дня оплати квитанцій та відправки заяв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Роздрукувати зі сторінки «Особистий кабінет» запрошення, в якому буде зазначено місце та час проведення (з 3 березня 2014 рок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Взяти участь у пробному ЗНО (маючи при собі документ, що посвідчує особу, та запрошення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Після участі у пробному ЗНО перенести відповіді з паперового бланка до електронного бланка, який розміщений на сторінці «Особистий кабінет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знайомитись із результатом на сторінці «Особистий кабінет»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з 4 квітня 2014 року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124000" y="11592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968560" y="65160"/>
            <a:ext cx="504720" cy="64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781440" y="11592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4435560" y="65160"/>
            <a:ext cx="504720" cy="649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5153040" y="9684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8388360" y="2852640"/>
            <a:ext cx="542880" cy="576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>
            <a:lum bright="12000"/>
          </a:blip>
          <a:stretch/>
        </p:blipFill>
        <p:spPr>
          <a:xfrm>
            <a:off x="8317080" y="4653000"/>
            <a:ext cx="61272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73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8"/>
          <p:cNvSpPr/>
          <p:nvPr/>
        </p:nvSpPr>
        <p:spPr>
          <a:xfrm>
            <a:off x="1908000" y="765000"/>
            <a:ext cx="723600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елефон інформаційної служ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07-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лектронна пош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ffice@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й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орум: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ww.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Адр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майдан Свободи, 6, офіс 463, м. Харків, 61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8:13:26Z</dcterms:created>
  <dc:creator>N.Rusanova</dc:creator>
  <dc:description/>
  <dc:language>en-US</dc:language>
  <cp:lastModifiedBy>Admin</cp:lastModifiedBy>
  <dcterms:modified xsi:type="dcterms:W3CDTF">2013-10-10T06:37:59Z</dcterms:modified>
  <cp:revision>73</cp:revision>
  <dc:subject/>
  <dc:title>Слайд 1</dc:title>
</cp:coreProperties>
</file>