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C01-7086-4641-89E8-3031B3EB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50-C48D-46BF-A127-1BB86DA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1AC-A999-4783-AA9F-6FEC93DF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664-5667-4FBE-90A8-BD46A3EE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EE5-969C-4498-9762-FDF86B66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A2A-A582-4B8B-96B0-8B9660D5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C95-BC2F-4EAD-BA2F-24C4D464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22F-ACB2-4D78-B85C-DFC8D4DB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0E0-D611-43BC-8E75-49B873C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789-FAD8-40FA-BCDE-2668954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B91-B224-422D-8232-2859303F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89D-1BF1-4369-AF6F-23368BF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DB2-F5C9-44AC-BDA1-A214E2062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Admin</cp:lastModifiedBy>
  <dcterms:modified xsi:type="dcterms:W3CDTF">2013-10-10T06:37:59Z</dcterms:modified>
  <cp:revision>73</cp:revision>
  <dc:subject/>
  <dc:title>Слайд 1</dc:title>
</cp:coreProperties>
</file>