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B66-8880-4EA2-AE7B-57D45495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57F-69D0-4DC4-BAA1-8D52B681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9EA-8972-4C9D-B5D9-DBCE14F2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86B-462E-4F92-98F6-AB46A519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B9E-13B2-4065-BD3F-B3CBF82C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209-C96D-4C30-A9A5-99F12413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B0C-C5AC-4EC7-89E6-851AA86B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BEC-2DBE-448A-9AAA-A52510F9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9AB-51D1-413C-A705-338A183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56A-FBA3-435B-87AA-F0FEEAE6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9A9-CBAC-4613-ABEC-2EEE7F0B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F49-6F77-489C-AA17-2FA2C3E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7CF1-2598-41AC-A72C-0F39EE13B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42800" y="-360"/>
            <a:ext cx="6900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О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07640" y="549000"/>
            <a:ext cx="680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єстрація на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.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пробного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3.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3.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земні мови (англійська, французька,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мецька, іспанська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а мова і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06, 0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ійська мов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6.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і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ологі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к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06.201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торія Україн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мі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3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вітня історі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това літератур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06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лошення результатів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8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додаткової сесії ЗН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.07 - 11.07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7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4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9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46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Группа 21"/>
          <p:cNvGrpSpPr/>
          <p:nvPr/>
        </p:nvGrpSpPr>
        <p:grpSpPr>
          <a:xfrm>
            <a:off x="1547280" y="360"/>
            <a:ext cx="360720" cy="6857640"/>
            <a:chOff x="1547280" y="360"/>
            <a:chExt cx="360720" cy="6857640"/>
          </a:xfrm>
        </p:grpSpPr>
        <p:pic>
          <p:nvPicPr>
            <p:cNvPr id="49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547280" y="36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547640" y="1922760"/>
              <a:ext cx="36036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547640" y="390672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547640" y="5884560"/>
              <a:ext cx="36036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70930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ЄСТРАЦІЯ на ЗНО (03.01-05.03.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195640" y="692280"/>
            <a:ext cx="6697440" cy="187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увати комплект докумен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і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відоцтва про народжен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ід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з місця навчання за визначеною формо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пію атестат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карт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зміром 3х4 см (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кументів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піях написати «Згідно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ригіналом»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вити підпи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начити прізвище, ініціали та д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/>
          <p:cNvSpPr/>
          <p:nvPr/>
        </p:nvSpPr>
        <p:spPr>
          <a:xfrm>
            <a:off x="2195640" y="2924280"/>
            <a:ext cx="6734160" cy="2305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и Заяву-реєстраційну картк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стійн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у пункті реєстрації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нтажити з сайту УЦОЯО або ХРЦОЯО спеціальн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ити поля у програ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укувати Заяву-реєстраційну кар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внити власноруч необхідну частину Зая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еї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фотокартки у відведені місця Зая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рукувати Контрольно-інформаційний л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берігається в абітурієнта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2268360" y="5445000"/>
            <a:ext cx="662472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іслати поштою комплект документів разом і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ою-реєстраційною карткою на адресу ХРЦОЯ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2268360" y="5950080"/>
            <a:ext cx="669636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ти поштою </a:t>
            </a:r>
            <a:r>
              <a:rPr b="1" lang="uk-UA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ртифікат та інформаційний  бюле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8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59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0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61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Группа 21"/>
          <p:cNvGrpSpPr/>
          <p:nvPr/>
        </p:nvGrpSpPr>
        <p:grpSpPr>
          <a:xfrm>
            <a:off x="1618920" y="360"/>
            <a:ext cx="360720" cy="6857640"/>
            <a:chOff x="1618920" y="360"/>
            <a:chExt cx="360720" cy="6857640"/>
          </a:xfrm>
        </p:grpSpPr>
        <p:pic>
          <p:nvPicPr>
            <p:cNvPr id="64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618920" y="36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9280" y="1922760"/>
              <a:ext cx="36036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3906720"/>
              <a:ext cx="360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5884560"/>
              <a:ext cx="36036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9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ІНФОРМАЦІЙНА СТОРІНКА УЧА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AutoShape 20" descr=""/>
          <p:cNvPicPr/>
          <p:nvPr/>
        </p:nvPicPr>
        <p:blipFill>
          <a:blip r:embed="rId1"/>
          <a:stretch/>
        </p:blipFill>
        <p:spPr>
          <a:xfrm>
            <a:off x="2050920" y="1047600"/>
            <a:ext cx="7093080" cy="231012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0"/>
          <p:cNvSpPr/>
          <p:nvPr/>
        </p:nvSpPr>
        <p:spPr>
          <a:xfrm>
            <a:off x="2195640" y="3500280"/>
            <a:ext cx="6615000" cy="258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рінці розміщуєтьс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я щодо реєстраційних да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шення-перепустка із зазначенням місця 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у проходження ЗНО, яку можна  роздрук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а картка із результатами 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необхідно роздрук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7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7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74" name="Picture 3" descr="logo"/>
              <p:cNvPicPr/>
              <p:nvPr/>
            </p:nvPicPr>
            <p:blipFill>
              <a:blip r:embed="rId2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Группа 21"/>
          <p:cNvGrpSpPr/>
          <p:nvPr/>
        </p:nvGrpSpPr>
        <p:grpSpPr>
          <a:xfrm>
            <a:off x="1618920" y="360"/>
            <a:ext cx="432000" cy="6857640"/>
            <a:chOff x="1618920" y="360"/>
            <a:chExt cx="432000" cy="6857640"/>
          </a:xfrm>
        </p:grpSpPr>
        <p:pic>
          <p:nvPicPr>
            <p:cNvPr id="77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8920" y="36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1922760"/>
              <a:ext cx="4316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390672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C:\Documents and Settings\Учитель\Рабочий стол\орнаменти\984fa19ff7bft.jpg"/>
            <p:cNvPicPr/>
            <p:nvPr/>
          </p:nvPicPr>
          <p:blipFill>
            <a:blip r:embed="rId6"/>
            <a:stretch/>
          </p:blipFill>
          <p:spPr>
            <a:xfrm>
              <a:off x="1619280" y="5884560"/>
              <a:ext cx="43164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Заголовок 1"/>
          <p:cNvSpPr/>
          <p:nvPr/>
        </p:nvSpPr>
        <p:spPr>
          <a:xfrm>
            <a:off x="1979640" y="26028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НКТИ РЕЄСТРАЦІЇ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195640" y="1268280"/>
            <a:ext cx="6553080" cy="65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і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і створено 20 пунктів реєстрації на базі вищих навчальних закладів І-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.а. (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унктів реєстрації та їх телефони на сайті ХРЦОЯ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и реєстрації працюють 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1.2014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року до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03.2014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ієнтовний графік роботи пунктів реєстрації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ілок – п’ятниця з 9:00 до 1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8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6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86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Группа 21"/>
          <p:cNvGrpSpPr/>
          <p:nvPr/>
        </p:nvGrpSpPr>
        <p:grpSpPr>
          <a:xfrm>
            <a:off x="1618920" y="360"/>
            <a:ext cx="432000" cy="6857640"/>
            <a:chOff x="1618920" y="360"/>
            <a:chExt cx="432000" cy="6857640"/>
          </a:xfrm>
        </p:grpSpPr>
        <p:pic>
          <p:nvPicPr>
            <p:cNvPr id="89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618920" y="36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9280" y="1922760"/>
              <a:ext cx="4316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390672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5884560"/>
              <a:ext cx="43164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8"/>
          <p:cNvSpPr/>
          <p:nvPr/>
        </p:nvSpPr>
        <p:spPr>
          <a:xfrm>
            <a:off x="2232000" y="836640"/>
            <a:ext cx="69120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лефон інформаційної служби ХРЦОЯ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57) 705-07-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лектронна пош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@zno-kharkiv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ай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zno-kharkiv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ре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дан Свободи, 6, офіс 46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, 61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sp>
          <p:nvSpPr>
            <p:cNvPr id="95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0066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5"/>
            <p:cNvGrpSpPr/>
            <p:nvPr/>
          </p:nvGrpSpPr>
          <p:grpSpPr>
            <a:xfrm>
              <a:off x="179280" y="189000"/>
              <a:ext cx="1513080" cy="6408720"/>
              <a:chOff x="179280" y="189000"/>
              <a:chExt cx="1513080" cy="6408720"/>
            </a:xfrm>
          </p:grpSpPr>
          <p:pic>
            <p:nvPicPr>
              <p:cNvPr id="97" name="Picture 3" descr="logo"/>
              <p:cNvPicPr/>
              <p:nvPr/>
            </p:nvPicPr>
            <p:blipFill>
              <a:blip r:embed="rId1"/>
              <a:stretch/>
            </p:blipFill>
            <p:spPr>
              <a:xfrm>
                <a:off x="179280" y="476280"/>
                <a:ext cx="12574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Line 5"/>
              <p:cNvSpPr/>
              <p:nvPr/>
            </p:nvSpPr>
            <p:spPr>
              <a:xfrm>
                <a:off x="1692360" y="189000"/>
                <a:ext cx="0" cy="6408720"/>
              </a:xfrm>
              <a:prstGeom prst="line">
                <a:avLst/>
              </a:prstGeom>
              <a:ln w="3816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Группа 21"/>
          <p:cNvGrpSpPr/>
          <p:nvPr/>
        </p:nvGrpSpPr>
        <p:grpSpPr>
          <a:xfrm>
            <a:off x="1618920" y="360"/>
            <a:ext cx="432000" cy="6857640"/>
            <a:chOff x="1618920" y="360"/>
            <a:chExt cx="432000" cy="6857640"/>
          </a:xfrm>
        </p:grpSpPr>
        <p:pic>
          <p:nvPicPr>
            <p:cNvPr id="100" name="Picture 2" descr="C:\Documents and Settings\Учитель\Рабочий стол\орнаменти\984fa19ff7bft.jpg"/>
            <p:cNvPicPr/>
            <p:nvPr/>
          </p:nvPicPr>
          <p:blipFill>
            <a:blip r:embed="rId2"/>
            <a:stretch/>
          </p:blipFill>
          <p:spPr>
            <a:xfrm>
              <a:off x="1618920" y="36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" descr="C:\Documents and Settings\Учитель\Рабочий стол\орнаменти\984fa19ff7bft.jpg"/>
            <p:cNvPicPr/>
            <p:nvPr/>
          </p:nvPicPr>
          <p:blipFill>
            <a:blip r:embed="rId3"/>
            <a:stretch/>
          </p:blipFill>
          <p:spPr>
            <a:xfrm>
              <a:off x="1619280" y="1922760"/>
              <a:ext cx="43164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" descr="C:\Documents and Settings\Учитель\Рабочий стол\орнаменти\984fa19ff7bft.jpg"/>
            <p:cNvPicPr/>
            <p:nvPr/>
          </p:nvPicPr>
          <p:blipFill>
            <a:blip r:embed="rId4"/>
            <a:stretch/>
          </p:blipFill>
          <p:spPr>
            <a:xfrm>
              <a:off x="1619280" y="3906720"/>
              <a:ext cx="43164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" descr="C:\Documents and Settings\Учитель\Рабочий стол\орнаменти\984fa19ff7bft.jpg"/>
            <p:cNvPicPr/>
            <p:nvPr/>
          </p:nvPicPr>
          <p:blipFill>
            <a:blip r:embed="rId5"/>
            <a:stretch/>
          </p:blipFill>
          <p:spPr>
            <a:xfrm>
              <a:off x="1619280" y="5884560"/>
              <a:ext cx="431640" cy="9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Timur</cp:lastModifiedBy>
  <dcterms:modified xsi:type="dcterms:W3CDTF">2014-01-10T15:25:41Z</dcterms:modified>
  <cp:revision>104</cp:revision>
  <dc:subject/>
  <dc:title>Слайд 1</dc:title>
</cp:coreProperties>
</file>