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AEE-5867-4675-93C7-0B47DFAB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0EF7-67F7-4DCF-958C-448C7FB3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9BD2-DC32-4460-896E-D759E67A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2DC4-6B62-46EA-8B05-C66A838C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B0A-B601-493E-8CFE-3F689D3A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3AC-65C2-48BE-A07E-C851DB83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E64-B7AA-4F5F-BBD6-8AB041FA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300D-DAA8-49E5-B45E-D7021659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3ED-B76F-4A54-BBD2-E7F52818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A4B-A03B-493A-8404-6969A4EA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F13-7E62-4D2C-9E5D-B8B07715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AF7-F9DD-4F26-A350-602F3309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9D6F-6ECF-4A96-8F58-B4F6672F0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42800" y="-360"/>
            <a:ext cx="69008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НО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-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07640" y="549000"/>
            <a:ext cx="6804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єстрація на ЗНО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03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1.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я пробного ЗНО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3.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3.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я З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оземні мови (англійська, французька, 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мецька, іспанська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мова і літератур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.06, 06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ійська мов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6.2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ія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ологі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к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06.2014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торія України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імі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3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світня історі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ітова літератур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лошення результатів ЗНО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08.07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я додаткової сесії ЗНО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.07 - 11.07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7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sp>
          <p:nvSpPr>
            <p:cNvPr id="4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19"/>
            <p:cNvGrpSpPr/>
            <p:nvPr/>
          </p:nvGrpSpPr>
          <p:grpSpPr>
            <a:xfrm>
              <a:off x="179280" y="189000"/>
              <a:ext cx="1513080" cy="6408720"/>
              <a:chOff x="179280" y="189000"/>
              <a:chExt cx="1513080" cy="6408720"/>
            </a:xfrm>
          </p:grpSpPr>
          <p:pic>
            <p:nvPicPr>
              <p:cNvPr id="46" name="Picture 3" descr="logo"/>
              <p:cNvPicPr/>
              <p:nvPr/>
            </p:nvPicPr>
            <p:blipFill>
              <a:blip r:embed="rId1"/>
              <a:stretch/>
            </p:blipFill>
            <p:spPr>
              <a:xfrm>
                <a:off x="179280" y="476280"/>
                <a:ext cx="125748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Line 5"/>
              <p:cNvSpPr/>
              <p:nvPr/>
            </p:nvSpPr>
            <p:spPr>
              <a:xfrm>
                <a:off x="1692360" y="189000"/>
                <a:ext cx="0" cy="640872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" name="Группа 21"/>
          <p:cNvGrpSpPr/>
          <p:nvPr/>
        </p:nvGrpSpPr>
        <p:grpSpPr>
          <a:xfrm>
            <a:off x="1547280" y="360"/>
            <a:ext cx="360720" cy="6857640"/>
            <a:chOff x="1547280" y="360"/>
            <a:chExt cx="360720" cy="6857640"/>
          </a:xfrm>
        </p:grpSpPr>
        <p:pic>
          <p:nvPicPr>
            <p:cNvPr id="49" name="Picture 2" descr="C:\Documents and Settings\Учитель\Рабочий стол\орнаменти\984fa19ff7bft.jpg"/>
            <p:cNvPicPr/>
            <p:nvPr/>
          </p:nvPicPr>
          <p:blipFill>
            <a:blip r:embed="rId2"/>
            <a:stretch/>
          </p:blipFill>
          <p:spPr>
            <a:xfrm>
              <a:off x="1547280" y="360"/>
              <a:ext cx="36036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" descr="C:\Documents and Settings\Учитель\Рабочий стол\орнаменти\984fa19ff7bft.jpg"/>
            <p:cNvPicPr/>
            <p:nvPr/>
          </p:nvPicPr>
          <p:blipFill>
            <a:blip r:embed="rId3"/>
            <a:stretch/>
          </p:blipFill>
          <p:spPr>
            <a:xfrm>
              <a:off x="1547640" y="1922760"/>
              <a:ext cx="360360" cy="22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" descr="C:\Documents and Settings\Учитель\Рабочий стол\орнаменти\984fa19ff7bft.jpg"/>
            <p:cNvPicPr/>
            <p:nvPr/>
          </p:nvPicPr>
          <p:blipFill>
            <a:blip r:embed="rId4"/>
            <a:stretch/>
          </p:blipFill>
          <p:spPr>
            <a:xfrm>
              <a:off x="1547640" y="3906720"/>
              <a:ext cx="36036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2" descr="C:\Documents and Settings\Учитель\Рабочий стол\орнаменти\984fa19ff7bft.jpg"/>
            <p:cNvPicPr/>
            <p:nvPr/>
          </p:nvPicPr>
          <p:blipFill>
            <a:blip r:embed="rId5"/>
            <a:stretch/>
          </p:blipFill>
          <p:spPr>
            <a:xfrm>
              <a:off x="1547640" y="5884560"/>
              <a:ext cx="360360" cy="97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70930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ЄСТРАЦІЯ на ЗНО (03.01-05.03.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2195640" y="692280"/>
            <a:ext cx="6697440" cy="187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готувати комплект документі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ію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відоцтва про народженн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ід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з місця навчання за визначеною формою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пію атестат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і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карт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зміром 3х4 см (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окументів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піях написати «Згідно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оригіналом»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авити підпи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ити прізвище, ініціали та д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3"/>
          <p:cNvSpPr/>
          <p:nvPr/>
        </p:nvSpPr>
        <p:spPr>
          <a:xfrm>
            <a:off x="2195640" y="2924280"/>
            <a:ext cx="6734160" cy="2305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ити Заяву-реєстраційну картк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стійн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у пункті реєстрації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антажити з сайту УЦОЯО або ХРЦОЯО спеціальну прогр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внити поля у програ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друкувати Заяву-реєстраційну карт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внити власноруч необхідну частину Зая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леї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і фотокартки у відведені місця Зая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друкувати Контрольно-інформаційний ли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берігається в абітурієнта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9"/>
          <p:cNvSpPr/>
          <p:nvPr/>
        </p:nvSpPr>
        <p:spPr>
          <a:xfrm>
            <a:off x="2268360" y="5445000"/>
            <a:ext cx="662472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іслати поштою комплект документів разом і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ою-реєстраційною карткою на адресу ХРЦОЯ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9"/>
          <p:cNvSpPr/>
          <p:nvPr/>
        </p:nvSpPr>
        <p:spPr>
          <a:xfrm>
            <a:off x="2268360" y="5950080"/>
            <a:ext cx="6696360" cy="64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мати поштою </a:t>
            </a:r>
            <a:r>
              <a:rPr b="1" lang="uk-UA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ертифікат та інформаційний  бюлет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8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sp>
          <p:nvSpPr>
            <p:cNvPr id="59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20"/>
            <p:cNvGrpSpPr/>
            <p:nvPr/>
          </p:nvGrpSpPr>
          <p:grpSpPr>
            <a:xfrm>
              <a:off x="179280" y="189000"/>
              <a:ext cx="1513080" cy="6408720"/>
              <a:chOff x="179280" y="189000"/>
              <a:chExt cx="1513080" cy="6408720"/>
            </a:xfrm>
          </p:grpSpPr>
          <p:pic>
            <p:nvPicPr>
              <p:cNvPr id="61" name="Picture 3" descr="logo"/>
              <p:cNvPicPr/>
              <p:nvPr/>
            </p:nvPicPr>
            <p:blipFill>
              <a:blip r:embed="rId1"/>
              <a:stretch/>
            </p:blipFill>
            <p:spPr>
              <a:xfrm>
                <a:off x="179280" y="476280"/>
                <a:ext cx="125748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Line 5"/>
              <p:cNvSpPr/>
              <p:nvPr/>
            </p:nvSpPr>
            <p:spPr>
              <a:xfrm>
                <a:off x="1692360" y="189000"/>
                <a:ext cx="0" cy="640872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Группа 21"/>
          <p:cNvGrpSpPr/>
          <p:nvPr/>
        </p:nvGrpSpPr>
        <p:grpSpPr>
          <a:xfrm>
            <a:off x="1618920" y="360"/>
            <a:ext cx="360720" cy="6857640"/>
            <a:chOff x="1618920" y="360"/>
            <a:chExt cx="360720" cy="6857640"/>
          </a:xfrm>
        </p:grpSpPr>
        <p:pic>
          <p:nvPicPr>
            <p:cNvPr id="64" name="Picture 2" descr="C:\Documents and Settings\Учитель\Рабочий стол\орнаменти\984fa19ff7bft.jpg"/>
            <p:cNvPicPr/>
            <p:nvPr/>
          </p:nvPicPr>
          <p:blipFill>
            <a:blip r:embed="rId2"/>
            <a:stretch/>
          </p:blipFill>
          <p:spPr>
            <a:xfrm>
              <a:off x="1618920" y="360"/>
              <a:ext cx="36036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" descr="C:\Documents and Settings\Учитель\Рабочий стол\орнаменти\984fa19ff7bft.jpg"/>
            <p:cNvPicPr/>
            <p:nvPr/>
          </p:nvPicPr>
          <p:blipFill>
            <a:blip r:embed="rId3"/>
            <a:stretch/>
          </p:blipFill>
          <p:spPr>
            <a:xfrm>
              <a:off x="1619280" y="1922760"/>
              <a:ext cx="360360" cy="22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" descr="C:\Documents and Settings\Учитель\Рабочий стол\орнаменти\984fa19ff7bft.jpg"/>
            <p:cNvPicPr/>
            <p:nvPr/>
          </p:nvPicPr>
          <p:blipFill>
            <a:blip r:embed="rId4"/>
            <a:stretch/>
          </p:blipFill>
          <p:spPr>
            <a:xfrm>
              <a:off x="1619280" y="3906720"/>
              <a:ext cx="36036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" descr="C:\Documents and Settings\Учитель\Рабочий стол\орнаменти\984fa19ff7bft.jpg"/>
            <p:cNvPicPr/>
            <p:nvPr/>
          </p:nvPicPr>
          <p:blipFill>
            <a:blip r:embed="rId5"/>
            <a:stretch/>
          </p:blipFill>
          <p:spPr>
            <a:xfrm>
              <a:off x="1619280" y="5884560"/>
              <a:ext cx="360360" cy="97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6948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ІНФОРМАЦІЙНА СТОРІНКА УЧАС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AutoShape 20" descr=""/>
          <p:cNvPicPr/>
          <p:nvPr/>
        </p:nvPicPr>
        <p:blipFill>
          <a:blip r:embed="rId1"/>
          <a:stretch/>
        </p:blipFill>
        <p:spPr>
          <a:xfrm>
            <a:off x="2050920" y="1047600"/>
            <a:ext cx="7093080" cy="231012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20"/>
          <p:cNvSpPr/>
          <p:nvPr/>
        </p:nvSpPr>
        <p:spPr>
          <a:xfrm>
            <a:off x="2195640" y="3500280"/>
            <a:ext cx="6615000" cy="258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орінці розміщуєтьс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ція щодо реєстраційних дан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шення-перепустка із зазначенням місця 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у проходження ЗНО, яку можна  роздрукув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ційна картка із результатами З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у необхідно роздрукув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5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sp>
          <p:nvSpPr>
            <p:cNvPr id="7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7"/>
            <p:cNvGrpSpPr/>
            <p:nvPr/>
          </p:nvGrpSpPr>
          <p:grpSpPr>
            <a:xfrm>
              <a:off x="179280" y="189000"/>
              <a:ext cx="1513080" cy="6408720"/>
              <a:chOff x="179280" y="189000"/>
              <a:chExt cx="1513080" cy="6408720"/>
            </a:xfrm>
          </p:grpSpPr>
          <p:pic>
            <p:nvPicPr>
              <p:cNvPr id="74" name="Picture 3" descr="logo"/>
              <p:cNvPicPr/>
              <p:nvPr/>
            </p:nvPicPr>
            <p:blipFill>
              <a:blip r:embed="rId2"/>
              <a:stretch/>
            </p:blipFill>
            <p:spPr>
              <a:xfrm>
                <a:off x="179280" y="476280"/>
                <a:ext cx="125748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Line 5"/>
              <p:cNvSpPr/>
              <p:nvPr/>
            </p:nvSpPr>
            <p:spPr>
              <a:xfrm>
                <a:off x="1692360" y="189000"/>
                <a:ext cx="0" cy="640872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Группа 21"/>
          <p:cNvGrpSpPr/>
          <p:nvPr/>
        </p:nvGrpSpPr>
        <p:grpSpPr>
          <a:xfrm>
            <a:off x="1618920" y="360"/>
            <a:ext cx="432000" cy="6857640"/>
            <a:chOff x="1618920" y="360"/>
            <a:chExt cx="432000" cy="6857640"/>
          </a:xfrm>
        </p:grpSpPr>
        <p:pic>
          <p:nvPicPr>
            <p:cNvPr id="77" name="Picture 2" descr="C:\Documents and Settings\Учитель\Рабочий стол\орнаменти\984fa19ff7bft.jpg"/>
            <p:cNvPicPr/>
            <p:nvPr/>
          </p:nvPicPr>
          <p:blipFill>
            <a:blip r:embed="rId3"/>
            <a:stretch/>
          </p:blipFill>
          <p:spPr>
            <a:xfrm>
              <a:off x="1618920" y="360"/>
              <a:ext cx="43164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" descr="C:\Documents and Settings\Учитель\Рабочий стол\орнаменти\984fa19ff7bft.jpg"/>
            <p:cNvPicPr/>
            <p:nvPr/>
          </p:nvPicPr>
          <p:blipFill>
            <a:blip r:embed="rId4"/>
            <a:stretch/>
          </p:blipFill>
          <p:spPr>
            <a:xfrm>
              <a:off x="1619280" y="1922760"/>
              <a:ext cx="431640" cy="22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" descr="C:\Documents and Settings\Учитель\Рабочий стол\орнаменти\984fa19ff7bft.jpg"/>
            <p:cNvPicPr/>
            <p:nvPr/>
          </p:nvPicPr>
          <p:blipFill>
            <a:blip r:embed="rId5"/>
            <a:stretch/>
          </p:blipFill>
          <p:spPr>
            <a:xfrm>
              <a:off x="1619280" y="3906720"/>
              <a:ext cx="43164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" descr="C:\Documents and Settings\Учитель\Рабочий стол\орнаменти\984fa19ff7bft.jpg"/>
            <p:cNvPicPr/>
            <p:nvPr/>
          </p:nvPicPr>
          <p:blipFill>
            <a:blip r:embed="rId6"/>
            <a:stretch/>
          </p:blipFill>
          <p:spPr>
            <a:xfrm>
              <a:off x="1619280" y="5884560"/>
              <a:ext cx="431640" cy="973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Заголовок 1"/>
          <p:cNvSpPr/>
          <p:nvPr/>
        </p:nvSpPr>
        <p:spPr>
          <a:xfrm>
            <a:off x="1979640" y="260280"/>
            <a:ext cx="734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НКТИ РЕЄСТРАЦІЇ</a:t>
            </a: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195640" y="1268280"/>
            <a:ext cx="6553080" cy="65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ківській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ласті створено 20 пунктів реєстрації на базі вищих навчальних закладів І-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.а. (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лік пунктів реєстрації та їх телефони на сайті ХРЦОЯО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и реєстрації працюють 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1.2014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року до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.03.2014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ієнтовний графік роботи пунктів реєстрації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1" lang="uk-UA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еділок – п’ятниця з 9:00 до 1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sp>
          <p:nvSpPr>
            <p:cNvPr id="8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16"/>
            <p:cNvGrpSpPr/>
            <p:nvPr/>
          </p:nvGrpSpPr>
          <p:grpSpPr>
            <a:xfrm>
              <a:off x="179280" y="189000"/>
              <a:ext cx="1513080" cy="6408720"/>
              <a:chOff x="179280" y="189000"/>
              <a:chExt cx="1513080" cy="6408720"/>
            </a:xfrm>
          </p:grpSpPr>
          <p:pic>
            <p:nvPicPr>
              <p:cNvPr id="86" name="Picture 3" descr="logo"/>
              <p:cNvPicPr/>
              <p:nvPr/>
            </p:nvPicPr>
            <p:blipFill>
              <a:blip r:embed="rId1"/>
              <a:stretch/>
            </p:blipFill>
            <p:spPr>
              <a:xfrm>
                <a:off x="179280" y="476280"/>
                <a:ext cx="125748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Line 5"/>
              <p:cNvSpPr/>
              <p:nvPr/>
            </p:nvSpPr>
            <p:spPr>
              <a:xfrm>
                <a:off x="1692360" y="189000"/>
                <a:ext cx="0" cy="640872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Группа 21"/>
          <p:cNvGrpSpPr/>
          <p:nvPr/>
        </p:nvGrpSpPr>
        <p:grpSpPr>
          <a:xfrm>
            <a:off x="1618920" y="360"/>
            <a:ext cx="432000" cy="6857640"/>
            <a:chOff x="1618920" y="360"/>
            <a:chExt cx="432000" cy="6857640"/>
          </a:xfrm>
        </p:grpSpPr>
        <p:pic>
          <p:nvPicPr>
            <p:cNvPr id="89" name="Picture 2" descr="C:\Documents and Settings\Учитель\Рабочий стол\орнаменти\984fa19ff7bft.jpg"/>
            <p:cNvPicPr/>
            <p:nvPr/>
          </p:nvPicPr>
          <p:blipFill>
            <a:blip r:embed="rId2"/>
            <a:stretch/>
          </p:blipFill>
          <p:spPr>
            <a:xfrm>
              <a:off x="1618920" y="360"/>
              <a:ext cx="43164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2" descr="C:\Documents and Settings\Учитель\Рабочий стол\орнаменти\984fa19ff7bft.jpg"/>
            <p:cNvPicPr/>
            <p:nvPr/>
          </p:nvPicPr>
          <p:blipFill>
            <a:blip r:embed="rId3"/>
            <a:stretch/>
          </p:blipFill>
          <p:spPr>
            <a:xfrm>
              <a:off x="1619280" y="1922760"/>
              <a:ext cx="431640" cy="22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" descr="C:\Documents and Settings\Учитель\Рабочий стол\орнаменти\984fa19ff7bft.jpg"/>
            <p:cNvPicPr/>
            <p:nvPr/>
          </p:nvPicPr>
          <p:blipFill>
            <a:blip r:embed="rId4"/>
            <a:stretch/>
          </p:blipFill>
          <p:spPr>
            <a:xfrm>
              <a:off x="1619280" y="3906720"/>
              <a:ext cx="43164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2" descr="C:\Documents and Settings\Учитель\Рабочий стол\орнаменти\984fa19ff7bft.jpg"/>
            <p:cNvPicPr/>
            <p:nvPr/>
          </p:nvPicPr>
          <p:blipFill>
            <a:blip r:embed="rId5"/>
            <a:stretch/>
          </p:blipFill>
          <p:spPr>
            <a:xfrm>
              <a:off x="1619280" y="5884560"/>
              <a:ext cx="431640" cy="97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8"/>
          <p:cNvSpPr/>
          <p:nvPr/>
        </p:nvSpPr>
        <p:spPr>
          <a:xfrm>
            <a:off x="2232000" y="836640"/>
            <a:ext cx="691200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елефон інформаційної служби ХРЦОЯ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57) 705-07-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лектронна пошт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@zno-kharkiv.org.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ай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zno-kharkiv.org.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ре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дан Свободи, 6, офіс 46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, 610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sp>
          <p:nvSpPr>
            <p:cNvPr id="95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15"/>
            <p:cNvGrpSpPr/>
            <p:nvPr/>
          </p:nvGrpSpPr>
          <p:grpSpPr>
            <a:xfrm>
              <a:off x="179280" y="189000"/>
              <a:ext cx="1513080" cy="6408720"/>
              <a:chOff x="179280" y="189000"/>
              <a:chExt cx="1513080" cy="6408720"/>
            </a:xfrm>
          </p:grpSpPr>
          <p:pic>
            <p:nvPicPr>
              <p:cNvPr id="97" name="Picture 3" descr="logo"/>
              <p:cNvPicPr/>
              <p:nvPr/>
            </p:nvPicPr>
            <p:blipFill>
              <a:blip r:embed="rId1"/>
              <a:stretch/>
            </p:blipFill>
            <p:spPr>
              <a:xfrm>
                <a:off x="179280" y="476280"/>
                <a:ext cx="125748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Line 5"/>
              <p:cNvSpPr/>
              <p:nvPr/>
            </p:nvSpPr>
            <p:spPr>
              <a:xfrm>
                <a:off x="1692360" y="189000"/>
                <a:ext cx="0" cy="640872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Группа 21"/>
          <p:cNvGrpSpPr/>
          <p:nvPr/>
        </p:nvGrpSpPr>
        <p:grpSpPr>
          <a:xfrm>
            <a:off x="1618920" y="360"/>
            <a:ext cx="432000" cy="6857640"/>
            <a:chOff x="1618920" y="360"/>
            <a:chExt cx="432000" cy="6857640"/>
          </a:xfrm>
        </p:grpSpPr>
        <p:pic>
          <p:nvPicPr>
            <p:cNvPr id="100" name="Picture 2" descr="C:\Documents and Settings\Учитель\Рабочий стол\орнаменти\984fa19ff7bft.jpg"/>
            <p:cNvPicPr/>
            <p:nvPr/>
          </p:nvPicPr>
          <p:blipFill>
            <a:blip r:embed="rId2"/>
            <a:stretch/>
          </p:blipFill>
          <p:spPr>
            <a:xfrm>
              <a:off x="1618920" y="360"/>
              <a:ext cx="43164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" descr="C:\Documents and Settings\Учитель\Рабочий стол\орнаменти\984fa19ff7bft.jpg"/>
            <p:cNvPicPr/>
            <p:nvPr/>
          </p:nvPicPr>
          <p:blipFill>
            <a:blip r:embed="rId3"/>
            <a:stretch/>
          </p:blipFill>
          <p:spPr>
            <a:xfrm>
              <a:off x="1619280" y="1922760"/>
              <a:ext cx="431640" cy="22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" descr="C:\Documents and Settings\Учитель\Рабочий стол\орнаменти\984fa19ff7bft.jpg"/>
            <p:cNvPicPr/>
            <p:nvPr/>
          </p:nvPicPr>
          <p:blipFill>
            <a:blip r:embed="rId4"/>
            <a:stretch/>
          </p:blipFill>
          <p:spPr>
            <a:xfrm>
              <a:off x="1619280" y="3906720"/>
              <a:ext cx="43164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" descr="C:\Documents and Settings\Учитель\Рабочий стол\орнаменти\984fa19ff7bft.jpg"/>
            <p:cNvPicPr/>
            <p:nvPr/>
          </p:nvPicPr>
          <p:blipFill>
            <a:blip r:embed="rId5"/>
            <a:stretch/>
          </p:blipFill>
          <p:spPr>
            <a:xfrm>
              <a:off x="1619280" y="5884560"/>
              <a:ext cx="431640" cy="97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Timur</cp:lastModifiedBy>
  <dcterms:modified xsi:type="dcterms:W3CDTF">2014-01-10T15:25:41Z</dcterms:modified>
  <cp:revision>104</cp:revision>
  <dc:subject/>
  <dc:title>Слайд 1</dc:title>
</cp:coreProperties>
</file>