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82B-F9C0-4801-804B-2946E91F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041-B30D-41A5-A4C9-E0C52273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666-EF74-453C-9B7B-77E3BBBC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B3A-7830-4916-9B64-D8575CFD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859-38DC-4AAA-B31D-B4DE0ECA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34B-6392-434C-8D25-745093C9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F7F-9720-41F9-85C0-2AE53ABF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BB6-E0BE-4182-818C-697D52CB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DCB-20BC-4537-8541-BECDE4F8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78A-8F3A-46C5-ADB8-AAE3B133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B19-8AAE-4F2C-9475-CC3E517C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297-C06D-472B-B6DD-1F664798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99A3-1CF4-467F-9748-58A49FC63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42800" y="-360"/>
            <a:ext cx="6900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О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07640" y="549000"/>
            <a:ext cx="6804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єстрація на ЗНО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03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1.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пробного ЗНО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3.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3.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З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оземні мови (англійська, французька,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мецька, іспанська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мова і літератур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.06, 06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ійська мов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6.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і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ологі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к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06.2014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торія України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імі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3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світня історі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ітова літератур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лошення результатів ЗНО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08.07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додаткової сесії ЗНО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.07 - 11.07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7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sp>
          <p:nvSpPr>
            <p:cNvPr id="4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19"/>
            <p:cNvGrpSpPr/>
            <p:nvPr/>
          </p:nvGrpSpPr>
          <p:grpSpPr>
            <a:xfrm>
              <a:off x="179280" y="189000"/>
              <a:ext cx="1513080" cy="6408720"/>
              <a:chOff x="179280" y="189000"/>
              <a:chExt cx="1513080" cy="6408720"/>
            </a:xfrm>
          </p:grpSpPr>
          <p:pic>
            <p:nvPicPr>
              <p:cNvPr id="46" name="Picture 3" descr="logo"/>
              <p:cNvPicPr/>
              <p:nvPr/>
            </p:nvPicPr>
            <p:blipFill>
              <a:blip r:embed="rId1"/>
              <a:stretch/>
            </p:blipFill>
            <p:spPr>
              <a:xfrm>
                <a:off x="179280" y="476280"/>
                <a:ext cx="12574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Line 5"/>
              <p:cNvSpPr/>
              <p:nvPr/>
            </p:nvSpPr>
            <p:spPr>
              <a:xfrm>
                <a:off x="1692360" y="189000"/>
                <a:ext cx="0" cy="6408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Группа 21"/>
          <p:cNvGrpSpPr/>
          <p:nvPr/>
        </p:nvGrpSpPr>
        <p:grpSpPr>
          <a:xfrm>
            <a:off x="1547280" y="360"/>
            <a:ext cx="360720" cy="6857640"/>
            <a:chOff x="1547280" y="360"/>
            <a:chExt cx="360720" cy="6857640"/>
          </a:xfrm>
        </p:grpSpPr>
        <p:pic>
          <p:nvPicPr>
            <p:cNvPr id="49" name="Picture 2" descr="C:\Documents and Settings\Учитель\Рабочий стол\орнаменти\984fa19ff7bft.jpg"/>
            <p:cNvPicPr/>
            <p:nvPr/>
          </p:nvPicPr>
          <p:blipFill>
            <a:blip r:embed="rId2"/>
            <a:stretch/>
          </p:blipFill>
          <p:spPr>
            <a:xfrm>
              <a:off x="1547280" y="360"/>
              <a:ext cx="36036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" descr="C:\Documents and Settings\Учитель\Рабочий стол\орнаменти\984fa19ff7bft.jpg"/>
            <p:cNvPicPr/>
            <p:nvPr/>
          </p:nvPicPr>
          <p:blipFill>
            <a:blip r:embed="rId3"/>
            <a:stretch/>
          </p:blipFill>
          <p:spPr>
            <a:xfrm>
              <a:off x="1547640" y="1922760"/>
              <a:ext cx="36036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" descr="C:\Documents and Settings\Учитель\Рабочий стол\орнаменти\984fa19ff7bft.jpg"/>
            <p:cNvPicPr/>
            <p:nvPr/>
          </p:nvPicPr>
          <p:blipFill>
            <a:blip r:embed="rId4"/>
            <a:stretch/>
          </p:blipFill>
          <p:spPr>
            <a:xfrm>
              <a:off x="1547640" y="3906720"/>
              <a:ext cx="36036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" descr="C:\Documents and Settings\Учитель\Рабочий стол\орнаменти\984fa19ff7bft.jpg"/>
            <p:cNvPicPr/>
            <p:nvPr/>
          </p:nvPicPr>
          <p:blipFill>
            <a:blip r:embed="rId5"/>
            <a:stretch/>
          </p:blipFill>
          <p:spPr>
            <a:xfrm>
              <a:off x="1547640" y="5884560"/>
              <a:ext cx="360360" cy="9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70930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ЄСТРАЦІЯ на ЗНО (03.01-05.03.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2195640" y="692280"/>
            <a:ext cx="6697440" cy="187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готувати комплект документ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і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відоцтва про народженн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ід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з місця навчання за визначеною формо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пію атестат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карт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зміром 3х4 см (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кументів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піях написати «Згідно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оригіналом»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вити підпи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ити прізвище, ініціали та д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3"/>
          <p:cNvSpPr/>
          <p:nvPr/>
        </p:nvSpPr>
        <p:spPr>
          <a:xfrm>
            <a:off x="2195640" y="2924280"/>
            <a:ext cx="6734160" cy="2305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ити Заяву-реєстраційну картк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стійн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у пункті реєстрації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антажити з сайту УЦОЯО або ХРЦОЯО спеціальн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внити поля у програ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рукувати Заяву-реєстраційну карт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внити власноруч необхідну частину Зая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еї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фотокартки у відведені місця Зая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рукувати Контрольно-інформаційний ли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берігається в абітурієнта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9"/>
          <p:cNvSpPr/>
          <p:nvPr/>
        </p:nvSpPr>
        <p:spPr>
          <a:xfrm>
            <a:off x="2268360" y="5445000"/>
            <a:ext cx="662472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іслати поштою комплект документів разом і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ою-реєстраційною карткою на адресу ХРЦОЯ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2268360" y="5950080"/>
            <a:ext cx="6696360" cy="64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мати поштою </a:t>
            </a:r>
            <a:r>
              <a:rPr b="1" lang="uk-UA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ертифікат та інформаційний  бюлет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8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sp>
          <p:nvSpPr>
            <p:cNvPr id="5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20"/>
            <p:cNvGrpSpPr/>
            <p:nvPr/>
          </p:nvGrpSpPr>
          <p:grpSpPr>
            <a:xfrm>
              <a:off x="179280" y="189000"/>
              <a:ext cx="1513080" cy="6408720"/>
              <a:chOff x="179280" y="189000"/>
              <a:chExt cx="1513080" cy="6408720"/>
            </a:xfrm>
          </p:grpSpPr>
          <p:pic>
            <p:nvPicPr>
              <p:cNvPr id="61" name="Picture 3" descr="logo"/>
              <p:cNvPicPr/>
              <p:nvPr/>
            </p:nvPicPr>
            <p:blipFill>
              <a:blip r:embed="rId1"/>
              <a:stretch/>
            </p:blipFill>
            <p:spPr>
              <a:xfrm>
                <a:off x="179280" y="476280"/>
                <a:ext cx="12574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Line 5"/>
              <p:cNvSpPr/>
              <p:nvPr/>
            </p:nvSpPr>
            <p:spPr>
              <a:xfrm>
                <a:off x="1692360" y="189000"/>
                <a:ext cx="0" cy="6408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Группа 21"/>
          <p:cNvGrpSpPr/>
          <p:nvPr/>
        </p:nvGrpSpPr>
        <p:grpSpPr>
          <a:xfrm>
            <a:off x="1618920" y="360"/>
            <a:ext cx="360720" cy="6857640"/>
            <a:chOff x="1618920" y="360"/>
            <a:chExt cx="360720" cy="6857640"/>
          </a:xfrm>
        </p:grpSpPr>
        <p:pic>
          <p:nvPicPr>
            <p:cNvPr id="64" name="Picture 2" descr="C:\Documents and Settings\Учитель\Рабочий стол\орнаменти\984fa19ff7bft.jpg"/>
            <p:cNvPicPr/>
            <p:nvPr/>
          </p:nvPicPr>
          <p:blipFill>
            <a:blip r:embed="rId2"/>
            <a:stretch/>
          </p:blipFill>
          <p:spPr>
            <a:xfrm>
              <a:off x="1618920" y="360"/>
              <a:ext cx="36036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" descr="C:\Documents and Settings\Учитель\Рабочий стол\орнаменти\984fa19ff7bft.jpg"/>
            <p:cNvPicPr/>
            <p:nvPr/>
          </p:nvPicPr>
          <p:blipFill>
            <a:blip r:embed="rId3"/>
            <a:stretch/>
          </p:blipFill>
          <p:spPr>
            <a:xfrm>
              <a:off x="1619280" y="1922760"/>
              <a:ext cx="36036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" descr="C:\Documents and Settings\Учитель\Рабочий стол\орнаменти\984fa19ff7bft.jpg"/>
            <p:cNvPicPr/>
            <p:nvPr/>
          </p:nvPicPr>
          <p:blipFill>
            <a:blip r:embed="rId4"/>
            <a:stretch/>
          </p:blipFill>
          <p:spPr>
            <a:xfrm>
              <a:off x="1619280" y="3906720"/>
              <a:ext cx="36036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" descr="C:\Documents and Settings\Учитель\Рабочий стол\орнаменти\984fa19ff7bft.jpg"/>
            <p:cNvPicPr/>
            <p:nvPr/>
          </p:nvPicPr>
          <p:blipFill>
            <a:blip r:embed="rId5"/>
            <a:stretch/>
          </p:blipFill>
          <p:spPr>
            <a:xfrm>
              <a:off x="1619280" y="5884560"/>
              <a:ext cx="360360" cy="9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694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ІНФОРМАЦІЙНА СТОРІНКА УЧА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AutoShape 20" descr=""/>
          <p:cNvPicPr/>
          <p:nvPr/>
        </p:nvPicPr>
        <p:blipFill>
          <a:blip r:embed="rId1"/>
          <a:stretch/>
        </p:blipFill>
        <p:spPr>
          <a:xfrm>
            <a:off x="2050920" y="1047600"/>
            <a:ext cx="7093080" cy="231012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0"/>
          <p:cNvSpPr/>
          <p:nvPr/>
        </p:nvSpPr>
        <p:spPr>
          <a:xfrm>
            <a:off x="2195640" y="3500280"/>
            <a:ext cx="6615000" cy="258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рінці розміщуєтьс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я щодо реєстраційних дан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шення-перепустка із зазначенням місця 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у проходження ЗНО, яку можна  роздруку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йна картка із результатами З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у необхідно роздруку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sp>
          <p:nvSpPr>
            <p:cNvPr id="7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7"/>
            <p:cNvGrpSpPr/>
            <p:nvPr/>
          </p:nvGrpSpPr>
          <p:grpSpPr>
            <a:xfrm>
              <a:off x="179280" y="189000"/>
              <a:ext cx="1513080" cy="6408720"/>
              <a:chOff x="179280" y="189000"/>
              <a:chExt cx="1513080" cy="6408720"/>
            </a:xfrm>
          </p:grpSpPr>
          <p:pic>
            <p:nvPicPr>
              <p:cNvPr id="74" name="Picture 3" descr="logo"/>
              <p:cNvPicPr/>
              <p:nvPr/>
            </p:nvPicPr>
            <p:blipFill>
              <a:blip r:embed="rId2"/>
              <a:stretch/>
            </p:blipFill>
            <p:spPr>
              <a:xfrm>
                <a:off x="179280" y="476280"/>
                <a:ext cx="12574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Line 5"/>
              <p:cNvSpPr/>
              <p:nvPr/>
            </p:nvSpPr>
            <p:spPr>
              <a:xfrm>
                <a:off x="1692360" y="189000"/>
                <a:ext cx="0" cy="6408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Группа 21"/>
          <p:cNvGrpSpPr/>
          <p:nvPr/>
        </p:nvGrpSpPr>
        <p:grpSpPr>
          <a:xfrm>
            <a:off x="1618920" y="360"/>
            <a:ext cx="432000" cy="6857640"/>
            <a:chOff x="1618920" y="360"/>
            <a:chExt cx="432000" cy="6857640"/>
          </a:xfrm>
        </p:grpSpPr>
        <p:pic>
          <p:nvPicPr>
            <p:cNvPr id="77" name="Picture 2" descr="C:\Documents and Settings\Учитель\Рабочий стол\орнаменти\984fa19ff7bft.jpg"/>
            <p:cNvPicPr/>
            <p:nvPr/>
          </p:nvPicPr>
          <p:blipFill>
            <a:blip r:embed="rId3"/>
            <a:stretch/>
          </p:blipFill>
          <p:spPr>
            <a:xfrm>
              <a:off x="1618920" y="36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" descr="C:\Documents and Settings\Учитель\Рабочий стол\орнаменти\984fa19ff7bft.jpg"/>
            <p:cNvPicPr/>
            <p:nvPr/>
          </p:nvPicPr>
          <p:blipFill>
            <a:blip r:embed="rId4"/>
            <a:stretch/>
          </p:blipFill>
          <p:spPr>
            <a:xfrm>
              <a:off x="1619280" y="1922760"/>
              <a:ext cx="43164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" descr="C:\Documents and Settings\Учитель\Рабочий стол\орнаменти\984fa19ff7bft.jpg"/>
            <p:cNvPicPr/>
            <p:nvPr/>
          </p:nvPicPr>
          <p:blipFill>
            <a:blip r:embed="rId5"/>
            <a:stretch/>
          </p:blipFill>
          <p:spPr>
            <a:xfrm>
              <a:off x="1619280" y="390672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" descr="C:\Documents and Settings\Учитель\Рабочий стол\орнаменти\984fa19ff7bft.jpg"/>
            <p:cNvPicPr/>
            <p:nvPr/>
          </p:nvPicPr>
          <p:blipFill>
            <a:blip r:embed="rId6"/>
            <a:stretch/>
          </p:blipFill>
          <p:spPr>
            <a:xfrm>
              <a:off x="1619280" y="5884560"/>
              <a:ext cx="431640" cy="973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Заголовок 1"/>
          <p:cNvSpPr/>
          <p:nvPr/>
        </p:nvSpPr>
        <p:spPr>
          <a:xfrm>
            <a:off x="1979640" y="260280"/>
            <a:ext cx="734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НКТИ РЕЄСТРАЦІЇ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195640" y="1268280"/>
            <a:ext cx="6553080" cy="65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ківські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сті створено 20 пунктів реєстрації на базі вищих навчальних закладів І-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.а. (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лік пунктів реєстрації та їх телефони на сайті ХРЦОЯО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и реєстрації працюють 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1.2014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року до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.03.2014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ієнтовний графік роботи пунктів реєстрації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1" lang="uk-UA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еділок – п’ятниця з 9:00 до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sp>
          <p:nvSpPr>
            <p:cNvPr id="8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16"/>
            <p:cNvGrpSpPr/>
            <p:nvPr/>
          </p:nvGrpSpPr>
          <p:grpSpPr>
            <a:xfrm>
              <a:off x="179280" y="189000"/>
              <a:ext cx="1513080" cy="6408720"/>
              <a:chOff x="179280" y="189000"/>
              <a:chExt cx="1513080" cy="6408720"/>
            </a:xfrm>
          </p:grpSpPr>
          <p:pic>
            <p:nvPicPr>
              <p:cNvPr id="86" name="Picture 3" descr="logo"/>
              <p:cNvPicPr/>
              <p:nvPr/>
            </p:nvPicPr>
            <p:blipFill>
              <a:blip r:embed="rId1"/>
              <a:stretch/>
            </p:blipFill>
            <p:spPr>
              <a:xfrm>
                <a:off x="179280" y="476280"/>
                <a:ext cx="12574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Line 5"/>
              <p:cNvSpPr/>
              <p:nvPr/>
            </p:nvSpPr>
            <p:spPr>
              <a:xfrm>
                <a:off x="1692360" y="189000"/>
                <a:ext cx="0" cy="6408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Группа 21"/>
          <p:cNvGrpSpPr/>
          <p:nvPr/>
        </p:nvGrpSpPr>
        <p:grpSpPr>
          <a:xfrm>
            <a:off x="1618920" y="360"/>
            <a:ext cx="432000" cy="6857640"/>
            <a:chOff x="1618920" y="360"/>
            <a:chExt cx="432000" cy="6857640"/>
          </a:xfrm>
        </p:grpSpPr>
        <p:pic>
          <p:nvPicPr>
            <p:cNvPr id="89" name="Picture 2" descr="C:\Documents and Settings\Учитель\Рабочий стол\орнаменти\984fa19ff7bft.jpg"/>
            <p:cNvPicPr/>
            <p:nvPr/>
          </p:nvPicPr>
          <p:blipFill>
            <a:blip r:embed="rId2"/>
            <a:stretch/>
          </p:blipFill>
          <p:spPr>
            <a:xfrm>
              <a:off x="1618920" y="36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" descr="C:\Documents and Settings\Учитель\Рабочий стол\орнаменти\984fa19ff7bft.jpg"/>
            <p:cNvPicPr/>
            <p:nvPr/>
          </p:nvPicPr>
          <p:blipFill>
            <a:blip r:embed="rId3"/>
            <a:stretch/>
          </p:blipFill>
          <p:spPr>
            <a:xfrm>
              <a:off x="1619280" y="1922760"/>
              <a:ext cx="43164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" descr="C:\Documents and Settings\Учитель\Рабочий стол\орнаменти\984fa19ff7bft.jpg"/>
            <p:cNvPicPr/>
            <p:nvPr/>
          </p:nvPicPr>
          <p:blipFill>
            <a:blip r:embed="rId4"/>
            <a:stretch/>
          </p:blipFill>
          <p:spPr>
            <a:xfrm>
              <a:off x="1619280" y="390672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" descr="C:\Documents and Settings\Учитель\Рабочий стол\орнаменти\984fa19ff7bft.jpg"/>
            <p:cNvPicPr/>
            <p:nvPr/>
          </p:nvPicPr>
          <p:blipFill>
            <a:blip r:embed="rId5"/>
            <a:stretch/>
          </p:blipFill>
          <p:spPr>
            <a:xfrm>
              <a:off x="1619280" y="5884560"/>
              <a:ext cx="431640" cy="9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8"/>
          <p:cNvSpPr/>
          <p:nvPr/>
        </p:nvSpPr>
        <p:spPr>
          <a:xfrm>
            <a:off x="2232000" y="836640"/>
            <a:ext cx="69120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елефон інформаційної служби ХРЦОЯ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57) 705-07-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лектронна пош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@zno-kharkiv.org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ай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zno-kharkiv.org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ре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дан Свободи, 6, офіс 46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, 61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sp>
          <p:nvSpPr>
            <p:cNvPr id="95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15"/>
            <p:cNvGrpSpPr/>
            <p:nvPr/>
          </p:nvGrpSpPr>
          <p:grpSpPr>
            <a:xfrm>
              <a:off x="179280" y="189000"/>
              <a:ext cx="1513080" cy="6408720"/>
              <a:chOff x="179280" y="189000"/>
              <a:chExt cx="1513080" cy="6408720"/>
            </a:xfrm>
          </p:grpSpPr>
          <p:pic>
            <p:nvPicPr>
              <p:cNvPr id="97" name="Picture 3" descr="logo"/>
              <p:cNvPicPr/>
              <p:nvPr/>
            </p:nvPicPr>
            <p:blipFill>
              <a:blip r:embed="rId1"/>
              <a:stretch/>
            </p:blipFill>
            <p:spPr>
              <a:xfrm>
                <a:off x="179280" y="476280"/>
                <a:ext cx="12574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Line 5"/>
              <p:cNvSpPr/>
              <p:nvPr/>
            </p:nvSpPr>
            <p:spPr>
              <a:xfrm>
                <a:off x="1692360" y="189000"/>
                <a:ext cx="0" cy="6408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Группа 21"/>
          <p:cNvGrpSpPr/>
          <p:nvPr/>
        </p:nvGrpSpPr>
        <p:grpSpPr>
          <a:xfrm>
            <a:off x="1618920" y="360"/>
            <a:ext cx="432000" cy="6857640"/>
            <a:chOff x="1618920" y="360"/>
            <a:chExt cx="432000" cy="6857640"/>
          </a:xfrm>
        </p:grpSpPr>
        <p:pic>
          <p:nvPicPr>
            <p:cNvPr id="100" name="Picture 2" descr="C:\Documents and Settings\Учитель\Рабочий стол\орнаменти\984fa19ff7bft.jpg"/>
            <p:cNvPicPr/>
            <p:nvPr/>
          </p:nvPicPr>
          <p:blipFill>
            <a:blip r:embed="rId2"/>
            <a:stretch/>
          </p:blipFill>
          <p:spPr>
            <a:xfrm>
              <a:off x="1618920" y="36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" descr="C:\Documents and Settings\Учитель\Рабочий стол\орнаменти\984fa19ff7bft.jpg"/>
            <p:cNvPicPr/>
            <p:nvPr/>
          </p:nvPicPr>
          <p:blipFill>
            <a:blip r:embed="rId3"/>
            <a:stretch/>
          </p:blipFill>
          <p:spPr>
            <a:xfrm>
              <a:off x="1619280" y="1922760"/>
              <a:ext cx="43164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" descr="C:\Documents and Settings\Учитель\Рабочий стол\орнаменти\984fa19ff7bft.jpg"/>
            <p:cNvPicPr/>
            <p:nvPr/>
          </p:nvPicPr>
          <p:blipFill>
            <a:blip r:embed="rId4"/>
            <a:stretch/>
          </p:blipFill>
          <p:spPr>
            <a:xfrm>
              <a:off x="1619280" y="390672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" descr="C:\Documents and Settings\Учитель\Рабочий стол\орнаменти\984fa19ff7bft.jpg"/>
            <p:cNvPicPr/>
            <p:nvPr/>
          </p:nvPicPr>
          <p:blipFill>
            <a:blip r:embed="rId5"/>
            <a:stretch/>
          </p:blipFill>
          <p:spPr>
            <a:xfrm>
              <a:off x="1619280" y="5884560"/>
              <a:ext cx="431640" cy="9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Timur</cp:lastModifiedBy>
  <dcterms:modified xsi:type="dcterms:W3CDTF">2014-01-10T15:25:41Z</dcterms:modified>
  <cp:revision>104</cp:revision>
  <dc:subject/>
  <dc:title>Слайд 1</dc:title>
</cp:coreProperties>
</file>