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764-F0BC-4DC4-AB25-B4F138A6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130-29F9-485C-AD47-B09CCF5D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152-41B8-4B36-B372-533A11D4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1EB-0F6D-4943-9CA7-1EAD218C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C4B-92E5-413A-97BD-633C00E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6FF-5F83-44B2-8E02-7849ABD4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6AE-78DD-45BF-B101-3831613F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53D-C105-4350-90DF-B06AA89E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AEB-D817-4D8C-B362-ED0EA079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6EA-BB7A-4C51-A527-12AC3286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0C1-C246-4738-8A63-60FD58E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74E-0C3A-4622-A2E1-CE2CB5E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1BA7-D5FF-43D7-87F1-F8BC011BF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6960"/>
        </p:xfrm>
        <a:graphic>
          <a:graphicData uri="http://schemas.openxmlformats.org/drawingml/2006/table">
            <a:tbl>
              <a:tblPr/>
              <a:tblGrid>
                <a:gridCol w="3546360"/>
                <a:gridCol w="3583080"/>
              </a:tblGrid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480" y="642600"/>
            <a:ext cx="8429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сти до 08.11.2013 збори батьків учнів випускних класів щодо участі їх дітей у пробному ЗН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копію протоколу надати до відділу осві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сти до 30.11.2013 з використанням методичних рекомендацій уроки інформатики для учнів 11-х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формацію про проведену роботу надати до відділу освіти (Савчин Г.П.) до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25.11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metod_kab</cp:lastModifiedBy>
  <dcterms:modified xsi:type="dcterms:W3CDTF">2013-11-04T15:06:12Z</dcterms:modified>
  <cp:revision>76</cp:revision>
  <dc:subject/>
  <dc:title>Слайд 1</dc:title>
</cp:coreProperties>
</file>