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762-D388-4FDC-92FC-8C9E130F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1EE-4E3F-4928-96CA-3EE1DFB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B4C-0863-4F47-A649-3A20DC81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FED-45C0-4684-BF10-C41427EB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A8-7790-42C6-88B0-DD8CEA5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464-517C-45F7-9271-E1121F74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740-F5BC-4D37-89D6-E9EE99AC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52B-E399-40AA-AAD0-A552791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623-EEA7-4A3E-94D1-C6E87AE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11A-EF1B-4DEF-B2C5-65F45E8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C5E-5A7F-4C6A-AB2C-A40171D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A36-4D38-45E3-846E-F648F413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051-19BE-4BC8-A867-D21CF77C2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6960"/>
        </p:xfrm>
        <a:graphic>
          <a:graphicData uri="http://schemas.openxmlformats.org/drawingml/2006/table">
            <a:tbl>
              <a:tblPr/>
              <a:tblGrid>
                <a:gridCol w="3546360"/>
                <a:gridCol w="35830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48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08.11.2013 збори батьків учнів випускних класів щодо участі їх дітей у пробному ЗН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копію протоколу надати до відділу осві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30.11.2013 з використанням методичних рекомендацій уроки інформатики для учнів 11-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формацію про проведену роботу надати до відділу освіти (Савчин Г.П.) д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25.1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metod_kab</cp:lastModifiedBy>
  <dcterms:modified xsi:type="dcterms:W3CDTF">2013-11-04T15:06:12Z</dcterms:modified>
  <cp:revision>76</cp:revision>
  <dc:subject/>
  <dc:title>Слайд 1</dc:title>
</cp:coreProperties>
</file>