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70BB-B5D2-4931-A7EE-74E7313E56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2153-15F4-48AC-9C32-565C647AB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71E-DFB6-41C4-BD44-AB942E28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FEC-BD7F-4BF6-9CB0-7C3D28E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25C-40EE-425D-869B-9AFD8D70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A65-8CBF-4EF4-92FA-FCF03C2F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37BB-EA9A-448A-BF31-9C9F0E4A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434A-393A-482F-A8AA-01391811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DD46-445F-42ED-A208-359B2ED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60FE-A3A4-475D-833D-D3BCAB1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48DF-BD4D-4BD7-81E6-13257DAC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E30C-B3D0-4EB3-9B21-12F0D0A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E661-D459-4BA5-ABC9-7B1EED99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CA9-9D89-4636-99DF-258F8013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566B-2375-4680-A078-23431F7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A6CC-D599-440B-8324-5ECD92A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B366-4559-42FA-8B30-97E2BB69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004E-D5BA-4D84-9AFF-25568EA0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9C86-808E-4D19-BB1D-01A2B88A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EE3-B91F-41EF-8B4E-D259957A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CA7-EA58-4D1A-8F4A-85717A25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3C1-C27A-4677-A3B2-96D84464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523-BD97-4C97-8AD0-99EABCCC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77F-ADBB-4927-9550-9E7BCA2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9CB-49FB-45C6-9FBD-1736414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529-7AC1-4700-8D03-E4D8F9F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410040" cy="4876920"/>
            <a:chOff x="0" y="0"/>
            <a:chExt cx="941004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6024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12560" y="1417680"/>
              <a:ext cx="8997480" cy="182520"/>
              <a:chOff x="412560" y="1417680"/>
              <a:chExt cx="899748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428960" y="1417680"/>
                <a:ext cx="198108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412560" y="1494000"/>
                <a:ext cx="8997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0720" y="625140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31680" y="6248520"/>
            <a:ext cx="321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116E-B55E-486A-89B9-92CC1E21E7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602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492480" cy="5943600"/>
            <a:chOff x="0" y="0"/>
            <a:chExt cx="949248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8982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9492480" cy="2438280"/>
              <a:chOff x="0" y="3505320"/>
              <a:chExt cx="949248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1073160" y="3505320"/>
                <a:ext cx="841932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124640" y="3733920"/>
                <a:ext cx="828540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107316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87600" y="533520"/>
              <a:ext cx="8749800" cy="304560"/>
              <a:chOff x="687600" y="533520"/>
              <a:chExt cx="874980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795720" y="533520"/>
                <a:ext cx="264168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87600" y="685800"/>
                <a:ext cx="8749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88560" y="6251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33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CA0-391E-4B5D-B29A-19F3F3C8C0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5"/>
          <p:cNvSpPr txBox="1"/>
          <p:nvPr/>
        </p:nvSpPr>
        <p:spPr>
          <a:xfrm>
            <a:off x="271440" y="1143000"/>
            <a:ext cx="93632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Жовтнева загальноосвітня школа 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І-ІІІ ступенів 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Picture 10" descr="школа"/>
          <p:cNvPicPr/>
          <p:nvPr/>
        </p:nvPicPr>
        <p:blipFill>
          <a:blip r:embed="rId1"/>
          <a:stretch/>
        </p:blipFill>
        <p:spPr>
          <a:xfrm>
            <a:off x="741240" y="3429000"/>
            <a:ext cx="8813880" cy="29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351000" y="620640"/>
            <a:ext cx="91389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ов'язки членів Республіки Президента:</a:t>
            </a:r>
            <a:endParaRPr b="1" i="1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Бути прикладом у навчанні та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Виконувати всі доручення Ради Презид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оводити рейди, конкурси, брати участь у підготовці різних виховних заходів у шко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8" name="Organization Chart 37"/>
          <p:cNvGrpSpPr/>
          <p:nvPr/>
        </p:nvGrpSpPr>
        <p:grpSpPr>
          <a:xfrm>
            <a:off x="304920" y="1828800"/>
            <a:ext cx="9105120" cy="4300560"/>
            <a:chOff x="304920" y="1828800"/>
            <a:chExt cx="9105120" cy="4300560"/>
          </a:xfrm>
        </p:grpSpPr>
        <p:cxnSp>
          <p:nvCxnSpPr>
            <p:cNvPr id="199" name="_s2052"/>
            <p:cNvCxnSpPr>
              <a:stCxn id="200" idx="0"/>
              <a:endCxn id="201" idx="2"/>
            </p:cNvCxnSpPr>
            <p:nvPr/>
          </p:nvCxnSpPr>
          <p:spPr>
            <a:xfrm flipV="1" rot="16200000">
              <a:off x="6020280" y="2384640"/>
              <a:ext cx="860760" cy="318744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2053"/>
            <p:cNvCxnSpPr>
              <a:stCxn id="203" idx="0"/>
              <a:endCxn id="201" idx="2"/>
            </p:cNvCxnSpPr>
            <p:nvPr/>
          </p:nvCxnSpPr>
          <p:spPr>
            <a:xfrm flipV="1">
              <a:off x="4857120" y="3548160"/>
              <a:ext cx="3240" cy="86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2054"/>
            <p:cNvCxnSpPr>
              <a:stCxn id="205" idx="0"/>
              <a:endCxn id="201" idx="2"/>
            </p:cNvCxnSpPr>
            <p:nvPr/>
          </p:nvCxnSpPr>
          <p:spPr>
            <a:xfrm flipH="1" flipV="1" rot="5400000">
              <a:off x="2833560" y="2385000"/>
              <a:ext cx="860760" cy="318744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2055"/>
            <p:cNvSpPr/>
            <p:nvPr/>
          </p:nvSpPr>
          <p:spPr>
            <a:xfrm>
              <a:off x="3491640" y="182880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2056"/>
            <p:cNvSpPr/>
            <p:nvPr/>
          </p:nvSpPr>
          <p:spPr>
            <a:xfrm>
              <a:off x="30492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 u="sng">
                  <a:solidFill>
                    <a:srgbClr val="0000ff"/>
                  </a:solidFill>
                  <a:uFillTx/>
                  <a:latin typeface="Arial"/>
                </a:rPr>
                <a:t>Група</a:t>
              </a:r>
              <a:r>
                <a:rPr b="1" i="1" lang="uk-U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2200" spc="-1" strike="noStrike">
                  <a:solidFill>
                    <a:srgbClr val="ff0000"/>
                  </a:solidFill>
                  <a:latin typeface="Arial"/>
                </a:rPr>
                <a:t>“Ерудит”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Забезпечує простір для ініціатив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творчості, самодіяльності учні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у навчально-пізнавальній діяльності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організовує конкурси ерудитів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проводить інтелектуальні ігр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2057"/>
            <p:cNvSpPr/>
            <p:nvPr/>
          </p:nvSpPr>
          <p:spPr>
            <a:xfrm>
              <a:off x="349164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Здійснює роботу, спрямован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на вироблення у учнів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свідомого ставлення до навчання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Організовує консультаційн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допомогу з предмет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Бере участь у проведенні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предметних тижнів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місячників, олімпіад, конкурс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Контролює виконання домашніх завдань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ведення щоденник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Веде боротьбу з пропусками уроків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58"/>
            <p:cNvSpPr/>
            <p:nvPr/>
          </p:nvSpPr>
          <p:spPr>
            <a:xfrm>
              <a:off x="667872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 u="sng">
                  <a:solidFill>
                    <a:srgbClr val="0000ff"/>
                  </a:solidFill>
                  <a:uFillTx/>
                  <a:latin typeface="Arial"/>
                </a:rPr>
                <a:t>Група</a:t>
              </a:r>
              <a:r>
                <a:rPr b="1" i="1" lang="uk-UA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2300" spc="-1" strike="noStrike">
                  <a:solidFill>
                    <a:srgbClr val="ff0000"/>
                  </a:solidFill>
                  <a:latin typeface="Arial"/>
                </a:rPr>
                <a:t>“Знання”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- організовує роботу груп консультантів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 предметів для ти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хто має низький рівень знань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бирає і систематизує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матеріал-інформаці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 стан успішності в кожному класі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дійснює рейди контрол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а відвідуванням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ідготовкою до урок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Вміщує інформаці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в газеті “Голос чергового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WordArt 46"/>
          <p:cNvSpPr txBox="1"/>
          <p:nvPr/>
        </p:nvSpPr>
        <p:spPr>
          <a:xfrm>
            <a:off x="3657600" y="1916280"/>
            <a:ext cx="2619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вчальний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8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09" name="_s3076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077"/>
            <p:cNvCxnSpPr>
              <a:stCxn id="213" idx="0"/>
              <a:endCxn id="211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078"/>
            <p:cNvCxnSpPr>
              <a:stCxn id="215" idx="0"/>
              <a:endCxn id="211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3079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080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0000ff"/>
                  </a:solidFill>
                  <a:latin typeface="Arial"/>
                </a:rPr>
                <a:t>Пост ввічливості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0000ff"/>
                  </a:solidFill>
                  <a:latin typeface="Arial"/>
                </a:rPr>
                <a:t>чистоти, культур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еревіряє санітарний стан у класах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Щоденно звітує черговому учител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 результати чергування в школі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Стежить за дотриманням учня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Єдиних вимог для учнів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081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дає допомогу педагогічному колектив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школи у вихованні дисципліни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дотримання школяра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Правил для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Перевіряє чергуванн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класних колективів по школі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 вечорах, оцінює якість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виконання цієї робот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Виходить з пропозиція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 батьківський комітет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раду школи з питань поведінки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Здійснює рейди-перевірки “Перерва”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Урок”, “Шкільна форма”, “Підручник”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082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Штаб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“</a:t>
              </a: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Живи, книго!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- виховує культуру читання та бережлив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ставлення до книги, підручника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водить бесіди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рейди-перевірки збереження підручникі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у класах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Організовує роботу книжкових лікарень</a:t>
              </a: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WordArt 15"/>
          <p:cNvSpPr txBox="1"/>
          <p:nvPr/>
        </p:nvSpPr>
        <p:spPr>
          <a:xfrm>
            <a:off x="3932280" y="1714680"/>
            <a:ext cx="259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сципліни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 порядку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Organization Chart 4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18" name="_s4100"/>
            <p:cNvCxnSpPr>
              <a:stCxn id="219" idx="0"/>
              <a:endCxn id="220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4101"/>
            <p:cNvCxnSpPr>
              <a:stCxn id="222" idx="0"/>
              <a:endCxn id="220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4102"/>
            <p:cNvCxnSpPr>
              <a:stCxn id="224" idx="0"/>
              <a:endCxn id="220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_s4103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4104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Група</a:t>
              </a:r>
              <a:r>
                <a:rPr b="1" i="1" lang="uk-UA" sz="1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cc66"/>
                  </a:solidFill>
                  <a:latin typeface="Times New Roman"/>
                </a:rPr>
                <a:t>“</a:t>
              </a:r>
              <a:r>
                <a:rPr b="1" i="1" lang="uk-UA" sz="1000" spc="-1" strike="noStrike">
                  <a:solidFill>
                    <a:srgbClr val="00cc66"/>
                  </a:solidFill>
                  <a:latin typeface="Times New Roman"/>
                </a:rPr>
                <a:t>Зелений патруль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формує екологічну культуру людин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її гармонійні стосунки з природою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Озеленює класні кімнати та коридор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Проводить акції “Зелена хвиля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Я-господар своєї школи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Квіти біля школи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оформляє альбоми, виставк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Проводить конкурс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на кращий зелений куточок клас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4105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Здійснює профорієнтаційну роботу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иховує інтерес та поваг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о майбутньої професії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хороняє довкілля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бає про збереження шкільного майна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уває проведення трудових операцій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есантів, акцій та інш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контроль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за збереженням електроенергії, води, хліба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4106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 u="sng">
                  <a:solidFill>
                    <a:srgbClr val="ff3399"/>
                  </a:solidFill>
                  <a:uFillTx/>
                  <a:latin typeface="Arial"/>
                </a:rPr>
                <a:t>Група</a:t>
              </a:r>
              <a:r>
                <a:rPr b="1" i="1" lang="uk-UA" sz="17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9900cc"/>
                  </a:solidFill>
                  <a:latin typeface="Arial"/>
                </a:rPr>
                <a:t>“</a:t>
              </a:r>
              <a:r>
                <a:rPr b="1" i="1" lang="uk-UA" sz="1700" spc="-1" strike="noStrike">
                  <a:solidFill>
                    <a:srgbClr val="9900cc"/>
                  </a:solidFill>
                  <a:latin typeface="Arial"/>
                </a:rPr>
                <a:t>Юні майстри”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- формує творчу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працелюбну особистість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дбайливого господаря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Бере участь у поточном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ремонті школи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Організовує ремонт меблів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утеплення вікон на  зим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WordArt 15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16"/>
          <p:cNvSpPr txBox="1"/>
          <p:nvPr/>
        </p:nvSpPr>
        <p:spPr>
          <a:xfrm>
            <a:off x="3976560" y="1785960"/>
            <a:ext cx="25909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овий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8" name="Organization Chart 6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29" name="_s5124"/>
            <p:cNvCxnSpPr>
              <a:stCxn id="230" idx="0"/>
              <a:endCxn id="231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5125"/>
            <p:cNvCxnSpPr>
              <a:stCxn id="233" idx="0"/>
              <a:endCxn id="231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5126"/>
            <p:cNvCxnSpPr>
              <a:stCxn id="235" idx="0"/>
              <a:endCxn id="231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1" name="_s5127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5128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 u="sng">
                  <a:solidFill>
                    <a:srgbClr val="9900cc"/>
                  </a:solidFill>
                  <a:uFillTx/>
                  <a:latin typeface="Arial"/>
                </a:rPr>
                <a:t>Груп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i="1" lang="uk-UA" sz="1400" spc="-1" strike="noStrike">
                  <a:solidFill>
                    <a:srgbClr val="0000ff"/>
                  </a:solidFill>
                  <a:latin typeface="Arial"/>
                </a:rPr>
                <a:t>Волонтер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Виявляє милосерд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до хворих і людей похилого віку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допомагаючи їм під 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осінньо-польових робіт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Організовують і провод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тижні  “Милосердя”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акції “Пам’ять”, “Турбота” та ін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5129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Надає допомогу ветеранам В Ввійни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етеранам праці, одиноким людям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робот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олонтерських загон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доброчинні акції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пошукову робот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5130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16" descr=""/>
            <p:cNvPicPr/>
            <p:nvPr/>
          </p:nvPicPr>
          <p:blipFill>
            <a:blip r:embed="rId6"/>
            <a:stretch/>
          </p:blipFill>
          <p:spPr>
            <a:xfrm>
              <a:off x="7185240" y="4506120"/>
              <a:ext cx="1944360" cy="14536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237" name="WordArt 18"/>
          <p:cNvSpPr txBox="1"/>
          <p:nvPr/>
        </p:nvSpPr>
        <p:spPr>
          <a:xfrm>
            <a:off x="4106880" y="1743120"/>
            <a:ext cx="2449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фської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помоги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39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40" name="_s6148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6149"/>
            <p:cNvCxnSpPr>
              <a:stCxn id="244" idx="0"/>
              <a:endCxn id="242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6150"/>
            <p:cNvCxnSpPr>
              <a:stCxn id="246" idx="0"/>
              <a:endCxn id="242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2" name="_s6151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6152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 u="sng">
                  <a:solidFill>
                    <a:srgbClr val="0000ff"/>
                  </a:solidFill>
                  <a:uFillTx/>
                  <a:latin typeface="Arial"/>
                </a:rPr>
                <a:t>Клуб </a:t>
              </a:r>
              <a:r>
                <a:rPr b="1" i="1" lang="uk-UA" sz="1600" spc="-1" strike="noStrike">
                  <a:solidFill>
                    <a:srgbClr val="ff0000"/>
                  </a:solidFill>
                  <a:latin typeface="Arial"/>
                </a:rPr>
                <a:t>“Дозвілля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Залучає якомога більше дітей до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озаурочної діяльності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організації змістовного дозвілл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та відпочинку, до художньої самодіяльності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6153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рганізовує естетичн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ихованння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рганізовує змістовний  відпочи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 позаурочний час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Розвиває творчі здібності школярів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алучаючи їх до роботи в гуртках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сеціях, учнівських обєднаннях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Творчих групах за інтересам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дійснює пошукову роботу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аходи військво-патріотичного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спрямування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формляючи результат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пошукової робот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 альбомах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6154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ідбирає матеріали д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исання сценарії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ізноманітних свят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чорів, відпочинку, зустріче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звиває творч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дібності школяр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WordArt 15"/>
          <p:cNvSpPr txBox="1"/>
          <p:nvPr/>
        </p:nvSpPr>
        <p:spPr>
          <a:xfrm>
            <a:off x="3902040" y="1727280"/>
            <a:ext cx="2736720" cy="17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льтури та 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звілля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16"/>
          <p:cNvSpPr txBox="1"/>
          <p:nvPr/>
        </p:nvSpPr>
        <p:spPr>
          <a:xfrm>
            <a:off x="7329600" y="4581360"/>
            <a:ext cx="1609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упа сценаристів </a:t>
            </a:r>
            <a:endParaRPr b="0" i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0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51" name="_s7172"/>
            <p:cNvCxnSpPr>
              <a:stCxn id="252" idx="0"/>
              <a:endCxn id="253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7173"/>
            <p:cNvCxnSpPr>
              <a:stCxn id="255" idx="0"/>
              <a:endCxn id="253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7174"/>
            <p:cNvCxnSpPr>
              <a:stCxn id="257" idx="0"/>
              <a:endCxn id="253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3" name="_s7175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7176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«Санпост»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контролює санітарний стан у школі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класах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дотримання г</a:t>
              </a: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гієнічного режиму  в їдальні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особисту гігієну учнів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здійснює санітарно – освітню роботу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серед учнів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( проводить бесіди, дискусії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анкетування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тематичні вечори)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Глупа здоров</a:t>
              </a:r>
              <a:r>
                <a:rPr b="1" i="1" lang="en-US" sz="900" spc="-1" strike="noStrike">
                  <a:solidFill>
                    <a:srgbClr val="0000ff"/>
                  </a:solidFill>
                  <a:latin typeface="Arial"/>
                </a:rPr>
                <a:t>’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я</a:t>
              </a: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(для дітей та їхніх батьків)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залучає учнів і батьків до спортивно – масової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та фізкультурно – оздоровчої роботи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у вільний від навчання й роботи час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7177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безпечує повноцінний фізичний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розвиток дітей, дбає про охорону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та зміцнення їхнього здоров</a:t>
              </a:r>
              <a:r>
                <a:rPr b="1" i="1" lang="en-US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пропагує здоровий спосіб життя (антиалкогольна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антитютюнова, антинаркотична програми)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лучає учнів та батьків до спортивно – масової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та фізкультурно оздоровчої роботи;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організує роботу спортивних секцій, груп здоров</a:t>
              </a:r>
              <a:r>
                <a:rPr b="1" i="1" lang="en-US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‘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проводить спортивні ігри на перервах та після уроків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організує загальношкільні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спортивно – оздоровчі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ходи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900cc"/>
                </a:buClr>
                <a:buFont typeface="Calligraph421 B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7178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Група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“Юні інспектори руху”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ізовує заняття з профілактик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рожнього травматизму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лучає до участі в акції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ти на дорозі”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місячник дорожнього руху;•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івпрацює з учнями молодших класів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з ними ділові ігри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 u="sng">
                  <a:solidFill>
                    <a:srgbClr val="9900cc"/>
                  </a:solidFill>
                  <a:uFillTx/>
                  <a:latin typeface="Times New Roman"/>
                  <a:ea typeface="Times New Roman"/>
                </a:rPr>
                <a:t>Група </a:t>
              </a:r>
              <a:r>
                <a:rPr b="1" i="1" lang="uk-UA" sz="1000" spc="-1" strike="noStrike">
                  <a:solidFill>
                    <a:srgbClr val="9900cc"/>
                  </a:solidFill>
                  <a:latin typeface="Times New Roman"/>
                  <a:ea typeface="Times New Roman"/>
                </a:rPr>
                <a:t>“Юний пожежник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ивно сприяє вихованню в дітей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ережного поводження з вогнем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ню місячників пожежної безпек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ділові ігри з навчання правил пожежної безпек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є практичну допомогу дорослим у збереженні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іальних цінностей, життя і здоров</a:t>
              </a:r>
              <a:r>
                <a:rPr b="1" i="1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 дітей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є учнів основ, вмінь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ичок запобігання й гасіння пожеж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ння першої медичної допомоги під час пожежі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WordArt 15"/>
          <p:cNvSpPr txBox="1"/>
          <p:nvPr/>
        </p:nvSpPr>
        <p:spPr>
          <a:xfrm>
            <a:off x="3919680" y="1801800"/>
            <a:ext cx="2519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ий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Organization Chart 4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60" name="_s8196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8197"/>
            <p:cNvCxnSpPr>
              <a:stCxn id="264" idx="0"/>
              <a:endCxn id="262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5" name="_s8198"/>
            <p:cNvCxnSpPr>
              <a:stCxn id="266" idx="0"/>
              <a:endCxn id="262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8199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8200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ff"/>
                  </a:solidFill>
                  <a:latin typeface="Arial"/>
                </a:rPr>
                <a:t>Група шкільних мас медіа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формує учнів, батьків,учителів про всі події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кі відбуваються в школі, в класі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ез стенди “Вісті з класів”, ”Добрий день”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с школи”, газету “Голос чергового”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бирає й систематизує матеріали звітів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нів чергового клас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загальношкільні лінійки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ідкриті зустрічі,класні збори з метою запобіганн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гативним проявам поведінки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формлює змінний стен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“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іркограма активності класів”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8201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Забезпечує гласність у діяльності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органів учнівського самоврядуванн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Розвиває творчу співпрацю вчителів та учнів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створює добрі взаємини школи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дітей і батьків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налагоджує тісні стосунки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з шефськими закладами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установами та організаціям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озвиває у дітей вміння збирати інформацію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бговорювати теми рубрик і матеріалів шкільних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газет та радіо.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Сприяє підвищенню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інтересу дітей до життя школ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Виховує свідоме й відповідальне ставлення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до своїх обов</a:t>
              </a:r>
              <a:r>
                <a:rPr b="1" i="1" lang="en-US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язків та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прав, навики організаторської роботи в класних колективах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8202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Довідкове бю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(банк ідей)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бирає та обробляє дані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є інформаці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щодо подальшої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яльності органів учнівськ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врядуванн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WordArt 15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16"/>
          <p:cNvSpPr txBox="1"/>
          <p:nvPr/>
        </p:nvSpPr>
        <p:spPr>
          <a:xfrm>
            <a:off x="4025880" y="1836720"/>
            <a:ext cx="230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інформації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2792520" y="4437000"/>
            <a:ext cx="2592360" cy="1901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03480" y="414360"/>
            <a:ext cx="7937280" cy="993600"/>
          </a:xfrm>
          <a:prstGeom prst="rect">
            <a:avLst/>
          </a:prstGeom>
          <a:solidFill>
            <a:srgbClr val="ffffe1"/>
          </a:solidFill>
          <a:ln w="38160">
            <a:solidFill>
              <a:srgbClr val="9900cc"/>
            </a:solidFill>
            <a:miter/>
          </a:ln>
        </p:spPr>
        <p:txBody>
          <a:bodyPr anchor="ctr">
            <a:no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Республіка “Крок” діє згідно з Конституцією України, Декларацією прав дитини , Конвенцією про права дитини. </a:t>
            </a:r>
            <a:br>
              <a:rPr sz="1800"/>
            </a:b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                                        Має свої символи та атрибути. </a:t>
            </a:r>
            <a:br>
              <a:rPr sz="1800"/>
            </a:b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WordArt 9"/>
          <p:cNvSpPr txBox="1"/>
          <p:nvPr/>
        </p:nvSpPr>
        <p:spPr>
          <a:xfrm>
            <a:off x="3657600" y="2421000"/>
            <a:ext cx="1554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ституція 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кільної Республіки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КРОК"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368520" y="1628640"/>
          <a:ext cx="2087640" cy="26640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66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3333ff"/>
                      </a:solidFill>
                    </a:lnL>
                    <a:lnR w="38160">
                      <a:solidFill>
                        <a:srgbClr val="3333ff"/>
                      </a:solidFill>
                    </a:lnR>
                    <a:lnT w="38160">
                      <a:solidFill>
                        <a:srgbClr val="3333ff"/>
                      </a:solidFill>
                    </a:lnT>
                    <a:lnB w="38160">
                      <a:solidFill>
                        <a:srgbClr val="33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WordArt 25"/>
          <p:cNvSpPr txBox="1"/>
          <p:nvPr/>
        </p:nvSpPr>
        <p:spPr>
          <a:xfrm>
            <a:off x="3513240" y="1700280"/>
            <a:ext cx="1512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овтнева ЗОШ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74" name="Picture 46" descr=""/>
          <p:cNvPicPr/>
          <p:nvPr/>
        </p:nvPicPr>
        <p:blipFill>
          <a:blip r:embed="rId3"/>
          <a:stretch/>
        </p:blipFill>
        <p:spPr>
          <a:xfrm>
            <a:off x="272880" y="2276640"/>
            <a:ext cx="2362320" cy="316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75" name="Picture 47" descr=""/>
          <p:cNvPicPr/>
          <p:nvPr/>
        </p:nvPicPr>
        <p:blipFill>
          <a:blip r:embed="rId4"/>
          <a:stretch/>
        </p:blipFill>
        <p:spPr>
          <a:xfrm>
            <a:off x="7329600" y="1700280"/>
            <a:ext cx="223992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5816520" y="3357720"/>
            <a:ext cx="2178000" cy="3024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277" name="Freeform 93"/>
          <p:cNvSpPr/>
          <p:nvPr/>
        </p:nvSpPr>
        <p:spPr>
          <a:xfrm>
            <a:off x="422280" y="2658960"/>
            <a:ext cx="1347840" cy="2259000"/>
          </a:xfrm>
          <a:prstGeom prst="pie">
            <a:avLst/>
          </a:prstGeom>
          <a:solidFill>
            <a:srgbClr val="f6f7c9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75"/>
          <p:cNvGrpSpPr/>
          <p:nvPr/>
        </p:nvGrpSpPr>
        <p:grpSpPr>
          <a:xfrm>
            <a:off x="398520" y="4357800"/>
            <a:ext cx="1720800" cy="840960"/>
            <a:chOff x="398520" y="4357800"/>
            <a:chExt cx="1720800" cy="840960"/>
          </a:xfrm>
        </p:grpSpPr>
        <p:sp>
          <p:nvSpPr>
            <p:cNvPr id="279" name="Freeform 65"/>
            <p:cNvSpPr/>
            <p:nvPr/>
          </p:nvSpPr>
          <p:spPr>
            <a:xfrm>
              <a:off x="398520" y="4357800"/>
              <a:ext cx="1720800" cy="8409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68"/>
            <p:cNvGrpSpPr/>
            <p:nvPr/>
          </p:nvGrpSpPr>
          <p:grpSpPr>
            <a:xfrm>
              <a:off x="1687680" y="4786200"/>
              <a:ext cx="230040" cy="201960"/>
              <a:chOff x="1687680" y="4786200"/>
              <a:chExt cx="230040" cy="201960"/>
            </a:xfrm>
          </p:grpSpPr>
          <p:sp>
            <p:nvSpPr>
              <p:cNvPr id="281" name="Freeform 66"/>
              <p:cNvSpPr/>
              <p:nvPr/>
            </p:nvSpPr>
            <p:spPr>
              <a:xfrm>
                <a:off x="1687680" y="4788000"/>
                <a:ext cx="130320" cy="20016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7"/>
              <p:cNvSpPr/>
              <p:nvPr/>
            </p:nvSpPr>
            <p:spPr>
              <a:xfrm>
                <a:off x="1792440" y="4786200"/>
                <a:ext cx="125280" cy="20196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69"/>
            <p:cNvGrpSpPr/>
            <p:nvPr/>
          </p:nvGrpSpPr>
          <p:grpSpPr>
            <a:xfrm>
              <a:off x="1864080" y="4647600"/>
              <a:ext cx="166320" cy="155880"/>
              <a:chOff x="1864080" y="4647600"/>
              <a:chExt cx="166320" cy="155880"/>
            </a:xfrm>
          </p:grpSpPr>
          <p:sp>
            <p:nvSpPr>
              <p:cNvPr id="284" name="Freeform 70"/>
              <p:cNvSpPr/>
              <p:nvPr/>
            </p:nvSpPr>
            <p:spPr>
              <a:xfrm rot="1491600">
                <a:off x="1883520" y="4658040"/>
                <a:ext cx="74520" cy="11052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1"/>
              <p:cNvSpPr/>
              <p:nvPr/>
            </p:nvSpPr>
            <p:spPr>
              <a:xfrm rot="1491600">
                <a:off x="1938240" y="4681800"/>
                <a:ext cx="71640" cy="11160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72"/>
            <p:cNvGrpSpPr/>
            <p:nvPr/>
          </p:nvGrpSpPr>
          <p:grpSpPr>
            <a:xfrm>
              <a:off x="1955520" y="4576680"/>
              <a:ext cx="101880" cy="107280"/>
              <a:chOff x="1955520" y="4576680"/>
              <a:chExt cx="101880" cy="107280"/>
            </a:xfrm>
          </p:grpSpPr>
          <p:sp>
            <p:nvSpPr>
              <p:cNvPr id="287" name="Freeform 73"/>
              <p:cNvSpPr/>
              <p:nvPr/>
            </p:nvSpPr>
            <p:spPr>
              <a:xfrm rot="1491600">
                <a:off x="1971360" y="4581360"/>
                <a:ext cx="41400" cy="8460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4"/>
              <p:cNvSpPr/>
              <p:nvPr/>
            </p:nvSpPr>
            <p:spPr>
              <a:xfrm rot="1491600">
                <a:off x="2001600" y="4594320"/>
                <a:ext cx="39600" cy="8532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Freeform 80"/>
          <p:cNvSpPr/>
          <p:nvPr/>
        </p:nvSpPr>
        <p:spPr>
          <a:xfrm>
            <a:off x="1496880" y="3192480"/>
            <a:ext cx="822600" cy="1670040"/>
          </a:xfrm>
          <a:prstGeom prst="pie">
            <a:avLst/>
          </a:prstGeom>
          <a:solidFill>
            <a:srgbClr val="eff96d">
              <a:alpha val="2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0"/>
          <p:cNvGrpSpPr/>
          <p:nvPr/>
        </p:nvGrpSpPr>
        <p:grpSpPr>
          <a:xfrm>
            <a:off x="385920" y="2979720"/>
            <a:ext cx="438120" cy="1928520"/>
            <a:chOff x="385920" y="2979720"/>
            <a:chExt cx="438120" cy="1928520"/>
          </a:xfrm>
        </p:grpSpPr>
        <p:sp>
          <p:nvSpPr>
            <p:cNvPr id="291" name="Freeform 81"/>
            <p:cNvSpPr/>
            <p:nvPr/>
          </p:nvSpPr>
          <p:spPr>
            <a:xfrm>
              <a:off x="385920" y="2979720"/>
              <a:ext cx="438120" cy="1928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89"/>
            <p:cNvGrpSpPr/>
            <p:nvPr/>
          </p:nvGrpSpPr>
          <p:grpSpPr>
            <a:xfrm>
              <a:off x="465120" y="4178880"/>
              <a:ext cx="276120" cy="686160"/>
              <a:chOff x="465120" y="4178880"/>
              <a:chExt cx="276120" cy="686160"/>
            </a:xfrm>
          </p:grpSpPr>
          <p:sp>
            <p:nvSpPr>
              <p:cNvPr id="293" name="Freeform 82"/>
              <p:cNvSpPr/>
              <p:nvPr/>
            </p:nvSpPr>
            <p:spPr>
              <a:xfrm>
                <a:off x="465120" y="4178880"/>
                <a:ext cx="276120" cy="4989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8"/>
              <p:cNvSpPr/>
              <p:nvPr/>
            </p:nvSpPr>
            <p:spPr>
              <a:xfrm>
                <a:off x="468360" y="4743720"/>
                <a:ext cx="250560" cy="121320"/>
              </a:xfrm>
              <a:prstGeom prst="pi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5"/>
              <p:cNvSpPr/>
              <p:nvPr/>
            </p:nvSpPr>
            <p:spPr>
              <a:xfrm>
                <a:off x="585720" y="4648320"/>
                <a:ext cx="38160" cy="174240"/>
              </a:xfrm>
              <a:prstGeom prst="pi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Oval 95"/>
          <p:cNvSpPr/>
          <p:nvPr/>
        </p:nvSpPr>
        <p:spPr>
          <a:xfrm>
            <a:off x="1092240" y="3191040"/>
            <a:ext cx="436680" cy="457200"/>
          </a:xfrm>
          <a:prstGeom prst="ellipse">
            <a:avLst/>
          </a:prstGeom>
          <a:solidFill>
            <a:srgbClr val="f6f7c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96"/>
          <p:cNvSpPr/>
          <p:nvPr/>
        </p:nvSpPr>
        <p:spPr>
          <a:xfrm>
            <a:off x="824040" y="3624120"/>
            <a:ext cx="428400" cy="424080"/>
          </a:xfrm>
          <a:prstGeom prst="ellipse">
            <a:avLst/>
          </a:prstGeom>
          <a:solidFill>
            <a:srgbClr val="f6f7c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98"/>
          <p:cNvSpPr/>
          <p:nvPr/>
        </p:nvSpPr>
        <p:spPr>
          <a:xfrm>
            <a:off x="814320" y="4024440"/>
            <a:ext cx="476280" cy="347400"/>
          </a:xfrm>
          <a:prstGeom prst="pie">
            <a:avLst/>
          </a:prstGeom>
          <a:solidFill>
            <a:srgbClr val="f6f7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99"/>
          <p:cNvSpPr/>
          <p:nvPr/>
        </p:nvSpPr>
        <p:spPr>
          <a:xfrm>
            <a:off x="1071720" y="3648240"/>
            <a:ext cx="423720" cy="561960"/>
          </a:xfrm>
          <a:prstGeom prst="pie">
            <a:avLst/>
          </a:prstGeom>
          <a:solidFill>
            <a:srgbClr val="f6f7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00"/>
          <p:cNvSpPr/>
          <p:nvPr/>
        </p:nvSpPr>
        <p:spPr>
          <a:xfrm>
            <a:off x="866880" y="3929040"/>
            <a:ext cx="57600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01"/>
          <p:cNvSpPr/>
          <p:nvPr/>
        </p:nvSpPr>
        <p:spPr>
          <a:xfrm>
            <a:off x="1138320" y="3600360"/>
            <a:ext cx="14040" cy="1440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02"/>
          <p:cNvSpPr/>
          <p:nvPr/>
        </p:nvSpPr>
        <p:spPr>
          <a:xfrm>
            <a:off x="1419120" y="3600360"/>
            <a:ext cx="209520" cy="5097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06"/>
          <p:cNvSpPr/>
          <p:nvPr/>
        </p:nvSpPr>
        <p:spPr>
          <a:xfrm>
            <a:off x="419040" y="2308320"/>
            <a:ext cx="1917720" cy="147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10"/>
          <p:cNvSpPr/>
          <p:nvPr/>
        </p:nvSpPr>
        <p:spPr>
          <a:xfrm>
            <a:off x="419040" y="2657520"/>
            <a:ext cx="1832040" cy="1006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14"/>
          <p:cNvSpPr/>
          <p:nvPr/>
        </p:nvSpPr>
        <p:spPr>
          <a:xfrm>
            <a:off x="460440" y="2482920"/>
            <a:ext cx="879480" cy="6951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16"/>
          <p:cNvSpPr/>
          <p:nvPr/>
        </p:nvSpPr>
        <p:spPr>
          <a:xfrm flipH="1" flipV="1">
            <a:off x="1171440" y="2508120"/>
            <a:ext cx="1620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09"/>
          <p:cNvSpPr/>
          <p:nvPr/>
        </p:nvSpPr>
        <p:spPr>
          <a:xfrm>
            <a:off x="434880" y="2886120"/>
            <a:ext cx="374760" cy="571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12"/>
          <p:cNvSpPr/>
          <p:nvPr/>
        </p:nvSpPr>
        <p:spPr>
          <a:xfrm>
            <a:off x="425520" y="2994120"/>
            <a:ext cx="384120" cy="4730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13"/>
          <p:cNvSpPr/>
          <p:nvPr/>
        </p:nvSpPr>
        <p:spPr>
          <a:xfrm>
            <a:off x="450720" y="2879640"/>
            <a:ext cx="352440" cy="3999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15"/>
          <p:cNvSpPr/>
          <p:nvPr/>
        </p:nvSpPr>
        <p:spPr>
          <a:xfrm>
            <a:off x="1739880" y="3346560"/>
            <a:ext cx="177840" cy="3236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17"/>
          <p:cNvSpPr/>
          <p:nvPr/>
        </p:nvSpPr>
        <p:spPr>
          <a:xfrm>
            <a:off x="1174680" y="2320920"/>
            <a:ext cx="1165320" cy="1273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18"/>
          <p:cNvSpPr/>
          <p:nvPr/>
        </p:nvSpPr>
        <p:spPr>
          <a:xfrm>
            <a:off x="1743120" y="3016080"/>
            <a:ext cx="584280" cy="790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19"/>
          <p:cNvSpPr/>
          <p:nvPr/>
        </p:nvSpPr>
        <p:spPr>
          <a:xfrm>
            <a:off x="2009880" y="3083040"/>
            <a:ext cx="323640" cy="514080"/>
          </a:xfrm>
          <a:prstGeom prst="pie">
            <a:avLst/>
          </a:prstGeom>
          <a:solidFill>
            <a:srgbClr val="eff96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20"/>
          <p:cNvSpPr/>
          <p:nvPr/>
        </p:nvSpPr>
        <p:spPr>
          <a:xfrm>
            <a:off x="1746360" y="3603600"/>
            <a:ext cx="199800" cy="10800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21"/>
          <p:cNvSpPr/>
          <p:nvPr/>
        </p:nvSpPr>
        <p:spPr>
          <a:xfrm>
            <a:off x="1749600" y="3689280"/>
            <a:ext cx="174600" cy="921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Arial"/>
              </a:rPr>
              <a:t>Добрики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– жителі </a:t>
            </a:r>
            <a:r>
              <a:rPr b="1" i="1" lang="uk-UA" sz="1600" spc="-1" strike="noStrike">
                <a:solidFill>
                  <a:srgbClr val="9900cc"/>
                </a:solidFill>
                <a:latin typeface="Arial"/>
              </a:rPr>
              <a:t>“Країни Добриків”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(молодші школярі віком від 6-10 років), які об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єднуються в групи – супутники первинної дитячо-юнацької організації “Добриків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4"/>
          <p:cNvSpPr txBox="1"/>
          <p:nvPr/>
        </p:nvSpPr>
        <p:spPr>
          <a:xfrm>
            <a:off x="992160" y="260280"/>
            <a:ext cx="81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да "Добриків"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6176880" y="2421000"/>
            <a:ext cx="3117960" cy="3576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20" name="Picture 6" descr=""/>
          <p:cNvPicPr/>
          <p:nvPr/>
        </p:nvPicPr>
        <p:blipFill>
          <a:blip r:embed="rId2"/>
          <a:stretch/>
        </p:blipFill>
        <p:spPr>
          <a:xfrm>
            <a:off x="704880" y="2492280"/>
            <a:ext cx="4610160" cy="35085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51000" y="3428640"/>
            <a:ext cx="93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99"/>
                </a:solidFill>
                <a:latin typeface="Monotype Corsiva"/>
              </a:rPr>
              <a:t>Наше завда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ff"/>
                </a:solidFill>
                <a:latin typeface="Kunstler Script"/>
              </a:rPr>
              <a:t>зробити  її – школою зразкового порядку, а класи  - затишними, чистими і красив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Kunstler Script"/>
              </a:rPr>
              <a:t>Кожний клас повинен бути добре обладнаним</a:t>
            </a:r>
            <a:r>
              <a:rPr b="1" i="1" lang="uk-UA" sz="2000" spc="-1" strike="noStrike">
                <a:solidFill>
                  <a:srgbClr val="000000"/>
                </a:solidFill>
                <a:latin typeface="Kunstler Scrip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cc66"/>
                </a:solidFill>
                <a:latin typeface="Kunstler Script"/>
              </a:rPr>
              <a:t>Меблі класу – в відмінному ста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Kunstler Script"/>
              </a:rPr>
              <a:t>Класний куточок – відображати життя кл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00cc"/>
                </a:solidFill>
                <a:latin typeface="Kunstler Script"/>
              </a:rPr>
              <a:t>Санітарний стан класу – щоденно відмін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Kunstler Script"/>
              </a:rPr>
              <a:t>Зовнішній вигляд учнів – скромний. Акурат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214280" y="281160"/>
            <a:ext cx="79362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кола - наш рідний дім!</a:t>
            </a:r>
            <a:endParaRPr b="0" i="1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 flipV="1">
            <a:off x="8385120" y="4301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76520" y="1413000"/>
            <a:ext cx="686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Times New Roman"/>
              </a:rPr>
              <a:t>Вона  дає нам знання, вчить дум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Times New Roman"/>
              </a:rPr>
              <a:t>і жити, в ній ми не гості, а господа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5"/>
          <p:cNvSpPr txBox="1"/>
          <p:nvPr/>
        </p:nvSpPr>
        <p:spPr>
          <a:xfrm>
            <a:off x="849240" y="549360"/>
            <a:ext cx="856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грама діяльності "Добриків"</a:t>
            </a:r>
            <a:endParaRPr b="0" i="1" lang="en-US" sz="32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4" name="WordArt 6"/>
          <p:cNvSpPr txBox="1"/>
          <p:nvPr/>
        </p:nvSpPr>
        <p:spPr>
          <a:xfrm>
            <a:off x="992160" y="1628640"/>
            <a:ext cx="122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5" name="WordArt 7"/>
          <p:cNvSpPr txBox="1"/>
          <p:nvPr/>
        </p:nvSpPr>
        <p:spPr>
          <a:xfrm>
            <a:off x="2936880" y="1484280"/>
            <a:ext cx="53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Моя країна - Україна, а рідний 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й - маленька Батьківщина"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WordArt 8"/>
          <p:cNvSpPr txBox="1"/>
          <p:nvPr/>
        </p:nvSpPr>
        <p:spPr>
          <a:xfrm>
            <a:off x="920880" y="270828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7" name="WordArt 9"/>
          <p:cNvSpPr txBox="1"/>
          <p:nvPr/>
        </p:nvSpPr>
        <p:spPr>
          <a:xfrm>
            <a:off x="992160" y="407664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8" name="WordArt 10"/>
          <p:cNvSpPr txBox="1"/>
          <p:nvPr/>
        </p:nvSpPr>
        <p:spPr>
          <a:xfrm>
            <a:off x="1136520" y="5373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1"/>
          <p:cNvSpPr txBox="1"/>
          <p:nvPr/>
        </p:nvSpPr>
        <p:spPr>
          <a:xfrm>
            <a:off x="2649600" y="285264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Дерево мого роду"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WordArt 12"/>
          <p:cNvSpPr txBox="1"/>
          <p:nvPr/>
        </p:nvSpPr>
        <p:spPr>
          <a:xfrm>
            <a:off x="2720880" y="3933720"/>
            <a:ext cx="598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сі діти на планеті - друзі"</a:t>
            </a:r>
            <a:endParaRPr b="0" i="1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3"/>
          <p:cNvSpPr txBox="1"/>
          <p:nvPr/>
        </p:nvSpPr>
        <p:spPr>
          <a:xfrm>
            <a:off x="2649600" y="522936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Збережемо рідну землю"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992160" y="260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Наші агітбригади 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513240" y="1700280"/>
            <a:ext cx="3065400" cy="20224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6537240" y="3357720"/>
            <a:ext cx="3095640" cy="21301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344520" y="2205000"/>
            <a:ext cx="3154320" cy="2279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3800520" y="4005360"/>
            <a:ext cx="2057400" cy="23763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WordArt 4"/>
          <p:cNvSpPr txBox="1"/>
          <p:nvPr/>
        </p:nvSpPr>
        <p:spPr>
          <a:xfrm>
            <a:off x="992160" y="260280"/>
            <a:ext cx="820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Шкільні заходи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44520" y="1557360"/>
            <a:ext cx="2735280" cy="201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3584520" y="1557360"/>
            <a:ext cx="2737080" cy="2009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2" name="Picture 8" descr=""/>
          <p:cNvPicPr/>
          <p:nvPr/>
        </p:nvPicPr>
        <p:blipFill>
          <a:blip r:embed="rId3"/>
          <a:stretch/>
        </p:blipFill>
        <p:spPr>
          <a:xfrm>
            <a:off x="5384880" y="4437000"/>
            <a:ext cx="2881080" cy="2063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3" name="Picture 9" descr=""/>
          <p:cNvPicPr/>
          <p:nvPr/>
        </p:nvPicPr>
        <p:blipFill>
          <a:blip r:embed="rId4"/>
          <a:stretch/>
        </p:blipFill>
        <p:spPr>
          <a:xfrm>
            <a:off x="1930320" y="3933720"/>
            <a:ext cx="2951280" cy="2162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4" name="Picture 10" descr="IMG_1021"/>
          <p:cNvPicPr/>
          <p:nvPr/>
        </p:nvPicPr>
        <p:blipFill>
          <a:blip r:embed="rId5"/>
          <a:stretch/>
        </p:blipFill>
        <p:spPr>
          <a:xfrm>
            <a:off x="6681960" y="1484280"/>
            <a:ext cx="2447640" cy="2013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345" name="AutoShape 11"/>
          <p:cNvSpPr/>
          <p:nvPr/>
        </p:nvSpPr>
        <p:spPr>
          <a:xfrm>
            <a:off x="6824520" y="3645000"/>
            <a:ext cx="2160720" cy="57600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Акці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Живи, книго</a:t>
            </a:r>
            <a:r>
              <a:rPr b="1" i="1" lang="uk-UA" sz="1400" spc="-1" strike="noStrike">
                <a:solidFill>
                  <a:srgbClr val="0000ff"/>
                </a:solidFill>
                <a:latin typeface="Arial"/>
              </a:rPr>
              <a:t>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щоб життя  дітей в школі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і поза нею було яскравим, насиченим гро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гумором, романтико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щоб нас оточували квіти, твори мистецтва, му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4"/>
          <p:cNvSpPr txBox="1"/>
          <p:nvPr/>
        </p:nvSpPr>
        <p:spPr>
          <a:xfrm>
            <a:off x="704880" y="620640"/>
            <a:ext cx="849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 турбуємося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99"/>
                </a:solidFill>
                <a:latin typeface="Monotype Corsiva"/>
              </a:rPr>
              <a:t>Так захопити дітей корисною та цікавою роботою, щоб у них виросли крила в душі, щоб очі світилися, від бажання довести почате до кінц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99"/>
                </a:solidFill>
                <a:latin typeface="Monotype Corsiva"/>
              </a:rPr>
              <a:t>О.А.Захар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2327400" y="436680"/>
            <a:ext cx="574344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едо педагогів:</a:t>
            </a:r>
            <a:endParaRPr b="0" i="1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162080" y="790560"/>
            <a:ext cx="80899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едо наших учнів: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1208160" y="1989000"/>
            <a:ext cx="7804080" cy="360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амі плануємо,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понуємо,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конуємо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F:\фото уроки 2012 2013\катя2.jpg"/>
          <p:cNvPicPr/>
          <p:nvPr/>
        </p:nvPicPr>
        <p:blipFill>
          <a:blip r:embed="rId1"/>
          <a:stretch/>
        </p:blipFill>
        <p:spPr>
          <a:xfrm>
            <a:off x="7881840" y="1525680"/>
            <a:ext cx="1470240" cy="2060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:\фото уроки 2012 2013\макс.jpg"/>
          <p:cNvPicPr/>
          <p:nvPr/>
        </p:nvPicPr>
        <p:blipFill>
          <a:blip r:embed="rId2"/>
          <a:stretch/>
        </p:blipFill>
        <p:spPr>
          <a:xfrm>
            <a:off x="5056200" y="1384200"/>
            <a:ext cx="1579680" cy="2154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F:\фото уроки 2012 2013\инна2.jpg"/>
          <p:cNvPicPr/>
          <p:nvPr/>
        </p:nvPicPr>
        <p:blipFill>
          <a:blip r:embed="rId3"/>
          <a:stretch/>
        </p:blipFill>
        <p:spPr>
          <a:xfrm>
            <a:off x="417600" y="1368360"/>
            <a:ext cx="1533600" cy="214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F:\фото уроки 2012 2013\артем.jpg"/>
          <p:cNvPicPr/>
          <p:nvPr/>
        </p:nvPicPr>
        <p:blipFill>
          <a:blip r:embed="rId4"/>
          <a:stretch/>
        </p:blipFill>
        <p:spPr>
          <a:xfrm>
            <a:off x="8007480" y="3954600"/>
            <a:ext cx="1476360" cy="206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F:\фото уроки 2012 2013\лена.jpg"/>
          <p:cNvPicPr/>
          <p:nvPr/>
        </p:nvPicPr>
        <p:blipFill>
          <a:blip r:embed="rId5"/>
          <a:stretch/>
        </p:blipFill>
        <p:spPr>
          <a:xfrm>
            <a:off x="6199200" y="4329000"/>
            <a:ext cx="1419120" cy="1986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F:\план роботи педагога організатора\25092013335.jpg"/>
          <p:cNvPicPr/>
          <p:nvPr/>
        </p:nvPicPr>
        <p:blipFill>
          <a:blip r:embed="rId6"/>
          <a:stretch/>
        </p:blipFill>
        <p:spPr>
          <a:xfrm>
            <a:off x="4168800" y="3948120"/>
            <a:ext cx="1503360" cy="19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F:\фото уроки 2012 2013\денис.jpg"/>
          <p:cNvPicPr/>
          <p:nvPr/>
        </p:nvPicPr>
        <p:blipFill>
          <a:blip r:embed="rId7"/>
          <a:stretch/>
        </p:blipFill>
        <p:spPr>
          <a:xfrm>
            <a:off x="2268360" y="4422600"/>
            <a:ext cx="1460520" cy="204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F:\фото уроки 2012 2013\аня.jpg"/>
          <p:cNvPicPr/>
          <p:nvPr/>
        </p:nvPicPr>
        <p:blipFill>
          <a:blip r:embed="rId8"/>
          <a:stretch/>
        </p:blipFill>
        <p:spPr>
          <a:xfrm>
            <a:off x="385920" y="3971880"/>
            <a:ext cx="1433520" cy="20080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8"/>
          <p:cNvSpPr txBox="1"/>
          <p:nvPr/>
        </p:nvSpPr>
        <p:spPr>
          <a:xfrm>
            <a:off x="428760" y="620640"/>
            <a:ext cx="898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Члени шкільної Республіки "КРОК"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7424640" y="5740560"/>
            <a:ext cx="2481480" cy="599760"/>
          </a:xfrm>
          <a:custGeom>
            <a:avLst/>
            <a:gdLst>
              <a:gd name="textAreaLeft" fmla="*/ 620280 w 2481480"/>
              <a:gd name="textAreaRight" fmla="*/ 1861200 w 2481480"/>
              <a:gd name="textAreaTop" fmla="*/ 17640 h 599760"/>
              <a:gd name="textAreaBottom" fmla="*/ 450000 h 599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cc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cc"/>
                </a:solidFill>
                <a:latin typeface="Times New Roman"/>
              </a:rPr>
              <a:t>Мищенко Ар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7404120" y="3314880"/>
            <a:ext cx="2502000" cy="561960"/>
          </a:xfrm>
          <a:custGeom>
            <a:avLst/>
            <a:gdLst>
              <a:gd name="textAreaLeft" fmla="*/ 625320 w 2502000"/>
              <a:gd name="textAreaRight" fmla="*/ 1876680 w 2502000"/>
              <a:gd name="textAreaTop" fmla="*/ 16560 h 561960"/>
              <a:gd name="textAreaBottom" fmla="*/ 421560 h 561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Віце презид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Перець Катер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AutoShape 22" descr=""/>
          <p:cNvPicPr/>
          <p:nvPr/>
        </p:nvPicPr>
        <p:blipFill>
          <a:blip r:embed="rId9"/>
          <a:stretch/>
        </p:blipFill>
        <p:spPr>
          <a:xfrm>
            <a:off x="1652760" y="6315120"/>
            <a:ext cx="2590560" cy="6159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3"/>
          <p:cNvSpPr/>
          <p:nvPr/>
        </p:nvSpPr>
        <p:spPr>
          <a:xfrm>
            <a:off x="3610080" y="5788080"/>
            <a:ext cx="2679480" cy="504720"/>
          </a:xfrm>
          <a:custGeom>
            <a:avLst/>
            <a:gdLst>
              <a:gd name="textAreaLeft" fmla="*/ 669960 w 2679480"/>
              <a:gd name="textAreaRight" fmla="*/ 2009880 w 2679480"/>
              <a:gd name="textAreaTop" fmla="*/ 1476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Голова коміте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Дралов Андр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5568840" y="6292800"/>
            <a:ext cx="2679840" cy="565200"/>
          </a:xfrm>
          <a:custGeom>
            <a:avLst/>
            <a:gdLst>
              <a:gd name="textAreaLeft" fmla="*/ 669960 w 2679840"/>
              <a:gd name="textAreaRight" fmla="*/ 2009880 w 2679840"/>
              <a:gd name="textAreaTop" fmla="*/ 16560 h 565200"/>
              <a:gd name="textAreaBottom" fmla="*/ 424080 h 565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Султанова Оле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7"/>
          <p:cNvSpPr/>
          <p:nvPr/>
        </p:nvSpPr>
        <p:spPr>
          <a:xfrm>
            <a:off x="4448160" y="3319560"/>
            <a:ext cx="2720880" cy="655560"/>
          </a:xfrm>
          <a:custGeom>
            <a:avLst/>
            <a:gdLst>
              <a:gd name="textAreaLeft" fmla="*/ 680040 w 2720880"/>
              <a:gd name="textAreaRight" fmla="*/ 2040840 w 2720880"/>
              <a:gd name="textAreaTop" fmla="*/ 19080 h 655560"/>
              <a:gd name="textAreaBottom" fmla="*/ 491760 h 655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Президент шк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Тєлєгін Макс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0"/>
          <p:cNvSpPr/>
          <p:nvPr/>
        </p:nvSpPr>
        <p:spPr>
          <a:xfrm>
            <a:off x="0" y="3203640"/>
            <a:ext cx="2365200" cy="635040"/>
          </a:xfrm>
          <a:custGeom>
            <a:avLst/>
            <a:gdLst>
              <a:gd name="textAreaLeft" fmla="*/ 591120 w 2365200"/>
              <a:gd name="textAreaRight" fmla="*/ 1774080 w 2365200"/>
              <a:gd name="textAreaTop" fmla="*/ 18720 h 635040"/>
              <a:gd name="textAreaBottom" fmla="*/ 476280 h 63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Голова комітету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Майстренко Ін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utoShape 25" descr=""/>
          <p:cNvPicPr/>
          <p:nvPr/>
        </p:nvPicPr>
        <p:blipFill>
          <a:blip r:embed="rId10"/>
          <a:stretch/>
        </p:blipFill>
        <p:spPr>
          <a:xfrm>
            <a:off x="-60480" y="5694480"/>
            <a:ext cx="2419560" cy="74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F:\фото уроки 2012 2013\алина.jpg"/>
          <p:cNvPicPr/>
          <p:nvPr/>
        </p:nvPicPr>
        <p:blipFill>
          <a:blip r:embed="rId11"/>
          <a:stretch/>
        </p:blipFill>
        <p:spPr>
          <a:xfrm>
            <a:off x="2606760" y="1341360"/>
            <a:ext cx="1538280" cy="21542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0"/>
          <p:cNvSpPr/>
          <p:nvPr/>
        </p:nvSpPr>
        <p:spPr>
          <a:xfrm>
            <a:off x="2212920" y="3236760"/>
            <a:ext cx="2371680" cy="592200"/>
          </a:xfrm>
          <a:custGeom>
            <a:avLst/>
            <a:gdLst>
              <a:gd name="textAreaLeft" fmla="*/ 592920 w 2371680"/>
              <a:gd name="textAreaRight" fmla="*/ 1778760 w 2371680"/>
              <a:gd name="textAreaTop" fmla="*/ 17280 h 592200"/>
              <a:gd name="textAreaBottom" fmla="*/ 4442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2060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2060"/>
                </a:solidFill>
                <a:latin typeface="Times New Roman"/>
              </a:rPr>
              <a:t>Майстренко Алі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1080" y="-360"/>
            <a:ext cx="963468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507960" y="189000"/>
            <a:ext cx="8925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уктура 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нівського самоврядування 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5" name="Organization Chart 5"/>
          <p:cNvGrpSpPr/>
          <p:nvPr/>
        </p:nvGrpSpPr>
        <p:grpSpPr>
          <a:xfrm>
            <a:off x="466560" y="1413000"/>
            <a:ext cx="9439200" cy="5111280"/>
            <a:chOff x="466560" y="1413000"/>
            <a:chExt cx="9439200" cy="5111280"/>
          </a:xfrm>
        </p:grpSpPr>
        <p:cxnSp>
          <p:nvCxnSpPr>
            <p:cNvPr id="136" name="_s1028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7943760" y="5598720"/>
              <a:ext cx="176400" cy="97020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_s1029"/>
            <p:cNvCxnSpPr>
              <a:stCxn id="140" idx="0"/>
              <a:endCxn id="138" idx="1"/>
            </p:cNvCxnSpPr>
            <p:nvPr/>
          </p:nvCxnSpPr>
          <p:spPr>
            <a:xfrm flipH="1" flipV="1" rot="5400000">
              <a:off x="6972480" y="5596920"/>
              <a:ext cx="176400" cy="9741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_s1030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3780720" y="5597280"/>
              <a:ext cx="176400" cy="97272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3" idx="1"/>
            </p:cNvCxnSpPr>
            <p:nvPr/>
          </p:nvCxnSpPr>
          <p:spPr>
            <a:xfrm flipH="1" flipV="1" rot="5400000">
              <a:off x="2808360" y="5597640"/>
              <a:ext cx="176400" cy="9723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_s1032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7943760" y="4541400"/>
              <a:ext cx="176400" cy="97020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_s1033"/>
            <p:cNvCxnSpPr>
              <a:stCxn id="150" idx="0"/>
              <a:endCxn id="148" idx="1"/>
            </p:cNvCxnSpPr>
            <p:nvPr/>
          </p:nvCxnSpPr>
          <p:spPr>
            <a:xfrm flipH="1" flipV="1" rot="5400000">
              <a:off x="6972480" y="4539600"/>
              <a:ext cx="176400" cy="9741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_s1034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3780720" y="4539960"/>
              <a:ext cx="176400" cy="97272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_s1035"/>
            <p:cNvCxnSpPr>
              <a:stCxn id="155" idx="0"/>
              <a:endCxn id="153" idx="1"/>
            </p:cNvCxnSpPr>
            <p:nvPr/>
          </p:nvCxnSpPr>
          <p:spPr>
            <a:xfrm flipH="1" flipV="1" rot="5400000">
              <a:off x="2808360" y="4540320"/>
              <a:ext cx="176400" cy="9723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_s1036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3780360" y="3482640"/>
              <a:ext cx="176760" cy="97272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_s1037"/>
            <p:cNvCxnSpPr>
              <a:stCxn id="160" idx="0"/>
              <a:endCxn id="158" idx="1"/>
            </p:cNvCxnSpPr>
            <p:nvPr/>
          </p:nvCxnSpPr>
          <p:spPr>
            <a:xfrm flipH="1" flipV="1" rot="5400000">
              <a:off x="2808360" y="3483000"/>
              <a:ext cx="176760" cy="97236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8"/>
            <p:cNvCxnSpPr>
              <a:stCxn id="162" idx="0"/>
              <a:endCxn id="163" idx="1"/>
            </p:cNvCxnSpPr>
            <p:nvPr/>
          </p:nvCxnSpPr>
          <p:spPr>
            <a:xfrm flipV="1">
              <a:off x="6573960" y="3879000"/>
              <a:ext cx="1440" cy="17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9"/>
            <p:cNvCxnSpPr>
              <a:stCxn id="138" idx="0"/>
              <a:endCxn id="165" idx="6"/>
            </p:cNvCxnSpPr>
            <p:nvPr/>
          </p:nvCxnSpPr>
          <p:spPr>
            <a:xfrm rot="10800000">
              <a:off x="5463360" y="3351960"/>
              <a:ext cx="1250280" cy="246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" name="_s1040"/>
            <p:cNvCxnSpPr>
              <a:stCxn id="143" idx="0"/>
              <a:endCxn id="165" idx="5"/>
            </p:cNvCxnSpPr>
            <p:nvPr/>
          </p:nvCxnSpPr>
          <p:spPr>
            <a:xfrm flipV="1">
              <a:off x="4214160" y="3351960"/>
              <a:ext cx="1250280" cy="246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_s1041"/>
            <p:cNvCxnSpPr>
              <a:stCxn id="163" idx="0"/>
              <a:endCxn id="165" idx="4"/>
            </p:cNvCxnSpPr>
            <p:nvPr/>
          </p:nvCxnSpPr>
          <p:spPr>
            <a:xfrm rot="10800000">
              <a:off x="5463360" y="3351960"/>
              <a:ext cx="276840" cy="35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" name="_s1042"/>
            <p:cNvCxnSpPr>
              <a:stCxn id="148" idx="0"/>
              <a:endCxn id="165" idx="3"/>
            </p:cNvCxnSpPr>
            <p:nvPr/>
          </p:nvCxnSpPr>
          <p:spPr>
            <a:xfrm rot="10800000">
              <a:off x="5463360" y="3351960"/>
              <a:ext cx="1250280" cy="141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" name="_s1043"/>
            <p:cNvCxnSpPr>
              <a:stCxn id="158" idx="0"/>
              <a:endCxn id="165" idx="2"/>
            </p:cNvCxnSpPr>
            <p:nvPr/>
          </p:nvCxnSpPr>
          <p:spPr>
            <a:xfrm flipV="1">
              <a:off x="4214160" y="3351960"/>
              <a:ext cx="1250280" cy="35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1044"/>
            <p:cNvCxnSpPr>
              <a:stCxn id="153" idx="0"/>
              <a:endCxn id="165" idx="1"/>
            </p:cNvCxnSpPr>
            <p:nvPr/>
          </p:nvCxnSpPr>
          <p:spPr>
            <a:xfrm flipV="1">
              <a:off x="4214160" y="3352320"/>
              <a:ext cx="1250280" cy="141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_s1045"/>
            <p:cNvCxnSpPr>
              <a:stCxn id="165" idx="0"/>
              <a:endCxn id="172" idx="1"/>
            </p:cNvCxnSpPr>
            <p:nvPr/>
          </p:nvCxnSpPr>
          <p:spPr>
            <a:xfrm rot="10800000">
              <a:off x="1299600" y="2822760"/>
              <a:ext cx="3331080" cy="353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1046"/>
            <p:cNvCxnSpPr>
              <a:stCxn id="172" idx="0"/>
              <a:endCxn id="174" idx="1"/>
            </p:cNvCxnSpPr>
            <p:nvPr/>
          </p:nvCxnSpPr>
          <p:spPr>
            <a:xfrm flipV="1">
              <a:off x="1300320" y="2293200"/>
              <a:ext cx="1440" cy="176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_s1047"/>
            <p:cNvCxnSpPr>
              <a:stCxn id="176" idx="0"/>
              <a:endCxn id="177" idx="4"/>
            </p:cNvCxnSpPr>
            <p:nvPr/>
          </p:nvCxnSpPr>
          <p:spPr>
            <a:xfrm flipV="1" rot="16200000">
              <a:off x="7527600" y="923040"/>
              <a:ext cx="176760" cy="291708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1048"/>
            <p:cNvCxnSpPr>
              <a:stCxn id="179" idx="0"/>
              <a:endCxn id="177" idx="3"/>
            </p:cNvCxnSpPr>
            <p:nvPr/>
          </p:nvCxnSpPr>
          <p:spPr>
            <a:xfrm flipV="1" rot="16200000">
              <a:off x="6555600" y="1895040"/>
              <a:ext cx="176760" cy="97308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_s1049"/>
            <p:cNvCxnSpPr>
              <a:stCxn id="181" idx="0"/>
              <a:endCxn id="177" idx="2"/>
            </p:cNvCxnSpPr>
            <p:nvPr/>
          </p:nvCxnSpPr>
          <p:spPr>
            <a:xfrm flipH="1" flipV="1" rot="5400000">
              <a:off x="5584680" y="1896120"/>
              <a:ext cx="176760" cy="97092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_s1050"/>
            <p:cNvCxnSpPr>
              <a:stCxn id="183" idx="0"/>
              <a:endCxn id="177" idx="1"/>
            </p:cNvCxnSpPr>
            <p:nvPr/>
          </p:nvCxnSpPr>
          <p:spPr>
            <a:xfrm flipH="1" flipV="1" rot="5400000">
              <a:off x="4612320" y="923760"/>
              <a:ext cx="176760" cy="291564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_s1051"/>
            <p:cNvCxnSpPr>
              <a:stCxn id="177" idx="0"/>
              <a:endCxn id="185" idx="1"/>
            </p:cNvCxnSpPr>
            <p:nvPr/>
          </p:nvCxnSpPr>
          <p:spPr>
            <a:xfrm flipV="1" rot="16200000">
              <a:off x="4855320" y="638280"/>
              <a:ext cx="176400" cy="242964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_s1052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2426400" y="638280"/>
              <a:ext cx="176400" cy="242964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_s1053"/>
            <p:cNvSpPr/>
            <p:nvPr/>
          </p:nvSpPr>
          <p:spPr>
            <a:xfrm>
              <a:off x="2895480" y="141300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Учнівськ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арламен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4"/>
            <p:cNvSpPr/>
            <p:nvPr/>
          </p:nvSpPr>
          <p:spPr>
            <a:xfrm>
              <a:off x="466560" y="194184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Республі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«КРОК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"/>
            <p:cNvSpPr/>
            <p:nvPr/>
          </p:nvSpPr>
          <p:spPr>
            <a:xfrm>
              <a:off x="5325120" y="194184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Ра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«Добриків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056"/>
            <p:cNvSpPr/>
            <p:nvPr/>
          </p:nvSpPr>
          <p:spPr>
            <a:xfrm>
              <a:off x="241020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Веселк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57"/>
            <p:cNvSpPr/>
            <p:nvPr/>
          </p:nvSpPr>
          <p:spPr>
            <a:xfrm>
              <a:off x="435384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Сонечк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058"/>
            <p:cNvSpPr/>
            <p:nvPr/>
          </p:nvSpPr>
          <p:spPr>
            <a:xfrm>
              <a:off x="6297840" y="247068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Веселі фарбоч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9"/>
            <p:cNvSpPr/>
            <p:nvPr/>
          </p:nvSpPr>
          <p:spPr>
            <a:xfrm>
              <a:off x="8240760" y="247068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Барвінков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60"/>
            <p:cNvSpPr/>
            <p:nvPr/>
          </p:nvSpPr>
          <p:spPr>
            <a:xfrm>
              <a:off x="46656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Презид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61"/>
            <p:cNvSpPr/>
            <p:nvPr/>
          </p:nvSpPr>
          <p:spPr>
            <a:xfrm>
              <a:off x="4631040" y="299952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Віц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презид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62"/>
            <p:cNvSpPr/>
            <p:nvPr/>
          </p:nvSpPr>
          <p:spPr>
            <a:xfrm>
              <a:off x="2549160" y="458640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Комітет дисципліни і порядк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63"/>
            <p:cNvSpPr/>
            <p:nvPr/>
          </p:nvSpPr>
          <p:spPr>
            <a:xfrm>
              <a:off x="2549160" y="352836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e1"/>
                </a:gs>
                <a:gs pos="100000">
                  <a:srgbClr val="b2b2b2"/>
                </a:gs>
              </a:gsLst>
              <a:lin ang="8100000"/>
            </a:gra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Arial"/>
                </a:rPr>
                <a:t>Навчальний коміте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64"/>
            <p:cNvSpPr/>
            <p:nvPr/>
          </p:nvSpPr>
          <p:spPr>
            <a:xfrm>
              <a:off x="6712920" y="458640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Arial"/>
                </a:rPr>
                <a:t>Комітет дозвілл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65"/>
            <p:cNvSpPr/>
            <p:nvPr/>
          </p:nvSpPr>
          <p:spPr>
            <a:xfrm>
              <a:off x="5740920" y="35283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e1"/>
                </a:gs>
                <a:gs pos="100000">
                  <a:srgbClr val="b2b2b2"/>
                </a:gs>
              </a:gsLst>
              <a:lin ang="8100000"/>
            </a:gra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Arial"/>
                </a:rPr>
                <a:t>Комітет шефської допомог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66"/>
            <p:cNvSpPr/>
            <p:nvPr/>
          </p:nvSpPr>
          <p:spPr>
            <a:xfrm>
              <a:off x="2549160" y="5644080"/>
              <a:ext cx="166500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Трудовий десан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67"/>
            <p:cNvSpPr/>
            <p:nvPr/>
          </p:nvSpPr>
          <p:spPr>
            <a:xfrm>
              <a:off x="6712920" y="564408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Спортивний коміте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68"/>
            <p:cNvSpPr/>
            <p:nvPr/>
          </p:nvSpPr>
          <p:spPr>
            <a:xfrm>
              <a:off x="5740920" y="405756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Волонтер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69"/>
            <p:cNvSpPr/>
            <p:nvPr/>
          </p:nvSpPr>
          <p:spPr>
            <a:xfrm>
              <a:off x="1577160" y="405756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Група “Ерудит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70"/>
            <p:cNvSpPr/>
            <p:nvPr/>
          </p:nvSpPr>
          <p:spPr>
            <a:xfrm>
              <a:off x="3520080" y="405756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Знання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71"/>
            <p:cNvSpPr/>
            <p:nvPr/>
          </p:nvSpPr>
          <p:spPr>
            <a:xfrm>
              <a:off x="1577160" y="511524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Пост ввічливості, культури і чисто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2"/>
            <p:cNvSpPr/>
            <p:nvPr/>
          </p:nvSpPr>
          <p:spPr>
            <a:xfrm>
              <a:off x="352008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Штаб” Живи, книго!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73"/>
            <p:cNvSpPr/>
            <p:nvPr/>
          </p:nvSpPr>
          <p:spPr>
            <a:xfrm>
              <a:off x="574092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Клуб “Дозвілля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74"/>
            <p:cNvSpPr/>
            <p:nvPr/>
          </p:nvSpPr>
          <p:spPr>
            <a:xfrm>
              <a:off x="768384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сценаристі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75"/>
            <p:cNvSpPr/>
            <p:nvPr/>
          </p:nvSpPr>
          <p:spPr>
            <a:xfrm>
              <a:off x="157716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Зелений патруль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76"/>
            <p:cNvSpPr/>
            <p:nvPr/>
          </p:nvSpPr>
          <p:spPr>
            <a:xfrm>
              <a:off x="352008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”Юні майстри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77"/>
            <p:cNvSpPr/>
            <p:nvPr/>
          </p:nvSpPr>
          <p:spPr>
            <a:xfrm>
              <a:off x="574092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Група “Здоров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я” “Санпост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78"/>
            <p:cNvSpPr/>
            <p:nvPr/>
          </p:nvSpPr>
          <p:spPr>
            <a:xfrm>
              <a:off x="768384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Times New Roman"/>
                </a:rPr>
                <a:t>Група “Юний пожежник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Times New Roman"/>
                </a:rPr>
                <a:t>Група "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60160" y="141264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Законодавчий та виконавч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органи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шкільного парламенту Республіки “КРОК”– Президент шк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ступник голови – віце презид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навчально-наукового коміт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правового виховання та національного відрод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спортивно-громадського комітет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естетичного виховання та організації дозвіл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охорони здоров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я та соціального захи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служби нов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741240" y="476280"/>
            <a:ext cx="8034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нівська Республіка "КРОК"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1000" y="1599840"/>
            <a:ext cx="9059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вітна перед загальним збор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едставляє та захищає інтереси учн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та проводить колективне плануван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Координує діяльність парламентських комітетів, ухвалює плани їх роботи на рі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Ухвалює план роботи Парламенту в ціл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абезпечує життєдіяльність учнівського самоврядування шко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підготовку та проведення загальношкільних заход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абезпечує представництво шкільного учнівського самоврядування на рівні район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навчання акти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Бере участь у роботі педр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271440" y="260280"/>
            <a:ext cx="9205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Система взаємодії президента Республіки 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з первинними колективами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62040" y="1557000"/>
            <a:ext cx="8408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бати про дисципліну і поряд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Збиратися на засіданнях, ухвалювати рішення і виконувати 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авати доручення всім старшокласникам і контролювати їх викон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542880" y="836640"/>
            <a:ext cx="9363240" cy="5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а членів Республіки Президента:</a:t>
            </a:r>
            <a:endParaRPr b="1" i="1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5:02:14Z</dcterms:created>
  <dc:creator>ххх</dc:creator>
  <dc:description/>
  <dc:language>en-US</dc:language>
  <cp:lastModifiedBy>XTreme</cp:lastModifiedBy>
  <dcterms:modified xsi:type="dcterms:W3CDTF">2013-12-03T04:53:27Z</dcterms:modified>
  <cp:revision>24</cp:revision>
  <dc:subject/>
  <dc:title>Жовтнева ЗОШ І-ІІІ ступенів </dc:title>
</cp:coreProperties>
</file>