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8D4-B5A6-413E-A68C-9B05338A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2D2-56E1-49D9-A783-6B572DE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654-C28B-4C1D-9739-C4DB0181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F33-3979-4E27-941A-418B162D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3A4-2EA1-4B35-99D9-0DB3FCDD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94E-249E-491F-BCE5-B6EC696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2EA-08BD-4F8F-B216-119A3883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E86-05B4-4AF6-AFFD-A7B7460A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427-1C57-4CA1-B626-C379D1E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926-ECF8-4291-936F-93A5613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B3A-D6ED-4AB5-AC6C-7C5A5E4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3C7-D5A0-4F0F-BB6E-899BDF3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7A73-3349-464F-BE09-815593820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3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2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 проведенн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216920" cy="3240360"/>
        </p:xfrm>
        <a:graphic>
          <a:graphicData uri="http://schemas.openxmlformats.org/drawingml/2006/table">
            <a:tbl>
              <a:tblPr/>
              <a:tblGrid>
                <a:gridCol w="3589560"/>
                <a:gridCol w="3627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 із дня електронної реєстра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після 1 березня 2013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’явитися на пункт пробного тестування,  маючи при собі документ, що посвідчує особу, та Запроше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нести відповіді з паперового бланку до електронного бланку, який розміщений на сторінці «Особистий кабінет»  (після 23 березня 2013 рок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(після 5 квітня 2013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248440" y="6143760"/>
            <a:ext cx="482400" cy="57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5902200" y="6073920"/>
            <a:ext cx="505080" cy="64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6715080" y="6124680"/>
            <a:ext cx="48276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7473960" y="609300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971640" y="566100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250920" y="4724280"/>
            <a:ext cx="612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3-01-08T23:32:05Z</dcterms:modified>
  <cp:revision>70</cp:revision>
  <dc:subject/>
  <dc:title>Слайд 1</dc:title>
</cp:coreProperties>
</file>