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6C0-D467-4994-8C3C-D0063858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E4F-775E-45DE-8166-48AA9E0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B22-6F42-4C19-9D18-CDE09F12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A9C-EC02-442D-9A9B-12297A7E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FEC-21A1-44AC-827C-B75BB41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701-D793-4C16-88F9-48B73CAB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AAB-D908-4AC5-AC06-1A50C74C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44F-420F-4383-B623-4080505A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E87-54F8-45B2-AAEB-B20C9155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F61-D2BB-4C84-8680-84AE66DC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299-1800-4FFC-BA0C-4D30CAD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F06-1A02-4F41-80C7-245C1C7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BAEB-A49B-4131-A72D-65B28C30D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3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907560"/>
            <a:ext cx="7777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 по 30 листопада 2012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круг проведенн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63640" y="2852640"/>
          <a:ext cx="7216920" cy="3240360"/>
        </p:xfrm>
        <a:graphic>
          <a:graphicData uri="http://schemas.openxmlformats.org/drawingml/2006/table">
            <a:tbl>
              <a:tblPr/>
              <a:tblGrid>
                <a:gridCol w="3589560"/>
                <a:gridCol w="3627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березня 2013 р. об 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березня 2013 р. об 1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 із дня електронної реєстра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після 1 березня 2013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З’явитися на пункт пробного тестування,  маючи при собі документ, що посвідчує особу, та Запроше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нести відповіді з паперового бланку до електронного бланку, який розміщений на сторінці «Особистий кабінет»  (після 23 березня 2013 рок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(після 5 квітня 2013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248440" y="6143760"/>
            <a:ext cx="482400" cy="57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5902200" y="6073920"/>
            <a:ext cx="505080" cy="64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6715080" y="6124680"/>
            <a:ext cx="482760" cy="57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7473960" y="609300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971640" y="566100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250920" y="4724280"/>
            <a:ext cx="612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7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8"/>
          <p:cNvSpPr/>
          <p:nvPr/>
        </p:nvSpPr>
        <p:spPr>
          <a:xfrm>
            <a:off x="1908000" y="76500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Timur</cp:lastModifiedBy>
  <dcterms:modified xsi:type="dcterms:W3CDTF">2013-01-08T23:32:05Z</dcterms:modified>
  <cp:revision>70</cp:revision>
  <dc:subject/>
  <dc:title>Слайд 1</dc:title>
</cp:coreProperties>
</file>