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F7EE-C61B-4C0C-B335-E9AC3844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4129-720E-449F-8BB7-2490EA84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68D-1B11-4231-9EA6-C3F98C67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7F3-F4E1-487D-8574-4639572D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7C8-F328-46E2-9DDC-34355DEB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1B75-DBA3-49D1-B3CD-949A46EC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E99-08B4-4DC8-9F7C-A0073302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079-F78B-44E9-BE8F-6CE79FEF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7F10-AE0B-4C88-9406-3B343FDE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784B-86FF-4980-97A0-30AE4927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2AF-CB8A-4F87-837F-B4265A95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3D3-4E00-4154-855E-0DFA49A4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1F8D-5AF8-4840-9AC2-38CEF68871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2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Заголовок 1"/>
          <p:cNvSpPr/>
          <p:nvPr/>
        </p:nvSpPr>
        <p:spPr>
          <a:xfrm>
            <a:off x="1727280" y="1700280"/>
            <a:ext cx="7416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br>
              <a:rPr sz="6600"/>
            </a:b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ОВНІШНЄ НЕЗАЛЕЖНЕ ОЦІНЮВАННЯ 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3</a:t>
            </a: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о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8000" y="1528560"/>
            <a:ext cx="72360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Мет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знайомлення з процедурою проведення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значається самостійно після виконання всіх завдань та отримання правильних відпові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шкалою 100-200 балів може бути встановлений за умови використання учасником сервісу з визначення результатів пробного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Пробне ЗНО проводиться на платній основ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9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ОБЛИВОСТІ ПРОБНОГ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640" y="907560"/>
            <a:ext cx="7777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еєстрація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з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 по 30 листопада 2012р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круг проведення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рміни проведе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63640" y="2852640"/>
          <a:ext cx="7216920" cy="3240360"/>
        </p:xfrm>
        <a:graphic>
          <a:graphicData uri="http://schemas.openxmlformats.org/drawingml/2006/table">
            <a:tbl>
              <a:tblPr/>
              <a:tblGrid>
                <a:gridCol w="3589560"/>
                <a:gridCol w="362736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березня 2013 р. об 1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березня 2013 р. об 1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їнська мова і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олог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ійськ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оземн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світня історі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сторія Украї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м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ітова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2"/>
          <p:cNvGrpSpPr/>
          <p:nvPr/>
        </p:nvGrpSpPr>
        <p:grpSpPr>
          <a:xfrm>
            <a:off x="0" y="189000"/>
            <a:ext cx="1692360" cy="6408720"/>
            <a:chOff x="0" y="189000"/>
            <a:chExt cx="1692360" cy="6408720"/>
          </a:xfrm>
        </p:grpSpPr>
        <p:pic>
          <p:nvPicPr>
            <p:cNvPr id="56" name="Picture 3" descr="logo"/>
            <p:cNvPicPr/>
            <p:nvPr/>
          </p:nvPicPr>
          <p:blipFill>
            <a:blip r:embed="rId1"/>
            <a:stretch/>
          </p:blipFill>
          <p:spPr>
            <a:xfrm>
              <a:off x="69480" y="476280"/>
              <a:ext cx="12308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"/>
            <p:cNvSpPr/>
            <p:nvPr/>
          </p:nvSpPr>
          <p:spPr>
            <a:xfrm>
              <a:off x="0" y="1773360"/>
              <a:ext cx="169236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155088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0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Заголовок 1"/>
          <p:cNvSpPr/>
          <p:nvPr/>
        </p:nvSpPr>
        <p:spPr>
          <a:xfrm>
            <a:off x="1547640" y="549360"/>
            <a:ext cx="774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9 КРОКІВ: РЕЄСТРАЦІЯ, УЧАСТЬ,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835280" y="1197000"/>
            <a:ext cx="70563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На сайті ХРЦОЯО у розділі «Пробне ЗНО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знайомитися з умовами проведенн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внити всі поля та отримати персональний код (зберегти код!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йти на сторінку «Особистий кабіне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аяву та квитанції для оплати кожного замовленого предмета окре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формити Заяву та надіслати поштою до ХРЦОЯ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платити квитанції в будь-якому банку протягом 3 робочих днів із дня електронної реєстрації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еревірити оплату та надходження Заяви на сторінці «Особистий кабінет» через 10 робочих днів із дня оплати квитанцій та відправки Зая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і сторінки «Особистий кабінет» Запрошення, в якому буде зазначено місце та час проведення (після 1 березня 2013 рок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З’явитися на пункт пробного тестування,  маючи при собі документ, що посвідчує особу, та Запрошенн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еренести відповіді з паперового бланку до електронного бланку, який розміщений на сторінці «Особистий кабінет»  (після 23 березня 2013 рок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знайомитись із результатом на сторінці «Особистий кабінет» (після 5 квітня 2013 року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12400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968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78144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4435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5248440" y="6143760"/>
            <a:ext cx="482400" cy="576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5902200" y="6073920"/>
            <a:ext cx="505080" cy="64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6715080" y="6124680"/>
            <a:ext cx="482760" cy="57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>
            <a:lum bright="12000"/>
          </a:blip>
          <a:stretch/>
        </p:blipFill>
        <p:spPr>
          <a:xfrm>
            <a:off x="7473960" y="609300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>
            <a:lum bright="12000"/>
          </a:blip>
          <a:stretch/>
        </p:blipFill>
        <p:spPr>
          <a:xfrm>
            <a:off x="5153040" y="9684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>
            <a:lum bright="12000"/>
          </a:blip>
          <a:stretch/>
        </p:blipFill>
        <p:spPr>
          <a:xfrm>
            <a:off x="971640" y="5661000"/>
            <a:ext cx="542880" cy="576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>
            <a:lum bright="12000"/>
          </a:blip>
          <a:stretch/>
        </p:blipFill>
        <p:spPr>
          <a:xfrm>
            <a:off x="250920" y="4724280"/>
            <a:ext cx="61272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77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8"/>
          <p:cNvSpPr/>
          <p:nvPr/>
        </p:nvSpPr>
        <p:spPr>
          <a:xfrm>
            <a:off x="1908000" y="765000"/>
            <a:ext cx="7236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ак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15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Timur</cp:lastModifiedBy>
  <dcterms:modified xsi:type="dcterms:W3CDTF">2013-01-08T23:32:05Z</dcterms:modified>
  <cp:revision>70</cp:revision>
  <dc:subject/>
  <dc:title>Слайд 1</dc:title>
</cp:coreProperties>
</file>