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3F471-E9E3-4B46-8A91-30FB1FDD4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2A665-C8D5-4FBE-AC45-DA880C056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5ED0E-F854-47C1-A895-30FBA6C6A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7FC4B-E36B-4CBA-BEEB-2C9BB3D9B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14F6F-0D47-4BF4-A4C0-2FEAC065E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BDB6A-D2D4-48FD-A5D7-1A0108DED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6107E-460D-4B1C-91B2-D70402F90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F85C0-2216-4007-82A0-E2E4F71CD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0B41F-34AF-4C26-A5E4-AECECFC2D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09550-5A2E-4D54-8C73-8DFD895E0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972ED-CA86-497D-AD6F-EC7C58905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CF5A8-A06D-49E6-A5E1-4169D1B08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0F716-7CA3-4768-9D6C-FEC00ABA9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44F02-2C83-4AFA-A6FC-0576D7F02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46368-22E4-47F4-ADC3-E75D60967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FFCF7-49CC-4080-BFB1-66D6FF786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E92CC-5A44-4546-B7F1-9AA94B188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6718B-F71A-4038-A6E4-F56DC5EDF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8A40C-FB71-4015-9398-83921C362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A6E7F-D9FC-452F-A79A-A65B16613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A7569-AC41-46CA-8836-84A78EAA4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A8ADF-1E65-4E9A-A1AD-3C83B2128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0BFFA-2F97-48BD-80F8-BD6A6C4C8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BB6D1-A53D-430C-973A-56426E1AC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372C3-C93C-4312-9856-C5AA17F0078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D5221-CE33-4CAF-BD51-BFE26DACF99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600" spc="-1" strike="noStrike">
                <a:solidFill>
                  <a:srgbClr val="ff3300"/>
                </a:solidFill>
                <a:latin typeface="Times New Roman"/>
              </a:rPr>
              <a:t>МЕДІАТЕКА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Рисунок 1" descr="/Files/images/медиа(1).jpg"/>
          <p:cNvPicPr/>
          <p:nvPr/>
        </p:nvPicPr>
        <p:blipFill>
          <a:blip r:embed="rId1"/>
          <a:stretch/>
        </p:blipFill>
        <p:spPr>
          <a:xfrm>
            <a:off x="3348000" y="3414600"/>
            <a:ext cx="1647720" cy="13795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3132000" y="3284640"/>
            <a:ext cx="193680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-5066280"/>
            <a:ext cx="195120" cy="1052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Медіатека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 є частиною єдиного інформаційного простору системи освіти </a:t>
            </a:r>
            <a:r>
              <a:rPr b="0" lang="uk-UA" sz="3600" spc="-1" strike="noStrike">
                <a:solidFill>
                  <a:srgbClr val="000000"/>
                </a:solidFill>
                <a:latin typeface="Times New Roman"/>
              </a:rPr>
              <a:t>Жовтневої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ЗОШ І-ІІІ ступенів. Вона являє собою зібрання інформаційних матеріалів на електронних і паперових носіях та забезпечує доступ до них працівників школи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-69840" y="-5310000"/>
            <a:ext cx="69840" cy="1052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ю створення медіатеки є забезпечення вільного доступу працівникам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овтневої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ОШ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І-ІІІ ступенів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о освітніх ресурсів, у тому числі до електронних каталогів та повнотекстових електронних матеріалів навчального, наукового та інформаційного призначенн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Рисунок 4" descr="C:\Documents and Settings\user\Мои документы\Мои рисунки\Книги\библиотека.jpg 2.jpg"/>
          <p:cNvPicPr/>
          <p:nvPr/>
        </p:nvPicPr>
        <p:blipFill>
          <a:blip r:embed="rId1"/>
          <a:stretch/>
        </p:blipFill>
        <p:spPr>
          <a:xfrm>
            <a:off x="6372360" y="3500280"/>
            <a:ext cx="1992240" cy="24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uk-UA" sz="3600" spc="-1" strike="noStrike">
                <a:solidFill>
                  <a:srgbClr val="000000"/>
                </a:solidFill>
                <a:latin typeface="Times New Roman"/>
              </a:rPr>
              <a:t>Завдання шкільної медіатеки – надати фізичний простір і створити середовище для задоволення інформаційних потреб користувачів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Рисунок 7" descr="C:\Documents and Settings\user\Мои документы\Мои рисунки\Книги\библиотека.jpg 1.jpg"/>
          <p:cNvPicPr/>
          <p:nvPr/>
        </p:nvPicPr>
        <p:blipFill>
          <a:blip r:embed="rId1"/>
          <a:stretch/>
        </p:blipFill>
        <p:spPr>
          <a:xfrm>
            <a:off x="5940360" y="4005360"/>
            <a:ext cx="2243160" cy="1895400"/>
          </a:xfrm>
          <a:prstGeom prst="rect">
            <a:avLst/>
          </a:prstGeom>
          <a:ln w="0">
            <a:noFill/>
          </a:ln>
        </p:spPr>
      </p:pic>
      <p:pic>
        <p:nvPicPr>
          <p:cNvPr id="102" name="Рисунок 4" descr="C:\Documents and Settings\user\Мои документы\Мои рисунки\Книги\библиотека.jpg 2.jpg"/>
          <p:cNvPicPr/>
          <p:nvPr/>
        </p:nvPicPr>
        <p:blipFill>
          <a:blip r:embed="rId2"/>
          <a:stretch/>
        </p:blipFill>
        <p:spPr>
          <a:xfrm>
            <a:off x="1042920" y="3573360"/>
            <a:ext cx="1992240" cy="29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645080" y="1599840"/>
            <a:ext cx="38894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Мультимедіа (від англійських слів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- багато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dia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- середовище) – поєднання спеціальних апаратних засобів і програмного забезпечення, що дає змогу на якісно новому рівні сприймати, переробляти і надавати різноманітну інформацію: текстову, графічну, звукову, анімаційну, телевізійну тощо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Рисунок 5" descr="C:\Documents and Settings\user\Мои документы\Мои рисунки\Камп\AIWMIYCCAG7G6IACAQ591IQCAOQU0FCCASQCWE8CA4GK7HBCAZ3C08MCAUKU0T9CAVMVPWOCAW1WRLCCAAR0GHICAI5M4EPCAJ6KO1XCA6MWDWRCA1XIDNKCAFYUQ5XCAH94SBBCANH5VFWCAGDKV8GCAXTZ8DB.jpg"/>
          <p:cNvPicPr/>
          <p:nvPr/>
        </p:nvPicPr>
        <p:blipFill>
          <a:blip r:embed="rId1"/>
          <a:stretch/>
        </p:blipFill>
        <p:spPr>
          <a:xfrm>
            <a:off x="468360" y="1844640"/>
            <a:ext cx="4176720" cy="30607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800" spc="-1" strike="noStrike">
                <a:solidFill>
                  <a:srgbClr val="ffff00"/>
                </a:solidFill>
                <a:latin typeface="Times New Roman"/>
              </a:rPr>
              <a:t>МЕДІАТЕКА ЖОВТНЕВОЇ ЗОШ</a:t>
            </a:r>
            <a:r>
              <a:rPr b="0" lang="uk-UA" sz="3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763640" y="1628640"/>
            <a:ext cx="547236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2T14:31:31Z</dcterms:created>
  <dc:creator>User</dc:creator>
  <dc:description/>
  <dc:language>en-US</dc:language>
  <cp:lastModifiedBy>User</cp:lastModifiedBy>
  <dcterms:modified xsi:type="dcterms:W3CDTF">2014-02-06T13:38:26Z</dcterms:modified>
  <cp:revision>6</cp:revision>
  <dc:subject/>
  <dc:title>МЕДІАТЕКА</dc:title>
</cp:coreProperties>
</file>