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7DE-0509-4D21-8F00-C1F3F508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D0F-2D90-4704-82EE-A9E7C59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E59-BA84-4D68-ADE1-5E793E8D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1BC-42CB-47BB-9A06-5183944C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B8E8-4E7E-464E-AB4B-11AB116D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A29-55A7-41FD-9958-122E9E42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28FF-8D76-40E3-8438-19183485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3964-B140-40EB-B34B-A7D8A3E4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9BAF-8ADF-450E-906B-200F43D4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EEB9-602E-41C6-8D19-24BCF540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2B81-20A3-4E62-A96F-6EA9EA60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C26-0817-4650-AB8B-8C27F459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7A06-BDAB-47D9-B74B-AF7F7A9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82A5-3D9A-47B2-A78E-3A5B4C3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B2BA-3886-4CDD-89DC-D7B9AC75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0D2-7673-4A9C-9D47-F4C47D69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7143-5F05-49DE-902E-09D9C696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67B-4B2B-456E-BE4B-86D5F37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BAD-0CA4-46C3-8513-E34EC7B7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4C1-1990-4CD0-8B25-E5430B33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D5D-668D-4B0C-81BD-98E3C20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3BD-7A96-4143-990C-C7D330D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D0F-7DC2-4CA3-B1BA-9BB185E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E37-A559-43B2-AE3F-640FA91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278-EBF7-4E75-83D3-0CA399226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B85-004F-40F1-AC82-A104E05E9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3300"/>
                </a:solidFill>
                <a:latin typeface="Times New Roman"/>
              </a:rPr>
              <a:t>МЕДІАТ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Рисунок 1" descr="/Files/images/медиа(1).jpg"/>
          <p:cNvPicPr/>
          <p:nvPr/>
        </p:nvPicPr>
        <p:blipFill>
          <a:blip r:embed="rId1"/>
          <a:stretch/>
        </p:blipFill>
        <p:spPr>
          <a:xfrm>
            <a:off x="3348000" y="3414600"/>
            <a:ext cx="1647720" cy="137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1936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066280"/>
            <a:ext cx="1951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діате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є частиною єдиного інформаційного простору системи освіти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Жовтневої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ЗОШ І-ІІІ ступенів. Вона являє собою зібрання інформаційних матеріалів на електронних і паперових носіях та забезпечує доступ до них працівників шко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69840" y="-5310000"/>
            <a:ext cx="698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створення медіатеки є забезпечення вільного доступу працівника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невої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-ІІІ ступен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освітніх ресурсів, у тому числі до електронних каталогів та повнотекстових електронних матеріалів навчального, наукового та інформаційного призна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C:\Documents and Settings\user\Мои документы\Мои рисунки\Книги\библиотека.jpg 2.jpg"/>
          <p:cNvPicPr/>
          <p:nvPr/>
        </p:nvPicPr>
        <p:blipFill>
          <a:blip r:embed="rId1"/>
          <a:stretch/>
        </p:blipFill>
        <p:spPr>
          <a:xfrm>
            <a:off x="6372360" y="3500280"/>
            <a:ext cx="19922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шкільної медіатеки – надати фізичний простір і створити середовище для задоволення інформаційних потреб користувачі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C:\Documents and Settings\user\Мои документы\Мои рисунки\Книги\библиотека.jpg 1.jpg"/>
          <p:cNvPicPr/>
          <p:nvPr/>
        </p:nvPicPr>
        <p:blipFill>
          <a:blip r:embed="rId1"/>
          <a:stretch/>
        </p:blipFill>
        <p:spPr>
          <a:xfrm>
            <a:off x="5940360" y="4005360"/>
            <a:ext cx="2243160" cy="1895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C:\Documents and Settings\user\Мои документы\Мои рисунки\Книги\библиотека.jpg 2.jpg"/>
          <p:cNvPicPr/>
          <p:nvPr/>
        </p:nvPicPr>
        <p:blipFill>
          <a:blip r:embed="rId2"/>
          <a:stretch/>
        </p:blipFill>
        <p:spPr>
          <a:xfrm>
            <a:off x="1042920" y="3573360"/>
            <a:ext cx="19922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ультимедіа (від англійських слі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багато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ередовище) – поєднання спеціальних апаратних засобів і програмного забезпечення, що дає змогу на якісно новому рівні сприймати, переробляти і надавати різноманітну інформацію: текстову, графічну, звукову, анімаційну, телевізійну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C:\Documents and Settings\user\Мои документы\Мои рисунки\Камп\AIWMIYCCAG7G6IACAQ591IQCAOQU0FCCASQCWE8CA4GK7HBCAZ3C08MCAUKU0T9CAVMVPWOCAW1WRLCCAAR0GHICAI5M4EPCAJ6KO1XCA6MWDWRCA1XIDNKCAFYUQ5XCAH94SBBCANH5VFWCAGDKV8GCAXTZ8DB.jpg"/>
          <p:cNvPicPr/>
          <p:nvPr/>
        </p:nvPicPr>
        <p:blipFill>
          <a:blip r:embed="rId1"/>
          <a:stretch/>
        </p:blipFill>
        <p:spPr>
          <a:xfrm>
            <a:off x="468360" y="1844640"/>
            <a:ext cx="4176720" cy="30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00"/>
                </a:solidFill>
                <a:latin typeface="Times New Roman"/>
              </a:rPr>
              <a:t>МЕДІАТЕКА ЖОВТНЕВОЇ ЗОШ</a:t>
            </a: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4:31:31Z</dcterms:created>
  <dc:creator>User</dc:creator>
  <dc:description/>
  <dc:language>en-US</dc:language>
  <cp:lastModifiedBy>User</cp:lastModifiedBy>
  <dcterms:modified xsi:type="dcterms:W3CDTF">2014-02-06T13:38:26Z</dcterms:modified>
  <cp:revision>6</cp:revision>
  <dc:subject/>
  <dc:title>МЕДІАТЕКА</dc:title>
</cp:coreProperties>
</file>