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815-39B7-4C91-B1B6-06E47FD2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7E0-59A8-42AC-8440-002F33A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917-E270-4663-BE91-862EDB4A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773-B993-4678-8BDE-E30A2B58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21DC-A910-4225-A531-D0EE2B45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D3ED-AAFB-45BA-8160-15693D0D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0089-24FC-4C64-930D-A4A398B7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360D-21EF-4F18-B79F-F880EA65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D43D-959E-444D-A02D-C918CFBE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81AA-8190-4791-868D-258537F3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05C4-0701-4D15-867D-9A6D53ED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4F5-5A04-465E-BD5D-05D2446E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4C7C-145B-4420-9CEC-16408ED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989A-7711-4E00-95E5-AA723953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FD01-837B-4FA3-9C1C-82C8DBB0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D68E-2F0E-4746-9D5F-E9AB1FF5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77CE-482D-441B-9382-4CC30793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CEF-BEA5-45D4-B684-7A38C9B7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555-7A49-4F93-89E1-953D4AC3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B32-BF67-466E-B0C0-FC627B81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E5C-5364-4E2F-98FC-873483C4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6AF-BF31-4C45-9E7A-DDDD2FD4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A00-158E-4E1E-AD78-C003D8F6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D62-5132-457E-94DA-C1A8F8E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2C83-AB52-4645-9A59-129A344D0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BE15-00ED-48E4-B499-AB101E979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3300"/>
                </a:solidFill>
                <a:latin typeface="Times New Roman"/>
              </a:rPr>
              <a:t>МЕДІАТЕ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Рисунок 1" descr="/Files/images/медиа(1).jpg"/>
          <p:cNvPicPr/>
          <p:nvPr/>
        </p:nvPicPr>
        <p:blipFill>
          <a:blip r:embed="rId1"/>
          <a:stretch/>
        </p:blipFill>
        <p:spPr>
          <a:xfrm>
            <a:off x="3348000" y="3414600"/>
            <a:ext cx="1647720" cy="137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32000" y="3284640"/>
            <a:ext cx="1936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5066280"/>
            <a:ext cx="1951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діате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є частиною єдиного інформаційного простору системи освіти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Жовтневої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ЗОШ І-ІІІ ступенів. Вона являє собою зібрання інформаційних матеріалів на електронних і паперових носіях та забезпечує доступ до них працівників шко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69840" y="-5310000"/>
            <a:ext cx="698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 створення медіатеки є забезпечення вільного доступу працівникам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невої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-ІІІ ступені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освітніх ресурсів, у тому числі до електронних каталогів та повнотекстових електронних матеріалів навчального, наукового та інформаційного призна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C:\Documents and Settings\user\Мои документы\Мои рисунки\Книги\библиотека.jpg 2.jpg"/>
          <p:cNvPicPr/>
          <p:nvPr/>
        </p:nvPicPr>
        <p:blipFill>
          <a:blip r:embed="rId1"/>
          <a:stretch/>
        </p:blipFill>
        <p:spPr>
          <a:xfrm>
            <a:off x="6372360" y="3500280"/>
            <a:ext cx="19922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вдання шкільної медіатеки – надати фізичний простір і створити середовище для задоволення інформаційних потреб користувачі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7" descr="C:\Documents and Settings\user\Мои документы\Мои рисунки\Книги\библиотека.jpg 1.jpg"/>
          <p:cNvPicPr/>
          <p:nvPr/>
        </p:nvPicPr>
        <p:blipFill>
          <a:blip r:embed="rId1"/>
          <a:stretch/>
        </p:blipFill>
        <p:spPr>
          <a:xfrm>
            <a:off x="5940360" y="4005360"/>
            <a:ext cx="2243160" cy="1895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C:\Documents and Settings\user\Мои документы\Мои рисунки\Книги\библиотека.jpg 2.jpg"/>
          <p:cNvPicPr/>
          <p:nvPr/>
        </p:nvPicPr>
        <p:blipFill>
          <a:blip r:embed="rId2"/>
          <a:stretch/>
        </p:blipFill>
        <p:spPr>
          <a:xfrm>
            <a:off x="1042920" y="3573360"/>
            <a:ext cx="19922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ультимедіа (від англійських слі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багато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середовище) – поєднання спеціальних апаратних засобів і програмного забезпечення, що дає змогу на якісно новому рівні сприймати, переробляти і надавати різноманітну інформацію: текстову, графічну, звукову, анімаційну, телевізійну тощ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C:\Documents and Settings\user\Мои документы\Мои рисунки\Камп\AIWMIYCCAG7G6IACAQ591IQCAOQU0FCCASQCWE8CA4GK7HBCAZ3C08MCAUKU0T9CAVMVPWOCAW1WRLCCAAR0GHICAI5M4EPCAJ6KO1XCA6MWDWRCA1XIDNKCAFYUQ5XCAH94SBBCANH5VFWCAGDKV8GCAXTZ8DB.jpg"/>
          <p:cNvPicPr/>
          <p:nvPr/>
        </p:nvPicPr>
        <p:blipFill>
          <a:blip r:embed="rId1"/>
          <a:stretch/>
        </p:blipFill>
        <p:spPr>
          <a:xfrm>
            <a:off x="468360" y="1844640"/>
            <a:ext cx="4176720" cy="30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00"/>
                </a:solidFill>
                <a:latin typeface="Times New Roman"/>
              </a:rPr>
              <a:t>МЕДІАТЕКА ЖОВТНЕВОЇ ЗОШ</a:t>
            </a: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4:31:31Z</dcterms:created>
  <dc:creator>User</dc:creator>
  <dc:description/>
  <dc:language>en-US</dc:language>
  <cp:lastModifiedBy>User</cp:lastModifiedBy>
  <dcterms:modified xsi:type="dcterms:W3CDTF">2014-02-06T13:38:26Z</dcterms:modified>
  <cp:revision>6</cp:revision>
  <dc:subject/>
  <dc:title>МЕДІАТЕКА</dc:title>
</cp:coreProperties>
</file>