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6DD-5DA2-460B-9886-8CC9DF21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C24-7D7E-4874-9954-1632EF6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BF5-4C8D-43F6-AE1C-3750DCE3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77E-8905-494C-A1BE-9D26520E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695-91D7-4307-B421-8B510C28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1EE-B1DB-432E-83F2-EC2F6E1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831-AE81-48B6-82D0-625B81C8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51F8-3E19-4C7D-B965-EFAD505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4184-4FFE-47CF-8029-E2463A5C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3D2A-E1C7-481D-85BF-095BE393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36FC-4CD5-4516-9EA5-0D5CD255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C67-B0F3-48C3-BA81-A8147050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905-00BC-4016-8406-7D171A8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8520-3066-4CD4-99BE-2BEF034F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3C82-6059-4F03-AF39-21B9CBD4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294-6D40-43CC-8E96-124ED1A8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36F3-F285-4D22-A771-E69C48B7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A29-FB4A-4B0B-A5EB-8FB64B7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D34-4760-4A4D-8B04-443AB6E1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437-2E7A-4762-99F0-5285C6BC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B4A-2C67-4D2E-BFA2-705AAD38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BC9-4441-4B5C-9488-5D6AF2C4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2E6-5F3B-42B8-8CA0-CEDE35F0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7E3-BE66-43A2-9D10-63C3E19A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D276-8AFC-42F9-AB8F-50010CD63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3D99-147E-4433-AB24-2E01D685C8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З досвіду роботи педагога-організатора</a:t>
            </a:r>
            <a:br>
              <a:rPr sz="4400"/>
            </a:b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Сугарівської ЗОШ І-ІІІ ст.</a:t>
            </a:r>
            <a:br>
              <a:rPr sz="4400"/>
            </a:b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Власової Марини Сегріївн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Picture 7" descr="54517321_1038917172978284_8694410650727743488_n"/>
          <p:cNvPicPr/>
          <p:nvPr/>
        </p:nvPicPr>
        <p:blipFill>
          <a:blip r:embed="rId1"/>
          <a:stretch/>
        </p:blipFill>
        <p:spPr>
          <a:xfrm>
            <a:off x="1476360" y="3573360"/>
            <a:ext cx="619272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4094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 вересня в селищі Сахновщина та Сахновщинському районі відзначалася 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ічниця визволення району від німецько-фашистських загарбників. Учнівське самоврядування нашої школи взяли активну участь у проведенні заході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42730762_1036793029823797_4069810533224677376_n"/>
          <p:cNvPicPr/>
          <p:nvPr/>
        </p:nvPicPr>
        <p:blipFill>
          <a:blip r:embed="rId1"/>
          <a:stretch/>
        </p:blipFill>
        <p:spPr>
          <a:xfrm>
            <a:off x="5364000" y="18900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42900078_310491376404653_7482824432637968384_n"/>
          <p:cNvPicPr/>
          <p:nvPr/>
        </p:nvPicPr>
        <p:blipFill>
          <a:blip r:embed="rId2"/>
          <a:stretch/>
        </p:blipFill>
        <p:spPr>
          <a:xfrm>
            <a:off x="4932360" y="3789360"/>
            <a:ext cx="3457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345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лучилися до організації та проведення святкування до Дня вчителя. За шкільною традицією провели день учнівського самоврядування та зробили особливий подарунок до цього дня  відеопривітання для вчител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46516985_2230918157145588_2541586789064245248_n"/>
          <p:cNvPicPr/>
          <p:nvPr/>
        </p:nvPicPr>
        <p:blipFill>
          <a:blip r:embed="rId1"/>
          <a:stretch/>
        </p:blipFill>
        <p:spPr>
          <a:xfrm>
            <a:off x="3419640" y="404640"/>
            <a:ext cx="2379600" cy="3025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46793853_370397643697219_1937097011467649024_n"/>
          <p:cNvPicPr/>
          <p:nvPr/>
        </p:nvPicPr>
        <p:blipFill>
          <a:blip r:embed="rId2"/>
          <a:stretch/>
        </p:blipFill>
        <p:spPr>
          <a:xfrm>
            <a:off x="5940360" y="620640"/>
            <a:ext cx="2992680" cy="2755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46521144_1949381425365321_2755120446918623232_n"/>
          <p:cNvPicPr/>
          <p:nvPr/>
        </p:nvPicPr>
        <p:blipFill>
          <a:blip r:embed="rId3"/>
          <a:stretch/>
        </p:blipFill>
        <p:spPr>
          <a:xfrm>
            <a:off x="4211640" y="3789360"/>
            <a:ext cx="3959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10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 рамках тижня історії та права провели засідання учнівського самоврядування Круглий стіл  на тему: «Права дитин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46508506_336056513642329_317916670410620928_n"/>
          <p:cNvPicPr/>
          <p:nvPr/>
        </p:nvPicPr>
        <p:blipFill>
          <a:blip r:embed="rId1"/>
          <a:stretch/>
        </p:blipFill>
        <p:spPr>
          <a:xfrm>
            <a:off x="4643280" y="620640"/>
            <a:ext cx="4105440" cy="2971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49495954_349431962557361_630662414945222656_n"/>
          <p:cNvPicPr/>
          <p:nvPr/>
        </p:nvPicPr>
        <p:blipFill>
          <a:blip r:embed="rId2"/>
          <a:stretch/>
        </p:blipFill>
        <p:spPr>
          <a:xfrm>
            <a:off x="4932360" y="3860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4500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Дня пам’яті жертв голодомору в Україні долучилися до учас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кції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Запали свічку»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46522563_1841076299347624_8529659570723749888_n"/>
          <p:cNvPicPr/>
          <p:nvPr/>
        </p:nvPicPr>
        <p:blipFill>
          <a:blip r:embed="rId1"/>
          <a:stretch/>
        </p:blipFill>
        <p:spPr>
          <a:xfrm>
            <a:off x="4716360" y="260280"/>
            <a:ext cx="424980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46943647_609562146143925_8630867670440345600_n"/>
          <p:cNvPicPr/>
          <p:nvPr/>
        </p:nvPicPr>
        <p:blipFill>
          <a:blip r:embed="rId2"/>
          <a:stretch/>
        </p:blipFill>
        <p:spPr>
          <a:xfrm>
            <a:off x="611280" y="2205000"/>
            <a:ext cx="3463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31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До дня збройних сил України було організовано акцію “ Оберіг дл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аших захисників” та “Малюнки на фронт”, а також взяли участь у зустрічі з воїном АТО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47343862_326130744657255_2106900755423166464_n"/>
          <p:cNvPicPr/>
          <p:nvPr/>
        </p:nvPicPr>
        <p:blipFill>
          <a:blip r:embed="rId1"/>
          <a:stretch/>
        </p:blipFill>
        <p:spPr>
          <a:xfrm>
            <a:off x="3348000" y="18900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47013633_322439641680235_2694805306352861184_n"/>
          <p:cNvPicPr/>
          <p:nvPr/>
        </p:nvPicPr>
        <p:blipFill>
          <a:blip r:embed="rId2"/>
          <a:stretch/>
        </p:blipFill>
        <p:spPr>
          <a:xfrm>
            <a:off x="6443640" y="189000"/>
            <a:ext cx="2484360" cy="309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49301919_1673559176079639_2749448332718899200_n"/>
          <p:cNvPicPr/>
          <p:nvPr/>
        </p:nvPicPr>
        <p:blipFill>
          <a:blip r:embed="rId3"/>
          <a:stretch/>
        </p:blipFill>
        <p:spPr>
          <a:xfrm>
            <a:off x="468360" y="3357720"/>
            <a:ext cx="2736720" cy="32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49209836_2318283211733204_7108048107534811136_n"/>
          <p:cNvPicPr/>
          <p:nvPr/>
        </p:nvPicPr>
        <p:blipFill>
          <a:blip r:embed="rId4"/>
          <a:stretch/>
        </p:blipFill>
        <p:spPr>
          <a:xfrm>
            <a:off x="3635280" y="3068640"/>
            <a:ext cx="5077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31575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9 грудня провели свято “Святий Миколай ти до нас завітай!” для учнів 1-4 клас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49716313_2276073025736153_4425155541517467648_n"/>
          <p:cNvPicPr/>
          <p:nvPr/>
        </p:nvPicPr>
        <p:blipFill>
          <a:blip r:embed="rId1"/>
          <a:stretch/>
        </p:blipFill>
        <p:spPr>
          <a:xfrm>
            <a:off x="4284720" y="189000"/>
            <a:ext cx="4140000" cy="310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49432672_222798328652819_7209971065903120384_n"/>
          <p:cNvPicPr/>
          <p:nvPr/>
        </p:nvPicPr>
        <p:blipFill>
          <a:blip r:embed="rId2"/>
          <a:stretch/>
        </p:blipFill>
        <p:spPr>
          <a:xfrm>
            <a:off x="5076720" y="3429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49435407_786940078322433_2731849420755697664_n"/>
          <p:cNvPicPr/>
          <p:nvPr/>
        </p:nvPicPr>
        <p:blipFill>
          <a:blip r:embed="rId3"/>
          <a:stretch/>
        </p:blipFill>
        <p:spPr>
          <a:xfrm>
            <a:off x="395280" y="3429000"/>
            <a:ext cx="4392720" cy="3187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523800" y="152280"/>
            <a:ext cx="337680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968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571680" indent="-571680">
              <a:buClr>
                <a:srgbClr val="d9d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d9d9ff"/>
                </a:solidFill>
                <a:latin typeface="Arial"/>
              </a:rPr>
              <a:t>Моя самоосвіта</a:t>
            </a:r>
            <a:r>
              <a:rPr b="1" lang="uk-UA" sz="4000" spc="-1" strike="noStrike">
                <a:solidFill>
                  <a:srgbClr val="d9d9ff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d9d9ff"/>
                </a:solidFill>
                <a:latin typeface="Arial"/>
              </a:rPr>
              <a:t>- участь у районних методичних заходах;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d9d9ff"/>
                </a:solidFill>
                <a:latin typeface="Arial"/>
              </a:rPr>
              <a:t>- публікації матеріалів з досвіду роботи у мережі Інтернет (освітній портал </a:t>
            </a: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Super.Urok-UA</a:t>
            </a: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73" name="Picture 4" descr="certificate-44396"/>
          <p:cNvPicPr/>
          <p:nvPr/>
        </p:nvPicPr>
        <p:blipFill>
          <a:blip r:embed="rId1"/>
          <a:stretch/>
        </p:blipFill>
        <p:spPr>
          <a:xfrm>
            <a:off x="5292720" y="1125360"/>
            <a:ext cx="33368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575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9d9ff"/>
                </a:solidFill>
                <a:latin typeface="Times New Roman"/>
              </a:rPr>
              <a:t>Навчаючи – ми виховуємо, а виховуючи – ми навчаємо жити в гармонії із своїм внутрішнім світом, створюємо умови для реалізації внутрішнього потенціалу кожної дитини, розкриття її здібностей, обдарувань та талантів. Головне в цій роботі – сформувати особистість із стійкими національно-патріотичними якостями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51458385_304182110267365_5719864744177827840_n"/>
          <p:cNvPicPr/>
          <p:nvPr/>
        </p:nvPicPr>
        <p:blipFill>
          <a:blip r:embed="rId1"/>
          <a:stretch/>
        </p:blipFill>
        <p:spPr>
          <a:xfrm>
            <a:off x="250920" y="76500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067280" y="475920"/>
            <a:ext cx="4859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ласова Марина Сергії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народження:1988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світа: закінчила у 2011 році ХНПУ імені Г.С. Сковороди і отримала повну вищу освіту за спеціальністю “Початкове навчання” та здобула кваліфікацію викладача педагогіки та методики початкового навч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дагогічний стаж: 8 ро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сада: педагог-органі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прийому на роботу до закладу: 26.08.2014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тегорія: спеціалі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d9d9ff"/>
                </a:solidFill>
                <a:latin typeface="Arial"/>
              </a:rPr>
              <a:t>Моє творче кредо: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іти, як квіти. Доторкнись до кожної з них – і вона задзвенить, і розсиплеться аромат, не схожий один на одно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.О. Сухомлинськ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uk-UA" sz="6000" spc="-1" strike="noStrike">
                <a:solidFill>
                  <a:srgbClr val="d9d9ff"/>
                </a:solidFill>
                <a:latin typeface="Arial"/>
              </a:rPr>
              <a:t>Методична тема, над якою я працюю:</a:t>
            </a:r>
            <a:endParaRPr b="0" lang="en-US" sz="6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Формування і виховання особистості через учнівський колектив шляхом використання інноваційних методів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d9d9ff"/>
                </a:solidFill>
                <a:latin typeface="Arial"/>
              </a:rPr>
              <a:t>Мета: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ю своєї роботи в школі на сучасному етапі вважаю створення умов для багатогранного розвитку і соціалізації кожного школяра у вільний від навчання час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прияти розвитку творчої особистості учні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вання активної позиції кожної особистості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рмонійний розвиток особистост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безпечення виконання учнями своїх обов’язків та захист їхніх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Times New Roman"/>
              </a:rPr>
              <a:t>Основні напрями діяльності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ізація учнівського самоврядування. Традиційні шкільні свята. Організація дозвілля учнів. Доброчинні ярмарки,акції. Підготовка команд КВК, агітбригад. Тренінгові заняття. Участь в конкурсах,фестивалях. Відпочинок та оздоровлення учнів. Формування здорового способу життя школярів. Впровадження інновацій в практику власної педагогічної діяльност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826920" y="244440"/>
            <a:ext cx="801864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а учнівського самовряд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132000" y="1773360"/>
            <a:ext cx="375624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132000" y="1773360"/>
            <a:ext cx="375624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348000" y="2637000"/>
            <a:ext cx="3311640" cy="48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це-презид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140360" y="3429000"/>
            <a:ext cx="1977840" cy="4935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іте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5076720" y="2349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507672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4284720" y="4076640"/>
            <a:ext cx="3585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5148360" y="4005360"/>
            <a:ext cx="647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5940360" y="3933720"/>
            <a:ext cx="158436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6084720" y="3933720"/>
            <a:ext cx="1582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1547640" y="3933720"/>
            <a:ext cx="2592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 flipH="1">
            <a:off x="2843280" y="4005360"/>
            <a:ext cx="15127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8"/>
          <p:cNvSpPr/>
          <p:nvPr/>
        </p:nvSpPr>
        <p:spPr>
          <a:xfrm>
            <a:off x="0" y="4508640"/>
            <a:ext cx="1800360" cy="10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9"/>
          <p:cNvSpPr/>
          <p:nvPr/>
        </p:nvSpPr>
        <p:spPr>
          <a:xfrm>
            <a:off x="1547640" y="5157720"/>
            <a:ext cx="1800360" cy="1130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удов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20"/>
          <p:cNvSpPr/>
          <p:nvPr/>
        </p:nvSpPr>
        <p:spPr>
          <a:xfrm>
            <a:off x="3419640" y="5373720"/>
            <a:ext cx="1657080" cy="1244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дисципліни та поряд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21"/>
          <p:cNvSpPr/>
          <p:nvPr/>
        </p:nvSpPr>
        <p:spPr>
          <a:xfrm>
            <a:off x="5219640" y="5516640"/>
            <a:ext cx="1800360" cy="11001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ртив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22"/>
          <p:cNvSpPr/>
          <p:nvPr/>
        </p:nvSpPr>
        <p:spPr>
          <a:xfrm>
            <a:off x="7020000" y="5300640"/>
            <a:ext cx="1600200" cy="10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дозвіл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3"/>
          <p:cNvSpPr/>
          <p:nvPr/>
        </p:nvSpPr>
        <p:spPr>
          <a:xfrm>
            <a:off x="7543800" y="4437000"/>
            <a:ext cx="16002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інформац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250920" y="33336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9d9ff"/>
                </a:solidFill>
                <a:latin typeface="Times New Roman"/>
              </a:rPr>
              <a:t>Наша ембле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Емблема"/>
          <p:cNvPicPr/>
          <p:nvPr/>
        </p:nvPicPr>
        <p:blipFill>
          <a:blip r:embed="rId1"/>
          <a:stretch/>
        </p:blipFill>
        <p:spPr>
          <a:xfrm>
            <a:off x="250920" y="2421000"/>
            <a:ext cx="4032000" cy="373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Vryaduvanya7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зяли активну участь у підготовці та у проведенні святкової лінійки присвяченої Дню зн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Изображение 034"/>
          <p:cNvPicPr/>
          <p:nvPr/>
        </p:nvPicPr>
        <p:blipFill>
          <a:blip r:embed="rId1"/>
          <a:stretch/>
        </p:blipFill>
        <p:spPr>
          <a:xfrm>
            <a:off x="4859280" y="260280"/>
            <a:ext cx="3313080" cy="270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Изображение 035"/>
          <p:cNvPicPr/>
          <p:nvPr/>
        </p:nvPicPr>
        <p:blipFill>
          <a:blip r:embed="rId2"/>
          <a:stretch/>
        </p:blipFill>
        <p:spPr>
          <a:xfrm>
            <a:off x="900000" y="3357720"/>
            <a:ext cx="3745080" cy="2943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42741153_335471673696057_4687581346132918272_n"/>
          <p:cNvPicPr/>
          <p:nvPr/>
        </p:nvPicPr>
        <p:blipFill>
          <a:blip r:embed="rId3"/>
          <a:stretch/>
        </p:blipFill>
        <p:spPr>
          <a:xfrm>
            <a:off x="5148360" y="3141720"/>
            <a:ext cx="2993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08:55:04Z</dcterms:created>
  <dc:creator>systema</dc:creator>
  <dc:description/>
  <dc:language>en-US</dc:language>
  <cp:lastModifiedBy>Admin</cp:lastModifiedBy>
  <dcterms:modified xsi:type="dcterms:W3CDTF">2019-03-22T07:49:29Z</dcterms:modified>
  <cp:revision>33</cp:revision>
  <dc:subject/>
  <dc:title>З досвіду роботи педагога-організатора Сугарівської ЗОШ І-ІІІ ст. Власової Марини Сегріївни</dc:title>
</cp:coreProperties>
</file>