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12D-22A0-4766-9175-64D14688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49D-C638-4962-8D65-A8767CD4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27D-EB25-46EB-A89D-88CC9204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35E-0A20-44F3-A547-72D3C771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BD63-4D82-4F9C-BF50-37438C64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030C-6A69-460A-88BB-FBE0CF8F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E556-DEF8-4E90-AE1B-4D0A7967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EB6A-FEF0-4B9B-9C73-209A1903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A004-649D-4235-A7D8-0206BB24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48CC-F50E-46F3-B33F-CBE5B544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BE94-2C45-451B-9422-7D1840E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D79-2EF3-4812-86AA-2F330AB0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23A7-5EE1-41EF-94FC-4CB3B9A7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96E8-48AF-4E3E-B190-38FE7A04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150B-1BBC-4EA6-BDA9-1281FFEF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45DD-A288-4422-817B-F0D5E1D2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7BA8-3D80-4CFE-BE4E-70B6B951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3FC-DFBF-4F49-88B6-040D3542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909-C9A0-4C96-96B3-E376E1E3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90B-7520-4BE7-9FB3-41E44593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098-508A-483C-ACCB-A7F45B9C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B69-ECFE-4C5B-AEB9-04E3D7EA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68E-E400-4AEE-A5C7-BE10AD20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A1F-BF87-43FF-8F8E-674C53BE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8297-DAF4-462F-A368-D09D701F5C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A1C2-3F9D-4E7B-9531-01CDF462F7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9d9ff"/>
                </a:solidFill>
                <a:latin typeface="Arial"/>
              </a:rPr>
              <a:t>З досвіду роботи педагога-організатора</a:t>
            </a:r>
            <a:br>
              <a:rPr sz="4400"/>
            </a:br>
            <a:r>
              <a:rPr b="0" lang="uk-UA" sz="4400" spc="-1" strike="noStrike">
                <a:solidFill>
                  <a:srgbClr val="d9d9ff"/>
                </a:solidFill>
                <a:latin typeface="Arial"/>
              </a:rPr>
              <a:t>Сугарівської ЗОШ І-ІІІ ст.</a:t>
            </a:r>
            <a:br>
              <a:rPr sz="4400"/>
            </a:br>
            <a:r>
              <a:rPr b="0" lang="uk-UA" sz="4400" spc="-1" strike="noStrike">
                <a:solidFill>
                  <a:srgbClr val="d9d9ff"/>
                </a:solidFill>
                <a:latin typeface="Arial"/>
              </a:rPr>
              <a:t>Власової Марини Сегріївн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Picture 7" descr="54517321_1038917172978284_8694410650727743488_n"/>
          <p:cNvPicPr/>
          <p:nvPr/>
        </p:nvPicPr>
        <p:blipFill>
          <a:blip r:embed="rId1"/>
          <a:stretch/>
        </p:blipFill>
        <p:spPr>
          <a:xfrm>
            <a:off x="1476360" y="3573360"/>
            <a:ext cx="619272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4094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 вересня в селищі Сахновщина та Сахновщинському районі відзначалася 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ічниця визволення району від німецько-фашистських загарбників. Учнівське самоврядування нашої школи взяли активну участь у проведенні заході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42730762_1036793029823797_4069810533224677376_n"/>
          <p:cNvPicPr/>
          <p:nvPr/>
        </p:nvPicPr>
        <p:blipFill>
          <a:blip r:embed="rId1"/>
          <a:stretch/>
        </p:blipFill>
        <p:spPr>
          <a:xfrm>
            <a:off x="5364000" y="189000"/>
            <a:ext cx="2808360" cy="345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42900078_310491376404653_7482824432637968384_n"/>
          <p:cNvPicPr/>
          <p:nvPr/>
        </p:nvPicPr>
        <p:blipFill>
          <a:blip r:embed="rId2"/>
          <a:stretch/>
        </p:blipFill>
        <p:spPr>
          <a:xfrm>
            <a:off x="4932360" y="3789360"/>
            <a:ext cx="34574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3456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лучилися до організації та проведення святкування до Дня вчителя. За шкільною традицією провели день учнівського самоврядування та зробили особливий подарунок до цього дня  відеопривітання для вчител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46516985_2230918157145588_2541586789064245248_n"/>
          <p:cNvPicPr/>
          <p:nvPr/>
        </p:nvPicPr>
        <p:blipFill>
          <a:blip r:embed="rId1"/>
          <a:stretch/>
        </p:blipFill>
        <p:spPr>
          <a:xfrm>
            <a:off x="3419640" y="404640"/>
            <a:ext cx="2379600" cy="3025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46793853_370397643697219_1937097011467649024_n"/>
          <p:cNvPicPr/>
          <p:nvPr/>
        </p:nvPicPr>
        <p:blipFill>
          <a:blip r:embed="rId2"/>
          <a:stretch/>
        </p:blipFill>
        <p:spPr>
          <a:xfrm>
            <a:off x="5940360" y="620640"/>
            <a:ext cx="2992680" cy="2755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46521144_1949381425365321_2755120446918623232_n"/>
          <p:cNvPicPr/>
          <p:nvPr/>
        </p:nvPicPr>
        <p:blipFill>
          <a:blip r:embed="rId3"/>
          <a:stretch/>
        </p:blipFill>
        <p:spPr>
          <a:xfrm>
            <a:off x="4211640" y="3789360"/>
            <a:ext cx="3959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410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 рамках тижня історії та права провели засідання учнівського самоврядування Круглий стіл  на тему: «Права дитин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46508506_336056513642329_317916670410620928_n"/>
          <p:cNvPicPr/>
          <p:nvPr/>
        </p:nvPicPr>
        <p:blipFill>
          <a:blip r:embed="rId1"/>
          <a:stretch/>
        </p:blipFill>
        <p:spPr>
          <a:xfrm>
            <a:off x="4643280" y="620640"/>
            <a:ext cx="4105440" cy="2971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49495954_349431962557361_630662414945222656_n"/>
          <p:cNvPicPr/>
          <p:nvPr/>
        </p:nvPicPr>
        <p:blipFill>
          <a:blip r:embed="rId2"/>
          <a:stretch/>
        </p:blipFill>
        <p:spPr>
          <a:xfrm>
            <a:off x="4932360" y="38606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0"/>
            <a:ext cx="450072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 Дня пам’яті жертв голодомору в Україні долучилися до учас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акції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Запали свічку»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46522563_1841076299347624_8529659570723749888_n"/>
          <p:cNvPicPr/>
          <p:nvPr/>
        </p:nvPicPr>
        <p:blipFill>
          <a:blip r:embed="rId1"/>
          <a:stretch/>
        </p:blipFill>
        <p:spPr>
          <a:xfrm>
            <a:off x="4716360" y="260280"/>
            <a:ext cx="424980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46943647_609562146143925_8630867670440345600_n"/>
          <p:cNvPicPr/>
          <p:nvPr/>
        </p:nvPicPr>
        <p:blipFill>
          <a:blip r:embed="rId2"/>
          <a:stretch/>
        </p:blipFill>
        <p:spPr>
          <a:xfrm>
            <a:off x="611280" y="2205000"/>
            <a:ext cx="34639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316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До дня збройних сил України було організовано акцію “ Оберіг дл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аших захисників” та “Малюнки на фронт”, а також взяли участь у зустрічі з воїном АТО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47343862_326130744657255_2106900755423166464_n"/>
          <p:cNvPicPr/>
          <p:nvPr/>
        </p:nvPicPr>
        <p:blipFill>
          <a:blip r:embed="rId1"/>
          <a:stretch/>
        </p:blipFill>
        <p:spPr>
          <a:xfrm>
            <a:off x="3348000" y="189000"/>
            <a:ext cx="2859120" cy="3170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47013633_322439641680235_2694805306352861184_n"/>
          <p:cNvPicPr/>
          <p:nvPr/>
        </p:nvPicPr>
        <p:blipFill>
          <a:blip r:embed="rId2"/>
          <a:stretch/>
        </p:blipFill>
        <p:spPr>
          <a:xfrm>
            <a:off x="6443640" y="189000"/>
            <a:ext cx="2484360" cy="3095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49301919_1673559176079639_2749448332718899200_n"/>
          <p:cNvPicPr/>
          <p:nvPr/>
        </p:nvPicPr>
        <p:blipFill>
          <a:blip r:embed="rId3"/>
          <a:stretch/>
        </p:blipFill>
        <p:spPr>
          <a:xfrm>
            <a:off x="468360" y="3357720"/>
            <a:ext cx="2736720" cy="32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49209836_2318283211733204_7108048107534811136_n"/>
          <p:cNvPicPr/>
          <p:nvPr/>
        </p:nvPicPr>
        <p:blipFill>
          <a:blip r:embed="rId4"/>
          <a:stretch/>
        </p:blipFill>
        <p:spPr>
          <a:xfrm>
            <a:off x="3635280" y="3068640"/>
            <a:ext cx="5077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31575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19 грудня провели свято “Святий Миколай ти до нас завітай!” для учнів 1-4 клас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49716313_2276073025736153_4425155541517467648_n"/>
          <p:cNvPicPr/>
          <p:nvPr/>
        </p:nvPicPr>
        <p:blipFill>
          <a:blip r:embed="rId1"/>
          <a:stretch/>
        </p:blipFill>
        <p:spPr>
          <a:xfrm>
            <a:off x="4284720" y="189000"/>
            <a:ext cx="4140000" cy="310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49432672_222798328652819_7209971065903120384_n"/>
          <p:cNvPicPr/>
          <p:nvPr/>
        </p:nvPicPr>
        <p:blipFill>
          <a:blip r:embed="rId2"/>
          <a:stretch/>
        </p:blipFill>
        <p:spPr>
          <a:xfrm>
            <a:off x="5076720" y="342900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49435407_786940078322433_2731849420755697664_n"/>
          <p:cNvPicPr/>
          <p:nvPr/>
        </p:nvPicPr>
        <p:blipFill>
          <a:blip r:embed="rId3"/>
          <a:stretch/>
        </p:blipFill>
        <p:spPr>
          <a:xfrm>
            <a:off x="395280" y="3429000"/>
            <a:ext cx="4392720" cy="31878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523800" y="152280"/>
            <a:ext cx="337680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496872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571680" indent="-571680">
              <a:buClr>
                <a:srgbClr val="d9d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d9d9ff"/>
                </a:solidFill>
                <a:latin typeface="Arial"/>
              </a:rPr>
              <a:t>Моя самоосвіта</a:t>
            </a:r>
            <a:r>
              <a:rPr b="1" lang="uk-UA" sz="4000" spc="-1" strike="noStrike">
                <a:solidFill>
                  <a:srgbClr val="d9d9ff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0" lang="uk-UA" sz="2400" spc="-1" strike="noStrike">
                <a:solidFill>
                  <a:srgbClr val="d9d9ff"/>
                </a:solidFill>
                <a:latin typeface="Arial"/>
              </a:rPr>
              <a:t>- участь у районних методичних заходах;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d9d9ff"/>
                </a:solidFill>
                <a:latin typeface="Arial"/>
              </a:rPr>
              <a:t>- публікації матеріалів з досвіду роботи у мережі Інтернет (освітній портал </a:t>
            </a:r>
            <a:r>
              <a:rPr b="0" lang="ru-RU" sz="2400" spc="-1" strike="noStrike">
                <a:solidFill>
                  <a:srgbClr val="d9d9ff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d9d9ff"/>
                </a:solidFill>
                <a:latin typeface="Arial"/>
              </a:rPr>
              <a:t>Super.Urok-UA</a:t>
            </a:r>
            <a:r>
              <a:rPr b="0" lang="ru-RU" sz="2400" spc="-1" strike="noStrike">
                <a:solidFill>
                  <a:srgbClr val="d9d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73" name="Picture 4" descr="certificate-44396"/>
          <p:cNvPicPr/>
          <p:nvPr/>
        </p:nvPicPr>
        <p:blipFill>
          <a:blip r:embed="rId1"/>
          <a:stretch/>
        </p:blipFill>
        <p:spPr>
          <a:xfrm>
            <a:off x="5292720" y="1125360"/>
            <a:ext cx="333684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075520" cy="575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9d9ff"/>
                </a:solidFill>
                <a:latin typeface="Times New Roman"/>
              </a:rPr>
              <a:t>Навчаючи – ми виховуємо, а виховуючи – ми навчаємо жити в гармонії із своїм внутрішнім світом, створюємо умови для реалізації внутрішнього потенціалу кожної дитини, розкриття її здібностей, обдарувань та талантів. Головне в цій роботі – сформувати особистість із стійкими національно-патріотичними якостями.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0" descr="51458385_304182110267365_5719864744177827840_n"/>
          <p:cNvPicPr/>
          <p:nvPr/>
        </p:nvPicPr>
        <p:blipFill>
          <a:blip r:embed="rId1"/>
          <a:stretch/>
        </p:blipFill>
        <p:spPr>
          <a:xfrm>
            <a:off x="250920" y="765000"/>
            <a:ext cx="3673440" cy="48974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067280" y="475920"/>
            <a:ext cx="48592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ласова Марина Сергії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ата народження:1988 р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світа: закінчила у 2011 році ХНПУ імені Г.С. Сковороди і отримала повну вищу освіту за спеціальністю “Початкове навчання” та здобула кваліфікацію викладача педагогіки та методики початкового навча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едагогічний стаж: 8 ро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сада: педагог-організ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ата прийому на роботу до закладу: 26.08.2014 р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атегорія: спеціалі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d9d9ff"/>
                </a:solidFill>
                <a:latin typeface="Arial"/>
              </a:rPr>
              <a:t>Моє творче кредо: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іти, як квіти. Доторкнись до кожної з них – і вона задзвенить, і розсиплеться аромат, не схожий один на одно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.О. Сухомлинськи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uk-UA" sz="6000" spc="-1" strike="noStrike">
                <a:solidFill>
                  <a:srgbClr val="d9d9ff"/>
                </a:solidFill>
                <a:latin typeface="Arial"/>
              </a:rPr>
              <a:t>Методична тема, над якою я працюю:</a:t>
            </a:r>
            <a:endParaRPr b="0" lang="en-US" sz="6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Формування і виховання особистості через учнівський колектив шляхом використання інноваційних методів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d9d9ff"/>
                </a:solidFill>
                <a:latin typeface="Arial"/>
              </a:rPr>
              <a:t>Мета: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ю своєї роботи в школі на сучасному етапі вважаю створення умов для багатогранного розвитку і соціалізації кожного школяра у вільний від навчання час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прияти розвитку творчої особистості учні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ування активної позиції кожної особистості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рмонійний розвиток особистості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абезпечення виконання учнями своїх обов’язків та захист їхніх пр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Times New Roman"/>
              </a:rPr>
              <a:t>Основні напрями діяльності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ізація учнівського самоврядування. Традиційні шкільні свята. Організація дозвілля учнів. Доброчинні ярмарки,акції. Підготовка команд КВК, агітбригад. Тренінгові заняття. Участь в конкурсах,фестивалях. Відпочинок та оздоровлення учнів. Формування здорового способу життя школярів. Впровадження інновацій в практику власної педагогічної діяльност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826920" y="244440"/>
            <a:ext cx="801864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уктура учнівського самоврядува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132000" y="1773360"/>
            <a:ext cx="3756240" cy="547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езид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132000" y="1773360"/>
            <a:ext cx="3756240" cy="547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езид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3348000" y="2637000"/>
            <a:ext cx="3311640" cy="48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це-президен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140360" y="3429000"/>
            <a:ext cx="1977840" cy="4935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міте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5076720" y="2349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5076720" y="3213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 flipH="1">
            <a:off x="4284720" y="4076640"/>
            <a:ext cx="3585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5148360" y="4005360"/>
            <a:ext cx="647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5940360" y="3933720"/>
            <a:ext cx="158436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6084720" y="3933720"/>
            <a:ext cx="15829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1547640" y="3933720"/>
            <a:ext cx="2592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 flipH="1">
            <a:off x="2843280" y="4005360"/>
            <a:ext cx="151272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8"/>
          <p:cNvSpPr/>
          <p:nvPr/>
        </p:nvSpPr>
        <p:spPr>
          <a:xfrm>
            <a:off x="0" y="4508640"/>
            <a:ext cx="1800360" cy="108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9"/>
          <p:cNvSpPr/>
          <p:nvPr/>
        </p:nvSpPr>
        <p:spPr>
          <a:xfrm>
            <a:off x="1547640" y="5157720"/>
            <a:ext cx="1800360" cy="1130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рудов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20"/>
          <p:cNvSpPr/>
          <p:nvPr/>
        </p:nvSpPr>
        <p:spPr>
          <a:xfrm>
            <a:off x="3419640" y="5373720"/>
            <a:ext cx="1657080" cy="1244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ітет дисципліни та порядк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21"/>
          <p:cNvSpPr/>
          <p:nvPr/>
        </p:nvSpPr>
        <p:spPr>
          <a:xfrm>
            <a:off x="5219640" y="5516640"/>
            <a:ext cx="1800360" cy="11001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ортивн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22"/>
          <p:cNvSpPr/>
          <p:nvPr/>
        </p:nvSpPr>
        <p:spPr>
          <a:xfrm>
            <a:off x="7020000" y="5300640"/>
            <a:ext cx="1600200" cy="10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ітет дозвілл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3"/>
          <p:cNvSpPr/>
          <p:nvPr/>
        </p:nvSpPr>
        <p:spPr>
          <a:xfrm>
            <a:off x="7543800" y="4437000"/>
            <a:ext cx="16002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ітет інформаці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250920" y="33336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9d9ff"/>
                </a:solidFill>
                <a:latin typeface="Times New Roman"/>
              </a:rPr>
              <a:t>Наша емблем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Емблема"/>
          <p:cNvPicPr/>
          <p:nvPr/>
        </p:nvPicPr>
        <p:blipFill>
          <a:blip r:embed="rId1"/>
          <a:stretch/>
        </p:blipFill>
        <p:spPr>
          <a:xfrm>
            <a:off x="250920" y="2421000"/>
            <a:ext cx="4032000" cy="3733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Vryaduvanya7"/>
          <p:cNvPicPr/>
          <p:nvPr/>
        </p:nvPicPr>
        <p:blipFill>
          <a:blip r:embed="rId2"/>
          <a:stretch/>
        </p:blipFill>
        <p:spPr>
          <a:xfrm>
            <a:off x="4500720" y="549360"/>
            <a:ext cx="439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зяли активну участь у підготовці та у проведенні святкової лінійки присвяченої Дню зн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Изображение 034"/>
          <p:cNvPicPr/>
          <p:nvPr/>
        </p:nvPicPr>
        <p:blipFill>
          <a:blip r:embed="rId1"/>
          <a:stretch/>
        </p:blipFill>
        <p:spPr>
          <a:xfrm>
            <a:off x="4859280" y="260280"/>
            <a:ext cx="3313080" cy="270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Изображение 035"/>
          <p:cNvPicPr/>
          <p:nvPr/>
        </p:nvPicPr>
        <p:blipFill>
          <a:blip r:embed="rId2"/>
          <a:stretch/>
        </p:blipFill>
        <p:spPr>
          <a:xfrm>
            <a:off x="900000" y="3357720"/>
            <a:ext cx="3745080" cy="2943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42741153_335471673696057_4687581346132918272_n"/>
          <p:cNvPicPr/>
          <p:nvPr/>
        </p:nvPicPr>
        <p:blipFill>
          <a:blip r:embed="rId3"/>
          <a:stretch/>
        </p:blipFill>
        <p:spPr>
          <a:xfrm>
            <a:off x="5148360" y="3141720"/>
            <a:ext cx="29937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9T08:55:04Z</dcterms:created>
  <dc:creator>systema</dc:creator>
  <dc:description/>
  <dc:language>en-US</dc:language>
  <cp:lastModifiedBy>Admin</cp:lastModifiedBy>
  <dcterms:modified xsi:type="dcterms:W3CDTF">2019-03-22T07:49:29Z</dcterms:modified>
  <cp:revision>33</cp:revision>
  <dc:subject/>
  <dc:title>З досвіду роботи педагога-організатора Сугарівської ЗОШ І-ІІІ ст. Власової Марини Сегріївни</dc:title>
</cp:coreProperties>
</file>