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20.png" ContentType="image/png"/>
  <Override PartName="/ppt/media/image57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2323-87F4-473D-A7E1-C1C792F73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C412D-691C-43DF-8A01-9B1AFD4EBB4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AF586AF-3CD5-403B-A167-D81E0A0238B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33A4F-C62B-4257-BFE2-71B229BB0A4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4EA0A1-75F0-4D44-B6CC-93C6AFD454B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845-0C45-463F-895E-2CAE0B0F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BC0-DD83-45DE-8D7D-C874957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F1A-7E5F-4136-90FA-7B887B1F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490-4880-43A8-A8BF-C459BCB1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B5B-9A80-4841-A69B-9555A151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087-AE60-4E5F-97D9-19F22D0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579-08B4-4E7E-9FA8-38F8BE71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12F-F6C4-4D7E-A9D1-7D20EF29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1BB-C0E1-46AA-B687-1FE55351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6FB-7413-438A-9618-E365548D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809-F57A-418D-BD24-6362CB3A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D93-725A-40D4-AF96-E455163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FD0B-6732-4A63-B71F-2B1024933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robne@zno-kharkiv.org.ua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0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16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10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35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35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80000" y="836640"/>
            <a:ext cx="146844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3924360" y="2421000"/>
            <a:ext cx="14396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ВНІШНЄ</a:t>
            </a:r>
            <a:r>
              <a:rPr b="0" lang="uk-UA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ЗАЛЕЖНЕ </a:t>
            </a:r>
            <a:br>
              <a:rPr sz="1400"/>
            </a:b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ІН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50920" y="3933720"/>
            <a:ext cx="8675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</a:rPr>
              <a:t>АКТУАЛЬНІ ПИТАННЯ ПІДГОТОВКИ ТА ПРОВЕДЕННЯ ЗНО-20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63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прийому заяв і документі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Вступник може подати заяву (заяви) в паперовій або в електронній формі не більше ніж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до п’яти вищих навчальних закладів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України та не більше ніж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а три напрями підготовки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(на три спеціальності) у кожному з ни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проведення конкурсного відбор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Для здобуття освітньо-кваліфікаційного рівня бакалавра (спеціаліста, магістра медичного та ветеринарно-медичного спрямувань)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е нижче 124 балів з непрофільних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конкурсних предметів та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не нижче 140 балів з профільних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конкурсних предметі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lnSpc>
                <a:spcPct val="80000"/>
              </a:lnSpc>
              <a:spcBef>
                <a:spcPts val="476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Порядок обчислення конкурсного бал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конкурсний ба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ума балів сертифіката з конкурсних предметів (творчих конкурсів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ередній бал атеста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8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додаткові ба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897200" y="189000"/>
            <a:ext cx="6943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Умов прийому до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58560" y="765000"/>
            <a:ext cx="7705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6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ерелік конкурсних предме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ницькі університети мають право визначати перелік конкурсних предме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наразі є 14 дослідницьких університеті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економічний університет ім. В. П. Гетьма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ий національний університет ім. Т. Г. Шевч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ий національний університет ім. І. Я. Фра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юридична академія України ім. Ярослава Мудр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«Харківський політехнічний інститу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національний університет ім. В. Н. Каразі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авіаційний університ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гірничий університет Украї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Києво-Могилянська академі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Львівська політехні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«Острозька академі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технічний університет України «Київський політехнічний інститу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ідноукраїнський національний університет ім. Володимира Да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1897200" y="189000"/>
            <a:ext cx="6943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ливості Умов прийому до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НАПРЯМИ СПІЛЬНОЇ ДІЯЛЬ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32000" y="1268280"/>
            <a:ext cx="7020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цій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одична підтри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робне 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рганізаційна робота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920" y="2492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Заголовок 1"/>
          <p:cNvSpPr/>
          <p:nvPr/>
        </p:nvSpPr>
        <p:spPr>
          <a:xfrm>
            <a:off x="2303640" y="-243000"/>
            <a:ext cx="68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imes New Roman"/>
              </a:rPr>
              <a:t>Проведення уроків і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60280"/>
            <a:ext cx="2411280" cy="63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91 % ЗНЗ Харківської області провели уроки і надіслали інформаці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м.Харків – 94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область – 89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89160" y="549360"/>
            <a:ext cx="515484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: сайти Р(М)В(У)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341360"/>
            <a:ext cx="720072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мативні документи ЗНО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віти 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бне ЗНО-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НО –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рх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илання на сайти УЦОЯО та ХРЦО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інформаційних куточків «ЗНО-2014» у кожному ЗН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 уніфікованою інформацією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до 13.01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рганізація спільних з випускниками батьківських зборів з використання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іфікован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езентації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Адміністрування” сайт ХРЦОЯ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13.01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на сайті ХРЦОЯ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новлювати інформацію на сайтах Р(М)В(У)О розділи щодо ЗН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34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апробація тестових завдань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348000" y="1268280"/>
            <a:ext cx="3809880" cy="527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:</a:t>
            </a:r>
            <a:br>
              <a:rPr sz="32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графік науково-практичних семінарів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95640" y="1773360"/>
          <a:ext cx="6553080" cy="3849480"/>
        </p:xfrm>
        <a:graphic>
          <a:graphicData uri="http://schemas.openxmlformats.org/drawingml/2006/table">
            <a:tbl>
              <a:tblPr/>
              <a:tblGrid>
                <a:gridCol w="2508120"/>
                <a:gridCol w="1432080"/>
                <a:gridCol w="2612880"/>
              </a:tblGrid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сти з базов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циплін район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іських) методич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інеті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і, я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ладають предмети, щ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осяться на ЗН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говані Р(М)В(У)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 виконання л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учень від 27.11.2013 р.).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Диаграмма 12" descr=""/>
          <p:cNvPicPr/>
          <p:nvPr/>
        </p:nvPicPr>
        <p:blipFill>
          <a:blip r:embed="rId1"/>
          <a:stretch/>
        </p:blipFill>
        <p:spPr>
          <a:xfrm>
            <a:off x="0" y="831960"/>
            <a:ext cx="8915400" cy="6026040"/>
          </a:xfrm>
          <a:prstGeom prst="rect">
            <a:avLst/>
          </a:prstGeom>
          <a:ln w="0">
            <a:noFill/>
          </a:ln>
        </p:spPr>
      </p:pic>
      <p:sp>
        <p:nvSpPr>
          <p:cNvPr id="54" name="Line 138"/>
          <p:cNvSpPr/>
          <p:nvPr/>
        </p:nvSpPr>
        <p:spPr>
          <a:xfrm flipV="1">
            <a:off x="1219320" y="26668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8"/>
          <p:cNvSpPr/>
          <p:nvPr/>
        </p:nvSpPr>
        <p:spPr>
          <a:xfrm flipV="1">
            <a:off x="2209680" y="2057040"/>
            <a:ext cx="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8"/>
          <p:cNvSpPr/>
          <p:nvPr/>
        </p:nvSpPr>
        <p:spPr>
          <a:xfrm flipH="1" flipV="1">
            <a:off x="3200040" y="1828800"/>
            <a:ext cx="3240" cy="52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8"/>
          <p:cNvSpPr/>
          <p:nvPr/>
        </p:nvSpPr>
        <p:spPr>
          <a:xfrm flipV="1">
            <a:off x="4191120" y="3123720"/>
            <a:ext cx="0" cy="2133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8"/>
          <p:cNvSpPr/>
          <p:nvPr/>
        </p:nvSpPr>
        <p:spPr>
          <a:xfrm flipV="1">
            <a:off x="5181480" y="31240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8"/>
          <p:cNvSpPr/>
          <p:nvPr/>
        </p:nvSpPr>
        <p:spPr>
          <a:xfrm flipV="1">
            <a:off x="6172200" y="228600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8"/>
          <p:cNvSpPr/>
          <p:nvPr/>
        </p:nvSpPr>
        <p:spPr>
          <a:xfrm flipV="1">
            <a:off x="7162920" y="312408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8"/>
          <p:cNvSpPr/>
          <p:nvPr/>
        </p:nvSpPr>
        <p:spPr>
          <a:xfrm flipV="1">
            <a:off x="8153280" y="2057040"/>
            <a:ext cx="0" cy="3429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ИЧНА ПІДТР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7640" y="1916280"/>
            <a:ext cx="70218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доведення до кожного випускника змістовної інформації з використанням матеріалів методичних семін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ання доступу до Інтернет з метою ознайомлення з інформацією щодо програм, характеристик тестів  та тестів минулих років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розділ “Методичний порадник” сайт ХРЦОЯ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400" spc="-1" strike="noStrike">
                <a:solidFill>
                  <a:srgbClr val="ff3300"/>
                </a:solidFill>
                <a:latin typeface="Arial"/>
              </a:rPr>
              <a:t>протягом навчального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2636640"/>
            <a:ext cx="705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5075280" cy="623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96840" y="188640"/>
            <a:ext cx="7149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47280" y="765000"/>
            <a:ext cx="7417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це проведення: м. Балаклія, м. Красногр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Куп’янськ, м. Лозова, м. Харків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і ВНЗ І-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835280" y="2060640"/>
          <a:ext cx="6840360" cy="4487760"/>
        </p:xfrm>
        <a:graphic>
          <a:graphicData uri="http://schemas.openxmlformats.org/drawingml/2006/table">
            <a:tbl>
              <a:tblPr/>
              <a:tblGrid>
                <a:gridCol w="3402720"/>
                <a:gridCol w="3437640"/>
              </a:tblGrid>
              <a:tr h="46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зня 2014 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зня 2014 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5520">
                <a:tc>
                  <a:txBody>
                    <a:bodyPr anchor="t">
                      <a:noAutofit/>
                    </a:bodyPr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їнська мова і лі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ійська м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світня істор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оземна мова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торія Украї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олог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81200" indent="-781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а лі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БНЕ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07640" y="1483920"/>
            <a:ext cx="7021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ування учасників щодо необхідності отримання Запрошення із сторінки “Особистий кабінет”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розділ “Пробне ЗНО” сайт ХРЦОЯ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березня 2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ування учасників щодо можливості отримання рейтингового результату на сторінці “Особистий кабінет” (за умови внесення відповідей в електронний бланк після тестува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з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квітня 201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У разі втрати паролю та коду направляти електронний запит на відновлення, вказавши прізвище, ім’я та по-батькові, контактний номер телефону на електронну пош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bne@zno-kharkiv.org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1440" y="836640"/>
            <a:ext cx="9145440" cy="5475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013360"/>
            <a:ext cx="15130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692360" y="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САЙТ ХР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10922" t="21131" r="51871" b="8737"/>
          <a:stretch/>
        </p:blipFill>
        <p:spPr>
          <a:xfrm>
            <a:off x="2050920" y="0"/>
            <a:ext cx="5504040" cy="684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1640" y="2565360"/>
            <a:ext cx="705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ОРГАНІЗАЦІЙ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547640" y="0"/>
            <a:ext cx="7417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ОКРУГИ 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908000" y="765000"/>
            <a:ext cx="705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бір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20.01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-24.01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готовка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2.02.-31.03.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ування бази даних персоналу пунктів пробного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2.02.-21.02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установчих нарад пробного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10.03.-22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пробного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22.03.2014, 29.03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ування бази даних персоналу пунктів тесту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7.04.-18.04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установчих на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.05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0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12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7600" indent="-237600"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03.06.-27.0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i="1" lang="uk-UA" sz="1800" spc="-1" strike="noStrike">
                <a:solidFill>
                  <a:srgbClr val="ff3300"/>
                </a:solidFill>
                <a:latin typeface="Arial"/>
              </a:rPr>
              <a:t>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1640" y="2565360"/>
            <a:ext cx="705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ільше 180 балі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Диаграмма 9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9528120" cy="6099120"/>
          </a:xfrm>
          <a:prstGeom prst="rect">
            <a:avLst/>
          </a:prstGeom>
          <a:ln w="0">
            <a:noFill/>
          </a:ln>
        </p:spPr>
      </p:pic>
      <p:sp>
        <p:nvSpPr>
          <p:cNvPr id="64" name="Line 16"/>
          <p:cNvSpPr/>
          <p:nvPr/>
        </p:nvSpPr>
        <p:spPr>
          <a:xfrm flipV="1">
            <a:off x="182880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2743200" y="3276720"/>
            <a:ext cx="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3733920" y="2971440"/>
            <a:ext cx="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4648320" y="3581280"/>
            <a:ext cx="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V="1">
            <a:off x="5638680" y="220932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V="1">
            <a:off x="6629400" y="2361960"/>
            <a:ext cx="0" cy="99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7543800" y="25142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 flipV="1">
            <a:off x="8532720" y="184428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83808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309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мережа пунктів реєстр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22400" y="925560"/>
          <a:ext cx="7056360" cy="5830920"/>
        </p:xfrm>
        <a:graphic>
          <a:graphicData uri="http://schemas.openxmlformats.org/drawingml/2006/table">
            <a:tbl>
              <a:tblPr/>
              <a:tblGrid>
                <a:gridCol w="514440"/>
                <a:gridCol w="1573200"/>
                <a:gridCol w="2808360"/>
                <a:gridCol w="2160360"/>
              </a:tblGrid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ташування П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установи, закладу освіти, в приміщенні якого розташований пункт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штова адреса пункту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Красно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градський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дж комунального закладу “Харківська гуманітарно-педагогічна академія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304, Харківська обл.,  м.Красноград,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ька,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Куп’янсь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ий заклад охорони здоров’я «Куп’янський  медичний коледж імені Марії Шкарлетової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705,  Харківська область  м. Куп’янсь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03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1Травня,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Ло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зівська філія Харківського автомобільно-дорожного техніку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02, Харківська область,  м. Лозова,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крорайон № 9,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Балакл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лійська філі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ого закладу «Харківська гуманітарно-педагогічна академія» Харківської обласної 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00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а область,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. Балаклія, пл.В.Й.Казмірука,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278920" y="5589720"/>
            <a:ext cx="865080" cy="1268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698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режа пунктів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692280"/>
          <a:ext cx="7610760" cy="5949720"/>
        </p:xfrm>
        <a:graphic>
          <a:graphicData uri="http://schemas.openxmlformats.org/drawingml/2006/table">
            <a:tbl>
              <a:tblPr/>
              <a:tblGrid>
                <a:gridCol w="421920"/>
                <a:gridCol w="333360"/>
                <a:gridCol w="4322520"/>
                <a:gridCol w="2532960"/>
              </a:tblGrid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імені В.Н.Каразі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77, м. Харкі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-н Свободи,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технічний університет «Харківський політехнічний інститу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 вул. Фрунзе, 21, корп. У2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економічний університет імені Семена Кузнец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1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Леніна, 9-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радіоелектроні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166, м. Харкі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Леніна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університет міського господарства імені О.М.Бекет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Маршала Бажанова, 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автомобільно-дорожній уні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Петровського,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іверситет будівництва та архітекту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2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Сумська,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їнська державна академія залізничного транспор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0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дан Феєрбаха,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77200" y="5734080"/>
            <a:ext cx="766800" cy="1123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734080"/>
            <a:ext cx="86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: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мережа пунктів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87280" y="735120"/>
          <a:ext cx="6985080" cy="6122880"/>
        </p:xfrm>
        <a:graphic>
          <a:graphicData uri="http://schemas.openxmlformats.org/drawingml/2006/table">
            <a:tbl>
              <a:tblPr/>
              <a:tblGrid>
                <a:gridCol w="520920"/>
                <a:gridCol w="3909960"/>
                <a:gridCol w="255420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національний аграрний університет імені В.В.Докучає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483, Харківська область, Харківський район, п/в «Комуніст-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державний університет харчування та торгів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1, 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Клочківська,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машинобудівн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0, м. Харків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ІІІ Інтернаціоналу,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ий аерокосмічний університет імені М.Є.Жуковського «Харківський авіаційний інститу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70, м.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л. Чкалова, 17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автомобільно-дорожній техні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1, м.Харків,                вул.Котельниківська,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інститут фінансів Українського державного університету фінансів та міжнародної торгівл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03, м. Харків, пров. Плетньовський,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ий регіональний інститут державного управління Національної академії державного управління при Президентові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50, Украї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Харкі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п. Московський,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механічний технікум Харківської національної академії міського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038, м. Харків, вул. Крупської, 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29600" y="5661000"/>
            <a:ext cx="816120" cy="1197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7640" y="115920"/>
            <a:ext cx="64724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 (03.01-05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1908000" y="83664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ідготувати комплект докумен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пі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пор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відоцтва про народже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від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з місця навчання за визначеною формо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опію атестат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токар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зміром 3х4 см (для документі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копіях написати «Згідн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 оригіналом»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ставити підпи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начити прізвище, ініціали та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3"/>
          <p:cNvSpPr/>
          <p:nvPr/>
        </p:nvSpPr>
        <p:spPr>
          <a:xfrm>
            <a:off x="1979640" y="2924280"/>
            <a:ext cx="6967440" cy="2008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формити Заяву-реєстраційну картк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мостійно а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 пункті реєстрації)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вантажити з сайту ХРЦОЯО спеціальну програ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поля у програм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Заяву-реєстраційну кар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внити власноруч необхідну частину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клеї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і фотокартки у відведені місця Зая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друкувати Контрольно-інформаційний 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зберігається в абітурієнт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1979640" y="5084640"/>
            <a:ext cx="6985080" cy="576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діслати поштою комплект документів разом і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Заявою-реєстраційною карткою 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1979640" y="5805360"/>
            <a:ext cx="6985080" cy="648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тримати поштою </a:t>
            </a: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Сертифік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ahoma"/>
              </a:rPr>
              <a:t>реєстраційну картку, інформаційний бюлет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229600" y="5661000"/>
            <a:ext cx="816120" cy="11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661000"/>
            <a:ext cx="920880" cy="1197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924200" y="101520"/>
            <a:ext cx="5524200" cy="66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1873080" y="136440"/>
            <a:ext cx="1467000" cy="71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24200" y="3789360"/>
            <a:ext cx="2863800" cy="37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89080" y="6418440"/>
            <a:ext cx="979560" cy="37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53000" y="6405480"/>
            <a:ext cx="3627360" cy="37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64000" y="1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! </a:t>
            </a: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Дата та номер видачі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72151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ЕРЕЄСТРАЦІЯ (до 19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1908000" y="3429000"/>
            <a:ext cx="6985080" cy="259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у реєстрації (за рішенн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гламентної комісії – подання не всіх документі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належне оформлення комплекту документів тощ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-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реєстраційних документів, усунувши причи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о стали підставою для відм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908000" y="1341360"/>
            <a:ext cx="6985080" cy="1871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і внесення змін до реєстраційних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о повторно пройти реєстрацію - надісл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т реєстраційних документів і раніше отрим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тифі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0"/>
          <p:cNvSpPr/>
          <p:nvPr/>
        </p:nvSpPr>
        <p:spPr>
          <a:xfrm>
            <a:off x="1908000" y="692280"/>
            <a:ext cx="6985080" cy="1993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втрати або пошкодження Сертифік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обхідно оформити його дублікат у ХРЦОЯ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1 квітня 201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0"/>
          <p:cNvSpPr/>
          <p:nvPr/>
        </p:nvSpPr>
        <p:spPr>
          <a:xfrm>
            <a:off x="1908000" y="3213000"/>
            <a:ext cx="7047000" cy="2438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відмови від проходження ЗНО необхі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іслати отриманий Сертифікат та відповід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яву про відмову до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769080" cy="418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5343480" y="1522440"/>
            <a:ext cx="1523880" cy="27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96120" y="1541520"/>
            <a:ext cx="1523880" cy="27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6842160" cy="4699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5589720" cy="39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5257800" cy="36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0"/>
          <p:cNvSpPr/>
          <p:nvPr/>
        </p:nvSpPr>
        <p:spPr>
          <a:xfrm>
            <a:off x="1268280" y="619200"/>
            <a:ext cx="7705800" cy="1782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ержавного контролю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триманням законодавства щодо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ї та проведення 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ІНЗ, акт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1268280" y="2635200"/>
            <a:ext cx="7705800" cy="1584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громадського спостереження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 “ОПОРА”, зві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258920" y="4581360"/>
            <a:ext cx="7705800" cy="15843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спостереження за проведенням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-2013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РЦОЯО, ак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1908000" y="836640"/>
            <a:ext cx="6985080" cy="1994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ворюється на сайті УЦОЯ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сля закінч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ступ здійснюється за номером Сертифіката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pin-кодом, указаним у нь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89000" y="3095640"/>
            <a:ext cx="661536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/>
          <p:cNvSpPr/>
          <p:nvPr/>
        </p:nvSpPr>
        <p:spPr>
          <a:xfrm>
            <a:off x="1835280" y="1341360"/>
            <a:ext cx="6984720" cy="4680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я щодо реєстрацій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ий бюлете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кладений мовою, вибраною під час реєст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Запрошення-перепустка і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значенням місця та часу проходження З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у можна роздруку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іщується Інформаційна картка із результа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НО, яку необхідно роздруку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ІНФОРМАЦІЙНА СТОРІ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3887640" cy="52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283360" y="1484280"/>
            <a:ext cx="3611520" cy="51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98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РЕЄСТРАЦІ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79640" y="1483920"/>
            <a:ext cx="702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27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дання доступу до Інтернет та оргтехніки з метою реєстрації випускників та доступу до їх інформаційних сторі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Arial"/>
              </a:rPr>
              <a:t>з 13.01.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ДІ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907920"/>
            <a:ext cx="6697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981000"/>
            <a:ext cx="692316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ня інформаційної кампан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формлення інформаційних куточків щодо ЗНО у кожному З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спільних батьківських зборів для батьків та випускників з питань 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омадські зустріч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роки інфор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формлення предметних інформаційних куточків  щодо змісту тес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ші форми ро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снювальної роботи щодо реєстр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ача довідок для реєстрації на 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формлення розділів ЗНО на сайтах Р(М)В(У)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80360" y="3718080"/>
            <a:ext cx="863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058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ГРАМА ДЛЯ РЕЄСТР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7603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1052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9" descr=""/>
          <p:cNvPicPr/>
          <p:nvPr/>
        </p:nvPicPr>
        <p:blipFill>
          <a:blip r:embed="rId1"/>
          <a:srcRect l="24508" t="4887" r="25001" b="3569"/>
          <a:stretch/>
        </p:blipFill>
        <p:spPr>
          <a:xfrm>
            <a:off x="2916360" y="0"/>
            <a:ext cx="46148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Rectangle 7"/>
          <p:cNvSpPr/>
          <p:nvPr/>
        </p:nvSpPr>
        <p:spPr>
          <a:xfrm>
            <a:off x="4716360" y="476280"/>
            <a:ext cx="2847960" cy="392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2916360" y="1125360"/>
            <a:ext cx="460836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2916360" y="2637000"/>
            <a:ext cx="4608360" cy="976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2916360" y="5084640"/>
            <a:ext cx="4568760" cy="20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916360" y="5373720"/>
            <a:ext cx="4568760" cy="20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"/>
          <p:cNvPicPr/>
          <p:nvPr/>
        </p:nvPicPr>
        <p:blipFill>
          <a:blip r:embed="rId1"/>
          <a:srcRect l="27460" t="9316" r="25001" b="18333"/>
          <a:stretch/>
        </p:blipFill>
        <p:spPr>
          <a:xfrm>
            <a:off x="2484360" y="0"/>
            <a:ext cx="5203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Rectangle 13"/>
          <p:cNvSpPr/>
          <p:nvPr/>
        </p:nvSpPr>
        <p:spPr>
          <a:xfrm>
            <a:off x="2484360" y="981000"/>
            <a:ext cx="51832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2484360" y="3645000"/>
            <a:ext cx="5183280" cy="93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"/>
          <p:cNvPicPr/>
          <p:nvPr/>
        </p:nvPicPr>
        <p:blipFill>
          <a:blip r:embed="rId1"/>
          <a:srcRect l="24508" t="5625" r="25001" b="5046"/>
          <a:stretch/>
        </p:blipFill>
        <p:spPr>
          <a:xfrm>
            <a:off x="2556000" y="0"/>
            <a:ext cx="48956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2" name="Rectangle 11"/>
          <p:cNvSpPr/>
          <p:nvPr/>
        </p:nvSpPr>
        <p:spPr>
          <a:xfrm>
            <a:off x="2556000" y="3357720"/>
            <a:ext cx="4895640" cy="33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516720" y="189000"/>
            <a:ext cx="86508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512720" cy="1220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0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ДІ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946080"/>
            <a:ext cx="9124920" cy="587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084720" y="630864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6524640"/>
            <a:ext cx="8066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3280" y="630864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З найкращими побажаннями колектив ХРЦОЯ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057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НОРМАТИВНА Б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836640"/>
            <a:ext cx="7057800" cy="61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країни від 03.09.2013 р. №12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овнішнє незалежне оцінювання навчальних досягнень осіб, які виявили бажання вступати до вищих навчальних закладів України в 2014 році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013 р. 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тивно-правових актів щодо проведення зовнішнього незалежного оцінювання навчальних досягнень випускників навчальних закладів системи загальної середньої освіти в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013 р. 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Календарного плану підготовки та проведення зовнішнього незалежного оцінювання навчальних досягнень осіб, які виявили бажання вступати до вищих навчальних закладів України в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29.10.2013 р. №15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Умов прийому до вищих навчальних закладів України у 2014 році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з Міністерства освіти і науки України від 03.12.2013 р. №16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 затвердження програм для проведення зовнішнього незалежного оцінювання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47280" y="1052280"/>
            <a:ext cx="741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оземні мови (англійська, французь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мецька, іспанська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ська мова і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05.06, 0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сійська мов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.06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тематик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ограф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зик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орія Україн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ім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есвітня істор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ітова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лошення результатів З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 08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ведення додаткової сесії З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4.07 - 11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835280" y="0"/>
            <a:ext cx="705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КАЛЕНДАР ЗНО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33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AutoShape 20"/>
          <p:cNvGrpSpPr/>
          <p:nvPr/>
        </p:nvGrpSpPr>
        <p:grpSpPr>
          <a:xfrm>
            <a:off x="2546280" y="414360"/>
            <a:ext cx="2087640" cy="1079640"/>
            <a:chOff x="2546280" y="414360"/>
            <a:chExt cx="2087640" cy="1079640"/>
          </a:xfrm>
        </p:grpSpPr>
        <p:pic>
          <p:nvPicPr>
            <p:cNvPr id="91" name="AutoShape 20" descr=""/>
            <p:cNvPicPr/>
            <p:nvPr/>
          </p:nvPicPr>
          <p:blipFill>
            <a:blip r:embed="rId1"/>
            <a:stretch/>
          </p:blipFill>
          <p:spPr>
            <a:xfrm>
              <a:off x="2546280" y="414360"/>
              <a:ext cx="2087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603880" y="525240"/>
              <a:ext cx="1919520" cy="910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КРАЇНСЬКА МО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ЛІТЕРА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05.06, 06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AutoShape 20"/>
          <p:cNvGrpSpPr/>
          <p:nvPr/>
        </p:nvGrpSpPr>
        <p:grpSpPr>
          <a:xfrm>
            <a:off x="169920" y="414360"/>
            <a:ext cx="2228760" cy="1079640"/>
            <a:chOff x="169920" y="414360"/>
            <a:chExt cx="2228760" cy="1079640"/>
          </a:xfrm>
        </p:grpSpPr>
        <p:pic>
          <p:nvPicPr>
            <p:cNvPr id="94" name="AutoShape 20" descr=""/>
            <p:cNvPicPr/>
            <p:nvPr/>
          </p:nvPicPr>
          <p:blipFill>
            <a:blip r:embed="rId3"/>
            <a:stretch/>
          </p:blipFill>
          <p:spPr>
            <a:xfrm>
              <a:off x="169920" y="414360"/>
              <a:ext cx="22287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27520" y="525240"/>
              <a:ext cx="2060640" cy="91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НОЗЕМНА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М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за вибором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англійська, німецька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Arial"/>
                </a:rPr>
                <a:t>французька, іспанська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03.06.2014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AutoShape 20"/>
          <p:cNvGrpSpPr/>
          <p:nvPr/>
        </p:nvGrpSpPr>
        <p:grpSpPr>
          <a:xfrm>
            <a:off x="2617920" y="1636560"/>
            <a:ext cx="2049480" cy="1079640"/>
            <a:chOff x="2617920" y="1636560"/>
            <a:chExt cx="2049480" cy="1079640"/>
          </a:xfrm>
        </p:grpSpPr>
        <p:pic>
          <p:nvPicPr>
            <p:cNvPr id="97" name="AutoShape 20" descr=""/>
            <p:cNvPicPr/>
            <p:nvPr/>
          </p:nvPicPr>
          <p:blipFill>
            <a:blip r:embed="rId5"/>
            <a:stretch/>
          </p:blipFill>
          <p:spPr>
            <a:xfrm>
              <a:off x="2617920" y="1636560"/>
              <a:ext cx="2049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76600" y="1747440"/>
              <a:ext cx="1881720" cy="910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ІОЛОГ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6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AutoShape 20"/>
          <p:cNvGrpSpPr/>
          <p:nvPr/>
        </p:nvGrpSpPr>
        <p:grpSpPr>
          <a:xfrm>
            <a:off x="601560" y="1636560"/>
            <a:ext cx="1871640" cy="1079640"/>
            <a:chOff x="601560" y="1636560"/>
            <a:chExt cx="1871640" cy="1079640"/>
          </a:xfrm>
        </p:grpSpPr>
        <p:pic>
          <p:nvPicPr>
            <p:cNvPr id="100" name="AutoShape 20" descr=""/>
            <p:cNvPicPr/>
            <p:nvPr/>
          </p:nvPicPr>
          <p:blipFill>
            <a:blip r:embed="rId7"/>
            <a:stretch/>
          </p:blipFill>
          <p:spPr>
            <a:xfrm>
              <a:off x="601560" y="1636560"/>
              <a:ext cx="1871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60240" y="1747440"/>
              <a:ext cx="1702800" cy="910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4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20"/>
          <p:cNvGrpSpPr/>
          <p:nvPr/>
        </p:nvGrpSpPr>
        <p:grpSpPr>
          <a:xfrm>
            <a:off x="7085160" y="414360"/>
            <a:ext cx="1866600" cy="1079640"/>
            <a:chOff x="7085160" y="414360"/>
            <a:chExt cx="1866600" cy="1079640"/>
          </a:xfrm>
        </p:grpSpPr>
        <p:pic>
          <p:nvPicPr>
            <p:cNvPr id="103" name="AutoShape 20" descr=""/>
            <p:cNvPicPr/>
            <p:nvPr/>
          </p:nvPicPr>
          <p:blipFill>
            <a:blip r:embed="rId9"/>
            <a:stretch/>
          </p:blipFill>
          <p:spPr>
            <a:xfrm>
              <a:off x="7085160" y="414360"/>
              <a:ext cx="18666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141680" y="525240"/>
              <a:ext cx="1702440" cy="9104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АТЕМАТИ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2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20"/>
          <p:cNvGrpSpPr/>
          <p:nvPr/>
        </p:nvGrpSpPr>
        <p:grpSpPr>
          <a:xfrm>
            <a:off x="6940440" y="1711440"/>
            <a:ext cx="1793880" cy="1079280"/>
            <a:chOff x="6940440" y="1711440"/>
            <a:chExt cx="1793880" cy="1079280"/>
          </a:xfrm>
        </p:grpSpPr>
        <p:pic>
          <p:nvPicPr>
            <p:cNvPr id="106" name="AutoShape 20" descr=""/>
            <p:cNvPicPr/>
            <p:nvPr/>
          </p:nvPicPr>
          <p:blipFill>
            <a:blip r:embed="rId11"/>
            <a:stretch/>
          </p:blipFill>
          <p:spPr>
            <a:xfrm>
              <a:off x="6940440" y="1711440"/>
              <a:ext cx="17938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96960" y="1822320"/>
              <a:ext cx="1629360" cy="9104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СТОРІЯ УКРАЇ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0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20"/>
          <p:cNvGrpSpPr/>
          <p:nvPr/>
        </p:nvGrpSpPr>
        <p:grpSpPr>
          <a:xfrm>
            <a:off x="1181160" y="3008160"/>
            <a:ext cx="2084400" cy="1076400"/>
            <a:chOff x="1181160" y="3008160"/>
            <a:chExt cx="2084400" cy="1076400"/>
          </a:xfrm>
        </p:grpSpPr>
        <p:pic>
          <p:nvPicPr>
            <p:cNvPr id="109" name="AutoShape 20" descr=""/>
            <p:cNvPicPr/>
            <p:nvPr/>
          </p:nvPicPr>
          <p:blipFill>
            <a:blip r:embed="rId13"/>
            <a:stretch/>
          </p:blipFill>
          <p:spPr>
            <a:xfrm>
              <a:off x="1181160" y="3008160"/>
              <a:ext cx="208440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236600" y="3116880"/>
              <a:ext cx="1920240" cy="91080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ІМІ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3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20"/>
          <p:cNvGrpSpPr/>
          <p:nvPr/>
        </p:nvGrpSpPr>
        <p:grpSpPr>
          <a:xfrm>
            <a:off x="4924440" y="1711440"/>
            <a:ext cx="1798560" cy="1004760"/>
            <a:chOff x="4924440" y="1711440"/>
            <a:chExt cx="1798560" cy="1004760"/>
          </a:xfrm>
        </p:grpSpPr>
        <p:pic>
          <p:nvPicPr>
            <p:cNvPr id="112" name="AutoShape 20" descr=""/>
            <p:cNvPicPr/>
            <p:nvPr/>
          </p:nvPicPr>
          <p:blipFill>
            <a:blip r:embed="rId15"/>
            <a:stretch/>
          </p:blipFill>
          <p:spPr>
            <a:xfrm>
              <a:off x="4924440" y="1711440"/>
              <a:ext cx="1798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977720" y="1818720"/>
              <a:ext cx="1639440" cy="84492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ІЗИ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8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20"/>
          <p:cNvGrpSpPr/>
          <p:nvPr/>
        </p:nvGrpSpPr>
        <p:grpSpPr>
          <a:xfrm>
            <a:off x="4851360" y="414360"/>
            <a:ext cx="1832040" cy="1079640"/>
            <a:chOff x="4851360" y="414360"/>
            <a:chExt cx="1832040" cy="1079640"/>
          </a:xfrm>
        </p:grpSpPr>
        <p:pic>
          <p:nvPicPr>
            <p:cNvPr id="115" name="AutoShape 20" descr=""/>
            <p:cNvPicPr/>
            <p:nvPr/>
          </p:nvPicPr>
          <p:blipFill>
            <a:blip r:embed="rId17"/>
            <a:stretch/>
          </p:blipFill>
          <p:spPr>
            <a:xfrm>
              <a:off x="4851360" y="414360"/>
              <a:ext cx="1832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07880" y="525240"/>
              <a:ext cx="1666800" cy="91044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ОСІЙСЬКА МО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20"/>
          <p:cNvGrpSpPr/>
          <p:nvPr/>
        </p:nvGrpSpPr>
        <p:grpSpPr>
          <a:xfrm>
            <a:off x="3627360" y="3008160"/>
            <a:ext cx="1914480" cy="1076400"/>
            <a:chOff x="3627360" y="3008160"/>
            <a:chExt cx="1914480" cy="1076400"/>
          </a:xfrm>
        </p:grpSpPr>
        <p:pic>
          <p:nvPicPr>
            <p:cNvPr id="118" name="AutoShape 20" descr=""/>
            <p:cNvPicPr/>
            <p:nvPr/>
          </p:nvPicPr>
          <p:blipFill>
            <a:blip r:embed="rId19"/>
            <a:stretch/>
          </p:blipFill>
          <p:spPr>
            <a:xfrm>
              <a:off x="3627360" y="3008160"/>
              <a:ext cx="19144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83880" y="3116880"/>
              <a:ext cx="1746720" cy="91080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ВСЕСВІТНЯ ІСТОР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25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20"/>
          <p:cNvGrpSpPr/>
          <p:nvPr/>
        </p:nvGrpSpPr>
        <p:grpSpPr>
          <a:xfrm>
            <a:off x="5931000" y="3083040"/>
            <a:ext cx="2050920" cy="1074600"/>
            <a:chOff x="5931000" y="3083040"/>
            <a:chExt cx="2050920" cy="1074600"/>
          </a:xfrm>
        </p:grpSpPr>
        <p:pic>
          <p:nvPicPr>
            <p:cNvPr id="121" name="AutoShape 20" descr=""/>
            <p:cNvPicPr/>
            <p:nvPr/>
          </p:nvPicPr>
          <p:blipFill>
            <a:blip r:embed="rId21"/>
            <a:stretch/>
          </p:blipFill>
          <p:spPr>
            <a:xfrm>
              <a:off x="5931000" y="3083040"/>
              <a:ext cx="205092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989680" y="3190680"/>
              <a:ext cx="1882080" cy="91008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ВІТОВА ЛІТЕРАТУР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7.06.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AutoShape 20"/>
          <p:cNvGrpSpPr/>
          <p:nvPr/>
        </p:nvGrpSpPr>
        <p:grpSpPr>
          <a:xfrm>
            <a:off x="1166760" y="4707000"/>
            <a:ext cx="6792840" cy="757080"/>
            <a:chOff x="1166760" y="4707000"/>
            <a:chExt cx="6792840" cy="757080"/>
          </a:xfrm>
        </p:grpSpPr>
        <p:pic>
          <p:nvPicPr>
            <p:cNvPr id="124" name="AutoShape 20" descr=""/>
            <p:cNvPicPr/>
            <p:nvPr/>
          </p:nvPicPr>
          <p:blipFill>
            <a:blip r:embed="rId23"/>
            <a:stretch/>
          </p:blipFill>
          <p:spPr>
            <a:xfrm>
              <a:off x="1166760" y="4707000"/>
              <a:ext cx="67928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210680" y="4799520"/>
              <a:ext cx="6618240" cy="62352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ливість складання тестів не більше як із чотирьох предметі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5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6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AutoShape 20"/>
          <p:cNvGrpSpPr/>
          <p:nvPr/>
        </p:nvGrpSpPr>
        <p:grpSpPr>
          <a:xfrm>
            <a:off x="1042920" y="192240"/>
            <a:ext cx="2803680" cy="788760"/>
            <a:chOff x="1042920" y="192240"/>
            <a:chExt cx="2803680" cy="788760"/>
          </a:xfrm>
        </p:grpSpPr>
        <p:pic>
          <p:nvPicPr>
            <p:cNvPr id="129" name="AutoShape 20" descr=""/>
            <p:cNvPicPr/>
            <p:nvPr/>
          </p:nvPicPr>
          <p:blipFill>
            <a:blip r:embed="rId1"/>
            <a:stretch/>
          </p:blipFill>
          <p:spPr>
            <a:xfrm>
              <a:off x="1042920" y="192240"/>
              <a:ext cx="28036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84680" y="287280"/>
              <a:ext cx="2667600" cy="650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ІОЛОГ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20"/>
          <p:cNvGrpSpPr/>
          <p:nvPr/>
        </p:nvGrpSpPr>
        <p:grpSpPr>
          <a:xfrm>
            <a:off x="1042920" y="985680"/>
            <a:ext cx="2803680" cy="787680"/>
            <a:chOff x="1042920" y="985680"/>
            <a:chExt cx="2803680" cy="787680"/>
          </a:xfrm>
        </p:grpSpPr>
        <p:pic>
          <p:nvPicPr>
            <p:cNvPr id="132" name="AutoShape 20" descr=""/>
            <p:cNvPicPr/>
            <p:nvPr/>
          </p:nvPicPr>
          <p:blipFill>
            <a:blip r:embed="rId3"/>
            <a:stretch/>
          </p:blipFill>
          <p:spPr>
            <a:xfrm>
              <a:off x="1042920" y="985680"/>
              <a:ext cx="280368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084680" y="1079640"/>
              <a:ext cx="2667600" cy="64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ЕОГРАФ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20"/>
          <p:cNvGrpSpPr/>
          <p:nvPr/>
        </p:nvGrpSpPr>
        <p:grpSpPr>
          <a:xfrm>
            <a:off x="1042920" y="1776240"/>
            <a:ext cx="2803680" cy="789120"/>
            <a:chOff x="1042920" y="1776240"/>
            <a:chExt cx="2803680" cy="789120"/>
          </a:xfrm>
        </p:grpSpPr>
        <p:pic>
          <p:nvPicPr>
            <p:cNvPr id="135" name="AutoShape 20" descr=""/>
            <p:cNvPicPr/>
            <p:nvPr/>
          </p:nvPicPr>
          <p:blipFill>
            <a:blip r:embed="rId5"/>
            <a:stretch/>
          </p:blipFill>
          <p:spPr>
            <a:xfrm>
              <a:off x="1042920" y="1776240"/>
              <a:ext cx="280368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84680" y="1871280"/>
              <a:ext cx="2667600" cy="650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АТЕМА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20"/>
          <p:cNvGrpSpPr/>
          <p:nvPr/>
        </p:nvGrpSpPr>
        <p:grpSpPr>
          <a:xfrm>
            <a:off x="1042920" y="2565360"/>
            <a:ext cx="2803680" cy="792360"/>
            <a:chOff x="1042920" y="2565360"/>
            <a:chExt cx="2803680" cy="792360"/>
          </a:xfrm>
        </p:grpSpPr>
        <p:pic>
          <p:nvPicPr>
            <p:cNvPr id="138" name="AutoShape 20" descr=""/>
            <p:cNvPicPr/>
            <p:nvPr/>
          </p:nvPicPr>
          <p:blipFill>
            <a:blip r:embed="rId7"/>
            <a:stretch/>
          </p:blipFill>
          <p:spPr>
            <a:xfrm>
              <a:off x="1042920" y="2565360"/>
              <a:ext cx="280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084680" y="2663640"/>
              <a:ext cx="2667600" cy="650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СТОРІЯ УКРАЇ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20"/>
          <p:cNvGrpSpPr/>
          <p:nvPr/>
        </p:nvGrpSpPr>
        <p:grpSpPr>
          <a:xfrm>
            <a:off x="971640" y="3505320"/>
            <a:ext cx="2803320" cy="787320"/>
            <a:chOff x="971640" y="3505320"/>
            <a:chExt cx="2803320" cy="787320"/>
          </a:xfrm>
        </p:grpSpPr>
        <p:pic>
          <p:nvPicPr>
            <p:cNvPr id="141" name="AutoShape 20" descr=""/>
            <p:cNvPicPr/>
            <p:nvPr/>
          </p:nvPicPr>
          <p:blipFill>
            <a:blip r:embed="rId9"/>
            <a:stretch/>
          </p:blipFill>
          <p:spPr>
            <a:xfrm>
              <a:off x="971640" y="3505320"/>
              <a:ext cx="2803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013400" y="3599280"/>
              <a:ext cx="2667240" cy="650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СЕСВІТНЯ ІСТОР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20"/>
          <p:cNvGrpSpPr/>
          <p:nvPr/>
        </p:nvGrpSpPr>
        <p:grpSpPr>
          <a:xfrm>
            <a:off x="1042920" y="4149720"/>
            <a:ext cx="2803680" cy="789120"/>
            <a:chOff x="1042920" y="4149720"/>
            <a:chExt cx="2803680" cy="789120"/>
          </a:xfrm>
        </p:grpSpPr>
        <p:pic>
          <p:nvPicPr>
            <p:cNvPr id="144" name="AutoShape 20" descr=""/>
            <p:cNvPicPr/>
            <p:nvPr/>
          </p:nvPicPr>
          <p:blipFill>
            <a:blip r:embed="rId11"/>
            <a:stretch/>
          </p:blipFill>
          <p:spPr>
            <a:xfrm>
              <a:off x="1042920" y="4149720"/>
              <a:ext cx="280368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084680" y="4243680"/>
              <a:ext cx="2667600" cy="6505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ІЗ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20"/>
          <p:cNvGrpSpPr/>
          <p:nvPr/>
        </p:nvGrpSpPr>
        <p:grpSpPr>
          <a:xfrm>
            <a:off x="5068800" y="200160"/>
            <a:ext cx="2808360" cy="5398920"/>
            <a:chOff x="5068800" y="200160"/>
            <a:chExt cx="2808360" cy="5398920"/>
          </a:xfrm>
        </p:grpSpPr>
        <p:pic>
          <p:nvPicPr>
            <p:cNvPr id="147" name="AutoShape 20" descr=""/>
            <p:cNvPicPr/>
            <p:nvPr/>
          </p:nvPicPr>
          <p:blipFill>
            <a:blip r:embed="rId13"/>
            <a:stretch/>
          </p:blipFill>
          <p:spPr>
            <a:xfrm>
              <a:off x="5068800" y="200160"/>
              <a:ext cx="280836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210640" y="393840"/>
              <a:ext cx="2470320" cy="506088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клад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римськотатарську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лдов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ль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умунську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російську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угорсь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о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5"/>
          <p:cNvSpPr/>
          <p:nvPr/>
        </p:nvSpPr>
        <p:spPr>
          <a:xfrm>
            <a:off x="3780000" y="333360"/>
            <a:ext cx="865080" cy="5400720"/>
          </a:xfrm>
          <a:custGeom>
            <a:avLst/>
            <a:gdLst>
              <a:gd name="textAreaLeft" fmla="*/ 0 w 865080"/>
              <a:gd name="textAreaRight" fmla="*/ 312480 w 86508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20"/>
          <p:cNvGrpSpPr/>
          <p:nvPr/>
        </p:nvGrpSpPr>
        <p:grpSpPr>
          <a:xfrm>
            <a:off x="1030320" y="4991040"/>
            <a:ext cx="2806560" cy="787320"/>
            <a:chOff x="1030320" y="4991040"/>
            <a:chExt cx="2806560" cy="787320"/>
          </a:xfrm>
        </p:grpSpPr>
        <p:pic>
          <p:nvPicPr>
            <p:cNvPr id="151" name="AutoShape 20" descr=""/>
            <p:cNvPicPr/>
            <p:nvPr/>
          </p:nvPicPr>
          <p:blipFill>
            <a:blip r:embed="rId15"/>
            <a:stretch/>
          </p:blipFill>
          <p:spPr>
            <a:xfrm>
              <a:off x="1030320" y="4991040"/>
              <a:ext cx="280656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073160" y="5087160"/>
              <a:ext cx="2666880" cy="64908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ХІМІ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AutoShape 20"/>
          <p:cNvGrpSpPr/>
          <p:nvPr/>
        </p:nvGrpSpPr>
        <p:grpSpPr>
          <a:xfrm>
            <a:off x="971640" y="5877000"/>
            <a:ext cx="2803320" cy="787320"/>
            <a:chOff x="971640" y="5877000"/>
            <a:chExt cx="2803320" cy="787320"/>
          </a:xfrm>
        </p:grpSpPr>
        <p:pic>
          <p:nvPicPr>
            <p:cNvPr id="154" name="AutoShape 20" descr=""/>
            <p:cNvPicPr/>
            <p:nvPr/>
          </p:nvPicPr>
          <p:blipFill>
            <a:blip r:embed="rId17"/>
            <a:stretch/>
          </p:blipFill>
          <p:spPr>
            <a:xfrm>
              <a:off x="971640" y="5877000"/>
              <a:ext cx="2803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013400" y="5970960"/>
              <a:ext cx="2667240" cy="65016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ВІТОВА ЛІТЕРА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AutoShape 20"/>
          <p:cNvGrpSpPr/>
          <p:nvPr/>
        </p:nvGrpSpPr>
        <p:grpSpPr>
          <a:xfrm>
            <a:off x="5054760" y="5805360"/>
            <a:ext cx="2809800" cy="862200"/>
            <a:chOff x="5054760" y="5805360"/>
            <a:chExt cx="2809800" cy="862200"/>
          </a:xfrm>
        </p:grpSpPr>
        <p:pic>
          <p:nvPicPr>
            <p:cNvPr id="157" name="AutoShape 20" descr=""/>
            <p:cNvPicPr/>
            <p:nvPr/>
          </p:nvPicPr>
          <p:blipFill>
            <a:blip r:embed="rId19"/>
            <a:stretch/>
          </p:blipFill>
          <p:spPr>
            <a:xfrm>
              <a:off x="5054760" y="5805360"/>
              <a:ext cx="280980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03360" y="5905080"/>
              <a:ext cx="2662560" cy="71568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ереклад т</a:t>
              </a: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льки н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сійську мо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8229600" y="5516640"/>
            <a:ext cx="914400" cy="1341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>
            <a:alphaModFix amt="0"/>
          </a:blip>
          <a:stretch/>
        </p:blipFill>
        <p:spPr>
          <a:xfrm>
            <a:off x="0" y="5516640"/>
            <a:ext cx="1031760" cy="134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4-01-10T15:27:18Z</dcterms:modified>
  <cp:revision>161</cp:revision>
  <dc:subject/>
  <dc:title>Слайд 1</dc:title>
</cp:coreProperties>
</file>