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20.png" ContentType="image/png"/>
  <Override PartName="/ppt/media/image57.png" ContentType="image/png"/>
  <Override PartName="/ppt/media/image33.png" ContentType="image/png"/>
  <Override PartName="/ppt/media/image15.png" ContentType="image/png"/>
  <Override PartName="/ppt/media/image3.png" ContentType="image/png"/>
  <Override PartName="/ppt/media/image68.png" ContentType="image/png"/>
  <Override PartName="/ppt/media/image31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58.png" ContentType="image/png"/>
  <Override PartName="/ppt/media/image21.png" ContentType="image/png"/>
  <Override PartName="/ppt/media/image60.png" ContentType="image/png"/>
  <Override PartName="/ppt/media/image23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29F78-CB9E-443E-9092-FE9F9FDA41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70CCBD-E821-46D3-A5AD-D02F34CC73CE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Номер слайда 3"/>
          <p:cNvSpPr/>
          <p:nvPr/>
        </p:nvSpPr>
        <p:spPr>
          <a:xfrm>
            <a:off x="3900600" y="9516960"/>
            <a:ext cx="2985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54D7A8F-C181-4156-9118-9464EBE931F9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BB4F6C-2AA8-4742-9986-BEC7859249C5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Номер слайда 3"/>
          <p:cNvSpPr/>
          <p:nvPr/>
        </p:nvSpPr>
        <p:spPr>
          <a:xfrm>
            <a:off x="3900600" y="9516960"/>
            <a:ext cx="2985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E81C3E0-81E4-4073-B574-CD4505CBF509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BAFE-FFC4-47BD-99E7-63A4F68B4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622D-B04F-4856-B664-3896CEAD7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B866-CBBF-4657-B0F9-A7BD8B61D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820F-30CF-47D4-B135-A855A5F42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27B7-FCAD-4EF0-A95B-71DD36546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1A9E-D5C7-4AE1-B6B9-001D54D26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A92F-73F4-42E3-8721-93FD572DB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9F3F-00BC-4D63-BCA8-B2B46D859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E8E4-B1CA-4533-9E72-5347B1A96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1C3A-8CF7-49E3-A28C-6012601F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F21C-1052-4D7A-94AF-99294DD2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C14A-D688-4FF7-AE68-D70F278B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7754-7E7B-4540-AE0E-AB7FEA2628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10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10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mailto:probne@zno-kharkiv.org.ua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10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48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10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10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60.png"/><Relationship Id="rId3" Type="http://schemas.openxmlformats.org/officeDocument/2006/relationships/image" Target="../media/image10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image" Target="../media/image10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18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22.png"/><Relationship Id="rId14" Type="http://schemas.openxmlformats.org/officeDocument/2006/relationships/image" Target="../media/image23.png"/><Relationship Id="rId15" Type="http://schemas.openxmlformats.org/officeDocument/2006/relationships/image" Target="../media/image24.png"/><Relationship Id="rId16" Type="http://schemas.openxmlformats.org/officeDocument/2006/relationships/image" Target="../media/image25.png"/><Relationship Id="rId17" Type="http://schemas.openxmlformats.org/officeDocument/2006/relationships/image" Target="../media/image26.png"/><Relationship Id="rId18" Type="http://schemas.openxmlformats.org/officeDocument/2006/relationships/image" Target="../media/image27.png"/><Relationship Id="rId19" Type="http://schemas.openxmlformats.org/officeDocument/2006/relationships/image" Target="../media/image28.png"/><Relationship Id="rId20" Type="http://schemas.openxmlformats.org/officeDocument/2006/relationships/image" Target="../media/image29.png"/><Relationship Id="rId21" Type="http://schemas.openxmlformats.org/officeDocument/2006/relationships/image" Target="../media/image30.png"/><Relationship Id="rId22" Type="http://schemas.openxmlformats.org/officeDocument/2006/relationships/image" Target="../media/image16.png"/><Relationship Id="rId23" Type="http://schemas.openxmlformats.org/officeDocument/2006/relationships/image" Target="../media/image31.png"/><Relationship Id="rId24" Type="http://schemas.openxmlformats.org/officeDocument/2006/relationships/image" Target="../media/image32.png"/><Relationship Id="rId25" Type="http://schemas.openxmlformats.org/officeDocument/2006/relationships/image" Target="../media/image10.png"/><Relationship Id="rId26" Type="http://schemas.openxmlformats.org/officeDocument/2006/relationships/image" Target="../media/image5.png"/><Relationship Id="rId2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3.png"/><Relationship Id="rId4" Type="http://schemas.openxmlformats.org/officeDocument/2006/relationships/image" Target="../media/image35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6.png"/><Relationship Id="rId8" Type="http://schemas.openxmlformats.org/officeDocument/2006/relationships/image" Target="../media/image34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3.png"/><Relationship Id="rId12" Type="http://schemas.openxmlformats.org/officeDocument/2006/relationships/image" Target="../media/image34.png"/><Relationship Id="rId13" Type="http://schemas.openxmlformats.org/officeDocument/2006/relationships/image" Target="../media/image37.png"/><Relationship Id="rId14" Type="http://schemas.openxmlformats.org/officeDocument/2006/relationships/image" Target="../media/image38.png"/><Relationship Id="rId15" Type="http://schemas.openxmlformats.org/officeDocument/2006/relationships/image" Target="../media/image39.png"/><Relationship Id="rId16" Type="http://schemas.openxmlformats.org/officeDocument/2006/relationships/image" Target="../media/image35.png"/><Relationship Id="rId17" Type="http://schemas.openxmlformats.org/officeDocument/2006/relationships/image" Target="../media/image33.png"/><Relationship Id="rId18" Type="http://schemas.openxmlformats.org/officeDocument/2006/relationships/image" Target="../media/image34.png"/><Relationship Id="rId19" Type="http://schemas.openxmlformats.org/officeDocument/2006/relationships/image" Target="../media/image40.png"/><Relationship Id="rId20" Type="http://schemas.openxmlformats.org/officeDocument/2006/relationships/image" Target="../media/image41.png"/><Relationship Id="rId21" Type="http://schemas.openxmlformats.org/officeDocument/2006/relationships/image" Target="../media/image10.png"/><Relationship Id="rId22" Type="http://schemas.openxmlformats.org/officeDocument/2006/relationships/image" Target="../media/image5.png"/><Relationship Id="rId2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144000" cy="1014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780000" y="836640"/>
            <a:ext cx="1468440" cy="1511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2"/>
          <p:cNvSpPr/>
          <p:nvPr/>
        </p:nvSpPr>
        <p:spPr>
          <a:xfrm>
            <a:off x="3924360" y="2421000"/>
            <a:ext cx="143964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3300"/>
                </a:solidFill>
                <a:latin typeface="Arial"/>
              </a:rPr>
              <a:t>З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ОВНІШНЄ</a:t>
            </a:r>
            <a:r>
              <a:rPr b="0" lang="uk-UA" sz="14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1400"/>
            </a:br>
            <a:r>
              <a:rPr b="1" lang="uk-UA" sz="1400" spc="-1" strike="noStrike">
                <a:solidFill>
                  <a:srgbClr val="ff3300"/>
                </a:solidFill>
                <a:latin typeface="Arial"/>
              </a:rPr>
              <a:t>Н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ЕЗАЛЕЖНЕ </a:t>
            </a:r>
            <a:br>
              <a:rPr sz="1400"/>
            </a:br>
            <a:r>
              <a:rPr b="1" lang="uk-UA" sz="14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ЦІНЮВА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250920" y="3933720"/>
            <a:ext cx="86756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3300"/>
                </a:solidFill>
                <a:latin typeface="Times New Roman"/>
              </a:rPr>
              <a:t>АКТУАЛЬНІ ПИТАННЯ ПІДГОТОВКИ ТА ПРОВЕДЕННЯ ЗНО-201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332000" y="836280"/>
            <a:ext cx="76327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8000" indent="-468000">
              <a:lnSpc>
                <a:spcPct val="80000"/>
              </a:lnSpc>
              <a:spcBef>
                <a:spcPts val="476"/>
              </a:spcBef>
              <a:buClr>
                <a:srgbClr val="ff3300"/>
              </a:buClr>
              <a:buFont typeface="Wingdings" charset="2"/>
              <a:buChar char=""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Arial"/>
              </a:rPr>
              <a:t>Порядок прийому заяв і документів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680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Вступник може подати заяву (заяви) в паперовій або в електронній формі не більше ніж </a:t>
            </a:r>
            <a:r>
              <a:rPr b="1" lang="uk-UA" sz="1900" spc="-1" strike="noStrike">
                <a:solidFill>
                  <a:srgbClr val="000000"/>
                </a:solidFill>
                <a:latin typeface="Arial"/>
              </a:rPr>
              <a:t>до п’яти вищих навчальних закладів</a:t>
            </a: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 України та не більше ніж </a:t>
            </a:r>
            <a:r>
              <a:rPr b="1" lang="uk-UA" sz="1900" spc="-1" strike="noStrike">
                <a:solidFill>
                  <a:srgbClr val="000000"/>
                </a:solidFill>
                <a:latin typeface="Arial"/>
              </a:rPr>
              <a:t>на три напрями підготовки</a:t>
            </a: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 (на три спеціальності) у кожному з них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680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68000" indent="-468000">
              <a:lnSpc>
                <a:spcPct val="80000"/>
              </a:lnSpc>
              <a:spcBef>
                <a:spcPts val="476"/>
              </a:spcBef>
              <a:buClr>
                <a:srgbClr val="ff3300"/>
              </a:buClr>
              <a:buFont typeface="Wingdings" charset="2"/>
              <a:buChar char=""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Arial"/>
              </a:rPr>
              <a:t>Порядок проведення конкурсного відбору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680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Для здобуття освітньо-кваліфікаційного рівня бакалавра (спеціаліста, магістра медичного та ветеринарно-медичного спрямувань) </a:t>
            </a:r>
            <a:r>
              <a:rPr b="1" lang="uk-UA" sz="19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900" spc="-1" strike="noStrike">
                <a:solidFill>
                  <a:srgbClr val="000000"/>
                </a:solidFill>
                <a:latin typeface="Arial"/>
              </a:rPr>
              <a:t>не нижче 124 балів з непрофільних</a:t>
            </a: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 конкурсних предметів та </a:t>
            </a:r>
            <a:r>
              <a:rPr b="1" lang="uk-UA" sz="1900" spc="-1" strike="noStrike">
                <a:solidFill>
                  <a:srgbClr val="000000"/>
                </a:solidFill>
                <a:latin typeface="Arial"/>
              </a:rPr>
              <a:t>не нижче 140 балів з профільних</a:t>
            </a: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 конкурсних предметів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680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68000" indent="-468000">
              <a:lnSpc>
                <a:spcPct val="80000"/>
              </a:lnSpc>
              <a:spcBef>
                <a:spcPts val="476"/>
              </a:spcBef>
              <a:buClr>
                <a:srgbClr val="ff3300"/>
              </a:buClr>
              <a:buFont typeface="Wingdings" charset="2"/>
              <a:buChar char=""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Arial"/>
              </a:rPr>
              <a:t>Порядок обчислення конкурсного бала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680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конкурсний бал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680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uk-UA" sz="19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uk-UA" sz="1900" spc="-1" strike="noStrike">
                <a:solidFill>
                  <a:srgbClr val="ff3300"/>
                </a:solidFill>
                <a:latin typeface="Arial"/>
              </a:rPr>
              <a:t>=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680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сума балів сертифіката з конкурсних предметів (творчих конкурсів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680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900" spc="-1" strike="noStrike">
                <a:solidFill>
                  <a:srgbClr val="ff3300"/>
                </a:solidFill>
                <a:latin typeface="Arial"/>
              </a:rPr>
              <a:t>+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680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середній бал атестат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680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900" spc="-1" strike="noStrike">
                <a:solidFill>
                  <a:srgbClr val="ff3300"/>
                </a:solidFill>
                <a:latin typeface="Arial"/>
              </a:rPr>
              <a:t>+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680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додаткові бал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1897200" y="189000"/>
            <a:ext cx="69436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Особливості Умов прийому до ВН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5516640"/>
            <a:ext cx="914400" cy="13413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0" y="0"/>
            <a:ext cx="933480" cy="127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258560" y="765000"/>
            <a:ext cx="77058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40000"/>
              </a:lnSpc>
              <a:spcBef>
                <a:spcPts val="6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Перелік конкурсних предмет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лідницькі університети мають право визначати перелік конкурсних предмет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Україні наразі є 14 дослідницьких університеті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ївський національний економічний університет ім. В. П. Гетьман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ївський національний університет ім. Т. Г. Шевчен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ьвівський національний університет ім. І. Я. Фран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іональна юридична академія України ім. Ярослава Мудрог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іональний технічний університет «Харківський політехнічний інститут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ківський національний університет ім. В. Н. Каразін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іональний авіаційний університе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іональний гірничий університет Україн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іональний університет біоресурсів і природокористування Україн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іональний університет «Києво-Могилянська академія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іональний університет «Львівська політехніка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іональний університет «Острозька академія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іональний технічний університет України «Київський політехнічний інститут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ідноукраїнський національний університет ім. Володимира Да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1897200" y="189000"/>
            <a:ext cx="69436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Особливості Умов прийому до ВН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5516640"/>
            <a:ext cx="1031760" cy="1341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0" y="0"/>
            <a:ext cx="933480" cy="127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uk-UA" sz="3600" spc="-1" strike="noStrike">
                <a:solidFill>
                  <a:srgbClr val="ff3300"/>
                </a:solidFill>
                <a:latin typeface="Arial"/>
                <a:ea typeface="Times New Roman"/>
              </a:rPr>
              <a:t>НАПРЯМИ СПІЛЬНОЇ ДІЯЛЬНОСТ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32000" y="1268280"/>
            <a:ext cx="70200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7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7080" indent="-307080">
              <a:lnSpc>
                <a:spcPct val="8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Інформаційна підтрим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7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7080" indent="-307080">
              <a:lnSpc>
                <a:spcPct val="8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Методична підтрим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7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7080" indent="-307080">
              <a:lnSpc>
                <a:spcPct val="8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Пробне З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7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7080" indent="-307080">
              <a:lnSpc>
                <a:spcPct val="8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Організаційна робота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8229600" y="5516640"/>
            <a:ext cx="914400" cy="13413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0" y="5516640"/>
            <a:ext cx="103176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42920" y="2492280"/>
            <a:ext cx="7632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uk-UA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ІНФОРМАЦІЙНА ПІДТРИМКА</a:t>
            </a:r>
            <a:br>
              <a:rPr sz="3200"/>
            </a:b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760320" cy="6858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8210520" y="0"/>
            <a:ext cx="93348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Заголовок 1"/>
          <p:cNvSpPr/>
          <p:nvPr/>
        </p:nvSpPr>
        <p:spPr>
          <a:xfrm>
            <a:off x="2303640" y="-243000"/>
            <a:ext cx="684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Times New Roman"/>
              </a:rPr>
              <a:t>Проведення уроків інфор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260280"/>
            <a:ext cx="2411280" cy="63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91 % ЗНЗ Харківської області провели уроки і надіслали інформацію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м.Харків – 94%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область – 89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089160" y="549360"/>
            <a:ext cx="5154840" cy="6308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0" y="5516640"/>
            <a:ext cx="914400" cy="13413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0" y="0"/>
            <a:ext cx="93348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07640" y="-360"/>
            <a:ext cx="698508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ІНФОРМАЦІЙНА КАМПАНІЯ: сайти Р(М)В(У)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258920" y="1341360"/>
            <a:ext cx="7200720" cy="46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Нормативні документи ЗНО-20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Звіти З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Пробне ЗНО-20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ЗНО – 20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Арх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Посилання на сайти УЦОЯО та ХРЦОЯ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5516640"/>
            <a:ext cx="914400" cy="13413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0" y="0"/>
            <a:ext cx="933480" cy="12762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>
            <a:alphaModFix amt="0"/>
          </a:blip>
          <a:stretch/>
        </p:blipFill>
        <p:spPr>
          <a:xfrm>
            <a:off x="0" y="5516640"/>
            <a:ext cx="103176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07640" y="-360"/>
            <a:ext cx="698508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ІНФОРМАЦІЙНА КАМПАНІ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979640" y="1483920"/>
            <a:ext cx="702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7160" indent="-317160">
              <a:lnSpc>
                <a:spcPct val="80000"/>
              </a:lnSpc>
              <a:spcBef>
                <a:spcPts val="1250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рганізація інформаційних куточків «ЗНО-2014» у кожному ЗНЗ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з уніфікованою інформацією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(розділ “Адміністрування” сайт ХРЦОЯ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160" indent="0" algn="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uk-UA" sz="2000" spc="-1" strike="noStrike">
                <a:solidFill>
                  <a:srgbClr val="ff3300"/>
                </a:solidFill>
                <a:latin typeface="Arial"/>
              </a:rPr>
              <a:t>до 13.01.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160" indent="-317160">
              <a:lnSpc>
                <a:spcPct val="80000"/>
              </a:lnSpc>
              <a:spcBef>
                <a:spcPts val="1250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рганізація спільних з випускниками батьківських зборів з використанням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ніфікованої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резентації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(розділ “Адміністрування” сайт ХРЦОЯ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160" indent="0" algn="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uk-UA" sz="2000" spc="-1" strike="noStrike">
                <a:solidFill>
                  <a:srgbClr val="ff3300"/>
                </a:solidFill>
                <a:latin typeface="Arial"/>
              </a:rPr>
              <a:t>з 13.01.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160" indent="-317160">
              <a:lnSpc>
                <a:spcPct val="80000"/>
              </a:lnSpc>
              <a:spcBef>
                <a:spcPts val="1250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адання доступу до Інтернет з метою ознайомлення з інформацією на сайті ХРЦОЯ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160" indent="0" algn="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uk-UA" sz="2000" spc="-1" strike="noStrike">
                <a:solidFill>
                  <a:srgbClr val="ff3300"/>
                </a:solidFill>
                <a:latin typeface="Arial"/>
              </a:rPr>
              <a:t>протягом навчального ро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160" indent="-317160">
              <a:lnSpc>
                <a:spcPct val="80000"/>
              </a:lnSpc>
              <a:spcBef>
                <a:spcPts val="1250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новлювати інформацію на сайтах Р(М)В(У)О розділи щодо ЗНО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160" indent="0" algn="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uk-UA" sz="2000" spc="-1" strike="noStrike">
                <a:solidFill>
                  <a:srgbClr val="ff3300"/>
                </a:solidFill>
                <a:latin typeface="Arial"/>
              </a:rPr>
              <a:t>протягом навчального ро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3718080"/>
            <a:ext cx="863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3348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19280" y="2492280"/>
            <a:ext cx="73454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uk-UA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МЕТОДИЧНА ПІДТРИМКА</a:t>
            </a:r>
            <a:br>
              <a:rPr sz="3200"/>
            </a:b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760320" cy="68580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8210520" y="0"/>
            <a:ext cx="93348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32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МЕТОДИЧНА ПІДТРИМКА:</a:t>
            </a:r>
            <a:br>
              <a:rPr sz="3200"/>
            </a:b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uk-UA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апробація тестових завдань</a:t>
            </a: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348000" y="1268280"/>
            <a:ext cx="3809880" cy="527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0" y="5516640"/>
            <a:ext cx="914400" cy="13413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0" y="0"/>
            <a:ext cx="93348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32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МЕТОДИЧНА ПІДТРИМКА:</a:t>
            </a:r>
            <a:br>
              <a:rPr sz="3200"/>
            </a:b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uk-UA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графік науково-практичних семінарів</a:t>
            </a: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2195640" y="1773360"/>
          <a:ext cx="6553080" cy="3849480"/>
        </p:xfrm>
        <a:graphic>
          <a:graphicData uri="http://schemas.openxmlformats.org/drawingml/2006/table">
            <a:tbl>
              <a:tblPr/>
              <a:tblGrid>
                <a:gridCol w="2508120"/>
                <a:gridCol w="1432080"/>
                <a:gridCol w="2612880"/>
              </a:tblGrid>
              <a:tr h="79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12.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исти з базов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сциплін район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міських) методич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бінетів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елі, як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кладають предмети, щ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носяться на ЗНО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леговані Р(М)В(У)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на виконання лис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ручень від 27.11.2013 р.).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імі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12.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графі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12.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ійська мо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ітова літерату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.12.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із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.12.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5516640"/>
            <a:ext cx="914400" cy="13413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0" y="0"/>
            <a:ext cx="933480" cy="12762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>
            <a:alphaModFix amt="0"/>
          </a:blip>
          <a:stretch/>
        </p:blipFill>
        <p:spPr>
          <a:xfrm>
            <a:off x="0" y="5516640"/>
            <a:ext cx="103176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8000"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ідвищення рейтингу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uk-UA" sz="26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Харківської області</a:t>
            </a:r>
            <a:r>
              <a:rPr b="1" lang="en-US" sz="30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uk-UA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серед абітурієнтів Україн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які отримали </a:t>
            </a:r>
            <a:r>
              <a:rPr b="1" lang="uk-UA" sz="26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менше 124 балів</a:t>
            </a:r>
            <a:r>
              <a:rPr b="1" lang="uk-UA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uk-UA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за шкалою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[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00-200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]</a:t>
            </a:r>
            <a:r>
              <a:rPr b="1" lang="uk-UA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балів по предмет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Диаграмма 12" descr=""/>
          <p:cNvPicPr/>
          <p:nvPr/>
        </p:nvPicPr>
        <p:blipFill>
          <a:blip r:embed="rId1"/>
          <a:stretch/>
        </p:blipFill>
        <p:spPr>
          <a:xfrm>
            <a:off x="0" y="831960"/>
            <a:ext cx="8915400" cy="6026040"/>
          </a:xfrm>
          <a:prstGeom prst="rect">
            <a:avLst/>
          </a:prstGeom>
          <a:ln w="0">
            <a:noFill/>
          </a:ln>
        </p:spPr>
      </p:pic>
      <p:sp>
        <p:nvSpPr>
          <p:cNvPr id="54" name="Line 138"/>
          <p:cNvSpPr/>
          <p:nvPr/>
        </p:nvSpPr>
        <p:spPr>
          <a:xfrm flipV="1">
            <a:off x="1219320" y="2666880"/>
            <a:ext cx="0" cy="9352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38"/>
          <p:cNvSpPr/>
          <p:nvPr/>
        </p:nvSpPr>
        <p:spPr>
          <a:xfrm flipV="1">
            <a:off x="2209680" y="2057040"/>
            <a:ext cx="0" cy="25146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38"/>
          <p:cNvSpPr/>
          <p:nvPr/>
        </p:nvSpPr>
        <p:spPr>
          <a:xfrm flipH="1" flipV="1">
            <a:off x="3200040" y="1828800"/>
            <a:ext cx="3240" cy="5205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38"/>
          <p:cNvSpPr/>
          <p:nvPr/>
        </p:nvSpPr>
        <p:spPr>
          <a:xfrm flipV="1">
            <a:off x="4191120" y="3123720"/>
            <a:ext cx="0" cy="21337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38"/>
          <p:cNvSpPr/>
          <p:nvPr/>
        </p:nvSpPr>
        <p:spPr>
          <a:xfrm flipV="1">
            <a:off x="5181480" y="3124080"/>
            <a:ext cx="0" cy="9352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38"/>
          <p:cNvSpPr/>
          <p:nvPr/>
        </p:nvSpPr>
        <p:spPr>
          <a:xfrm flipV="1">
            <a:off x="6172200" y="2286000"/>
            <a:ext cx="0" cy="457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38"/>
          <p:cNvSpPr/>
          <p:nvPr/>
        </p:nvSpPr>
        <p:spPr>
          <a:xfrm flipV="1">
            <a:off x="7162920" y="3124080"/>
            <a:ext cx="0" cy="23623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38"/>
          <p:cNvSpPr/>
          <p:nvPr/>
        </p:nvSpPr>
        <p:spPr>
          <a:xfrm flipV="1">
            <a:off x="8153280" y="2057040"/>
            <a:ext cx="0" cy="34290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7000"/>
                            </p:stCondLst>
                            <p:childTnLst>
                              <p:par>
                                <p:cTn id="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8000"/>
                            </p:stCondLst>
                            <p:childTnLst>
                              <p:par>
                                <p:cTn id="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07640" y="333000"/>
            <a:ext cx="698508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МЕТОДИЧНА ПІДТРИМ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907640" y="1916280"/>
            <a:ext cx="7021800" cy="43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рганізація доведення до кожного випускника змістовної інформації з використанням матеріалів методичних семінар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uk-UA" sz="2400" spc="-1" strike="noStrike">
                <a:solidFill>
                  <a:srgbClr val="ff3300"/>
                </a:solidFill>
                <a:latin typeface="Arial"/>
              </a:rPr>
              <a:t>протягом навчального 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дання доступу до Інтернет з метою ознайомлення з інформацією щодо програм, характеристик тестів  та тестів минулих років 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(розділ “Методичний порадник” сайт ХРЦОЯ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uk-UA" sz="2400" spc="-1" strike="noStrike">
                <a:solidFill>
                  <a:srgbClr val="ff3300"/>
                </a:solidFill>
                <a:latin typeface="Arial"/>
              </a:rPr>
              <a:t>протягом навчального 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3718080"/>
            <a:ext cx="863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3348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71280" y="2636640"/>
            <a:ext cx="70578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ПРОБНЕ ЗН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760320" cy="6858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8210520" y="0"/>
            <a:ext cx="93348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07640" y="-360"/>
            <a:ext cx="698508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ПРОБНЕ ЗНО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5516640"/>
            <a:ext cx="914400" cy="13413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0" y="0"/>
            <a:ext cx="933480" cy="12762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2771640" y="620640"/>
            <a:ext cx="5075280" cy="623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896840" y="188640"/>
            <a:ext cx="71499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РОБНЕ</a:t>
            </a: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З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547280" y="765000"/>
            <a:ext cx="74170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ісце проведення: м. Балаклія, м. Красноград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Куп’янськ, м. Лозова, м. Харків 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базі ВНЗ І-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835280" y="2060640"/>
          <a:ext cx="6840360" cy="4487760"/>
        </p:xfrm>
        <a:graphic>
          <a:graphicData uri="http://schemas.openxmlformats.org/drawingml/2006/table">
            <a:tbl>
              <a:tblPr/>
              <a:tblGrid>
                <a:gridCol w="3402720"/>
                <a:gridCol w="3437640"/>
              </a:tblGrid>
              <a:tr h="462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ерезня 2014 р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ерезня 2014 р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5520">
                <a:tc>
                  <a:txBody>
                    <a:bodyPr anchor="t">
                      <a:noAutofit/>
                    </a:bodyPr>
                    <a:p>
                      <a:pPr marL="781200" indent="-7812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раїнська мова і літера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81200" indent="-7812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імі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81200" indent="-7812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із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81200" indent="-7812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ійська м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81200" indent="-7812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світня історі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81200" indent="-7812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ноземна мова: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глійська, німецька, французька, іспанська (за вибором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781200" indent="-7812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81200" indent="-7812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сторія Украї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81200" indent="-7812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іологі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81200" indent="-7812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графі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81200" indent="-7812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ітова літера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6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33480" cy="12762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0" y="5516640"/>
            <a:ext cx="1031760" cy="134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907640" y="333000"/>
            <a:ext cx="698508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ПРОБНЕ З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907640" y="1483920"/>
            <a:ext cx="70218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0320" indent="-310320">
              <a:lnSpc>
                <a:spcPct val="80000"/>
              </a:lnSpc>
              <a:spcBef>
                <a:spcPts val="12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інформування учасників щодо необхідності отримання Запрошення із сторінки “Особистий кабінет”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(розділ “Пробне ЗНО” сайт ХРЦОЯО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0320" indent="0" algn="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uk-UA" sz="2000" spc="-1" strike="noStrike">
                <a:solidFill>
                  <a:srgbClr val="ff3300"/>
                </a:solidFill>
                <a:latin typeface="Arial"/>
              </a:rPr>
              <a:t>з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3 </a:t>
            </a:r>
            <a:r>
              <a:rPr b="0" i="1" lang="uk-UA" sz="2000" spc="-1" strike="noStrike">
                <a:solidFill>
                  <a:srgbClr val="ff3300"/>
                </a:solidFill>
                <a:latin typeface="Arial"/>
              </a:rPr>
              <a:t>березня 2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0</a:t>
            </a:r>
            <a:r>
              <a:rPr b="0" i="1" lang="uk-UA" sz="20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0" i="1" lang="uk-UA" sz="2000" spc="-1" strike="noStrike">
                <a:solidFill>
                  <a:srgbClr val="ff3300"/>
                </a:solidFill>
                <a:latin typeface="Arial"/>
              </a:rPr>
              <a:t> ро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0320" indent="-310320">
              <a:lnSpc>
                <a:spcPct val="80000"/>
              </a:lnSpc>
              <a:spcBef>
                <a:spcPts val="12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інформування учасників щодо можливості отримання рейтингового результату на сторінці “Особистий кабінет” (за умови внесення відповідей в електронний бланк після тестуванн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0320" indent="0" algn="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uk-UA" sz="2000" spc="-1" strike="noStrike">
                <a:solidFill>
                  <a:srgbClr val="ff3300"/>
                </a:solidFill>
                <a:latin typeface="Arial"/>
              </a:rPr>
              <a:t>з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0" i="1" lang="uk-UA" sz="2000" spc="-1" strike="noStrike">
                <a:solidFill>
                  <a:srgbClr val="ff3300"/>
                </a:solidFill>
                <a:latin typeface="Arial"/>
              </a:rPr>
              <a:t> квітня 201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0" i="1" lang="uk-UA" sz="2000" spc="-1" strike="noStrike">
                <a:solidFill>
                  <a:srgbClr val="ff3300"/>
                </a:solidFill>
                <a:latin typeface="Arial"/>
              </a:rPr>
              <a:t> ро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032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032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uk-UA" sz="2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i="1" lang="uk-UA" sz="2000" spc="-1" strike="noStrike">
                <a:solidFill>
                  <a:srgbClr val="ff3300"/>
                </a:solidFill>
                <a:latin typeface="Arial"/>
              </a:rPr>
              <a:t>У разі втрати паролю та коду направляти електронний запит на відновлення, вказавши прізвище, ім’я та по-батькові, контактний номер телефону на електронну пошт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032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uk-UA" sz="20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uk-UA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robne@zno-kharkiv.org.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032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3718080"/>
            <a:ext cx="863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0" y="0"/>
            <a:ext cx="93348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-1440" y="836640"/>
            <a:ext cx="9145440" cy="54752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79280" y="5013360"/>
            <a:ext cx="1513080" cy="43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1692360" y="0"/>
            <a:ext cx="698508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САЙТ ХРЦОЯ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"/>
          <p:cNvPicPr/>
          <p:nvPr/>
        </p:nvPicPr>
        <p:blipFill>
          <a:blip r:embed="rId1"/>
          <a:srcRect l="10922" t="21131" r="51871" b="8737"/>
          <a:stretch/>
        </p:blipFill>
        <p:spPr>
          <a:xfrm>
            <a:off x="2050920" y="0"/>
            <a:ext cx="5504040" cy="68403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8229600" y="5516640"/>
            <a:ext cx="914400" cy="1341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>
            <a:alphaModFix amt="0"/>
          </a:blip>
          <a:stretch/>
        </p:blipFill>
        <p:spPr>
          <a:xfrm>
            <a:off x="0" y="5516640"/>
            <a:ext cx="1031760" cy="134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31640" y="2565360"/>
            <a:ext cx="70578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ОРГАНІЗАЦІЙНА РО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760320" cy="68580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8210520" y="0"/>
            <a:ext cx="93348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1547640" y="0"/>
            <a:ext cx="74170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ОКРУГИ З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1908000" y="765000"/>
            <a:ext cx="705672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237600" indent="-237600">
              <a:lnSpc>
                <a:spcPct val="80000"/>
              </a:lnSpc>
              <a:spcBef>
                <a:spcPts val="1125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ідбір персоналу пунктів тестуван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600" indent="-237600" algn="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uk-UA" sz="1800" spc="-1" strike="noStrike">
                <a:solidFill>
                  <a:srgbClr val="ff3300"/>
                </a:solidFill>
                <a:latin typeface="Arial"/>
              </a:rPr>
              <a:t>20.01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0" i="1" lang="uk-UA" sz="1800" spc="-1" strike="noStrike">
                <a:solidFill>
                  <a:srgbClr val="ff3300"/>
                </a:solidFill>
                <a:latin typeface="Arial"/>
              </a:rPr>
              <a:t>-24.01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600" indent="-237600">
              <a:lnSpc>
                <a:spcPct val="80000"/>
              </a:lnSpc>
              <a:spcBef>
                <a:spcPts val="1125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ідготовка персоналу пунктів тестуван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600" indent="-237600" algn="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uk-UA" sz="1800" spc="-1" strike="noStrike">
                <a:solidFill>
                  <a:srgbClr val="ff3300"/>
                </a:solidFill>
                <a:latin typeface="Arial"/>
              </a:rPr>
              <a:t>02.02.-31.03.2014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600" indent="-237600">
              <a:lnSpc>
                <a:spcPct val="80000"/>
              </a:lnSpc>
              <a:spcBef>
                <a:spcPts val="1125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формування бази даних персоналу пунктів пробного тестуван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600" indent="-237600" algn="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uk-UA" sz="1800" spc="-1" strike="noStrike">
                <a:solidFill>
                  <a:srgbClr val="ff3300"/>
                </a:solidFill>
                <a:latin typeface="Arial"/>
              </a:rPr>
              <a:t>02.02.-21.02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600" indent="-237600">
              <a:lnSpc>
                <a:spcPct val="80000"/>
              </a:lnSpc>
              <a:spcBef>
                <a:spcPts val="1125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оведення установчих нарад пробного З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600" indent="-237600" algn="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1800" spc="-1" strike="noStrike">
                <a:solidFill>
                  <a:srgbClr val="ff3300"/>
                </a:solidFill>
                <a:latin typeface="Arial"/>
              </a:rPr>
              <a:t>10.03.-22.03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600" indent="-237600">
              <a:lnSpc>
                <a:spcPct val="80000"/>
              </a:lnSpc>
              <a:spcBef>
                <a:spcPts val="1125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оведення пробного З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600" indent="-237600" algn="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uk-UA" sz="1800" spc="-1" strike="noStrike">
                <a:solidFill>
                  <a:srgbClr val="ff3300"/>
                </a:solidFill>
                <a:latin typeface="Arial"/>
              </a:rPr>
              <a:t>22.03.2014, 29.03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600" indent="-237600">
              <a:lnSpc>
                <a:spcPct val="80000"/>
              </a:lnSpc>
              <a:spcBef>
                <a:spcPts val="1125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формування бази даних персоналу пунктів тестуван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600" indent="-237600" algn="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uk-UA" sz="1800" spc="-1" strike="noStrike">
                <a:solidFill>
                  <a:srgbClr val="ff3300"/>
                </a:solidFill>
                <a:latin typeface="Arial"/>
              </a:rPr>
              <a:t>07.04.-18.04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600" indent="-237600">
              <a:lnSpc>
                <a:spcPct val="80000"/>
              </a:lnSpc>
              <a:spcBef>
                <a:spcPts val="1125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оведення установчих нар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600" indent="-237600" algn="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1800" spc="-1" strike="noStrike">
                <a:solidFill>
                  <a:srgbClr val="ff3300"/>
                </a:solidFill>
                <a:latin typeface="Arial"/>
              </a:rPr>
              <a:t>12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.05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0" i="1" lang="uk-UA" sz="18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30</a:t>
            </a:r>
            <a:r>
              <a:rPr b="0" i="1" lang="uk-UA" sz="1800" spc="-1" strike="noStrike">
                <a:solidFill>
                  <a:srgbClr val="ff3300"/>
                </a:solidFill>
                <a:latin typeface="Arial"/>
              </a:rPr>
              <a:t>.0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0" i="1" lang="uk-UA" sz="1800" spc="-1" strike="noStrike">
                <a:solidFill>
                  <a:srgbClr val="ff3300"/>
                </a:solidFill>
                <a:latin typeface="Arial"/>
              </a:rPr>
              <a:t>.2014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600" indent="-237600">
              <a:lnSpc>
                <a:spcPct val="80000"/>
              </a:lnSpc>
              <a:spcBef>
                <a:spcPts val="1125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оведення З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600" indent="-237600" algn="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uk-UA" sz="1800" spc="-1" strike="noStrike">
                <a:solidFill>
                  <a:srgbClr val="ff3300"/>
                </a:solidFill>
                <a:latin typeface="Arial"/>
              </a:rPr>
              <a:t>03.06.-27.0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0" i="1" lang="uk-UA" sz="1800" spc="-1" strike="noStrike">
                <a:solidFill>
                  <a:srgbClr val="ff3300"/>
                </a:solidFill>
                <a:latin typeface="Arial"/>
              </a:rPr>
              <a:t>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3718080"/>
            <a:ext cx="863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3348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31640" y="2565360"/>
            <a:ext cx="70578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РЕЄСТРАЦІ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760320" cy="68580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8210520" y="0"/>
            <a:ext cx="93348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0" y="45720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1000"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ідвищення рейтингу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uk-UA" sz="26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Харківської області</a:t>
            </a:r>
            <a:r>
              <a:rPr b="1" lang="en-US" sz="30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uk-UA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серед абітурієнтів Україн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які отримали </a:t>
            </a:r>
            <a:r>
              <a:rPr b="1" lang="uk-UA" sz="26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більше 180 балів</a:t>
            </a:r>
            <a:r>
              <a:rPr b="1" lang="uk-UA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за шкалою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[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00-200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]</a:t>
            </a:r>
            <a:r>
              <a:rPr b="1" lang="uk-UA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балів по предмет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Диаграмма 9" descr=""/>
          <p:cNvPicPr/>
          <p:nvPr/>
        </p:nvPicPr>
        <p:blipFill>
          <a:blip r:embed="rId1"/>
          <a:stretch/>
        </p:blipFill>
        <p:spPr>
          <a:xfrm>
            <a:off x="-228600" y="533520"/>
            <a:ext cx="9528120" cy="6099120"/>
          </a:xfrm>
          <a:prstGeom prst="rect">
            <a:avLst/>
          </a:prstGeom>
          <a:ln w="0">
            <a:noFill/>
          </a:ln>
        </p:spPr>
      </p:pic>
      <p:sp>
        <p:nvSpPr>
          <p:cNvPr id="64" name="Line 16"/>
          <p:cNvSpPr/>
          <p:nvPr/>
        </p:nvSpPr>
        <p:spPr>
          <a:xfrm flipV="1">
            <a:off x="1828800" y="3123720"/>
            <a:ext cx="0" cy="360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6"/>
          <p:cNvSpPr/>
          <p:nvPr/>
        </p:nvSpPr>
        <p:spPr>
          <a:xfrm flipV="1">
            <a:off x="2743200" y="3276720"/>
            <a:ext cx="0" cy="8380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6"/>
          <p:cNvSpPr/>
          <p:nvPr/>
        </p:nvSpPr>
        <p:spPr>
          <a:xfrm flipV="1">
            <a:off x="3733920" y="2971440"/>
            <a:ext cx="0" cy="7621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6"/>
          <p:cNvSpPr/>
          <p:nvPr/>
        </p:nvSpPr>
        <p:spPr>
          <a:xfrm flipV="1">
            <a:off x="4648320" y="3581280"/>
            <a:ext cx="0" cy="10670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6"/>
          <p:cNvSpPr/>
          <p:nvPr/>
        </p:nvSpPr>
        <p:spPr>
          <a:xfrm flipV="1">
            <a:off x="5638680" y="2209320"/>
            <a:ext cx="0" cy="1079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6"/>
          <p:cNvSpPr/>
          <p:nvPr/>
        </p:nvSpPr>
        <p:spPr>
          <a:xfrm flipV="1">
            <a:off x="6629400" y="2361960"/>
            <a:ext cx="0" cy="990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6"/>
          <p:cNvSpPr/>
          <p:nvPr/>
        </p:nvSpPr>
        <p:spPr>
          <a:xfrm flipV="1">
            <a:off x="7543800" y="2514240"/>
            <a:ext cx="0" cy="360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6"/>
          <p:cNvSpPr/>
          <p:nvPr/>
        </p:nvSpPr>
        <p:spPr>
          <a:xfrm flipV="1">
            <a:off x="8532720" y="1844280"/>
            <a:ext cx="0" cy="360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6"/>
          <p:cNvSpPr/>
          <p:nvPr/>
        </p:nvSpPr>
        <p:spPr>
          <a:xfrm flipV="1">
            <a:off x="838080" y="3123720"/>
            <a:ext cx="0" cy="360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0"/>
                            </p:stCondLst>
                            <p:childTnLst>
                              <p:par>
                                <p:cTn id="1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7000"/>
                            </p:stCondLst>
                            <p:childTnLst>
                              <p:par>
                                <p:cTn id="1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8000"/>
                            </p:stCondLst>
                            <p:childTnLst>
                              <p:par>
                                <p:cTn id="1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9000"/>
                            </p:stCondLst>
                            <p:childTnLst>
                              <p:par>
                                <p:cTn id="1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86920" y="-360"/>
            <a:ext cx="730908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РЕЄСТРАЦІЯ: мережа пунктів реєстраці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1022400" y="925560"/>
          <a:ext cx="7056360" cy="5830920"/>
        </p:xfrm>
        <a:graphic>
          <a:graphicData uri="http://schemas.openxmlformats.org/drawingml/2006/table">
            <a:tbl>
              <a:tblPr/>
              <a:tblGrid>
                <a:gridCol w="514440"/>
                <a:gridCol w="1573200"/>
                <a:gridCol w="2808360"/>
                <a:gridCol w="2160360"/>
              </a:tblGrid>
              <a:tr h="1068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\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зташування П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 установи, закладу освіти, в приміщенні якого розташований пункт реєстраці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штова адреса пункту реєстраці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. Красногра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градський 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едж комунального закладу “Харківська гуманітарно-педагогічна академія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304, Харківська обл.,  м.Красноград, 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ул. 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овська, 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. Куп’янсь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унальний заклад охорони здоров’я «Куп’янський  медичний коледж імені Марії Шкарлетової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03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705,  Харківська область  м. Куп’янськ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03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ул. 1Травня, 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. Лоз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зівська філія Харківського автомобільно-дорожного технікум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602, Харківська область,  м. Лозова,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ікрорайон № 9, 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. Балаклі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аклійська філія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унального закладу «Харківська гуманітарно-педагогічна академія» Харківської обласної рад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200,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ківська область,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м. Балаклія, пл.В.Й.Казмірука, 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8278920" y="5589720"/>
            <a:ext cx="865080" cy="12682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0" y="5661000"/>
            <a:ext cx="92088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835280" y="-360"/>
            <a:ext cx="69847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РЕЄСТРАЦІЯ: </a:t>
            </a:r>
            <a:r>
              <a:rPr b="1" lang="uk-UA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мережа пунктів реєстраці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826920" y="692280"/>
          <a:ext cx="7610760" cy="5949720"/>
        </p:xfrm>
        <a:graphic>
          <a:graphicData uri="http://schemas.openxmlformats.org/drawingml/2006/table">
            <a:tbl>
              <a:tblPr/>
              <a:tblGrid>
                <a:gridCol w="421920"/>
                <a:gridCol w="333360"/>
                <a:gridCol w="4322520"/>
                <a:gridCol w="2532960"/>
              </a:tblGrid>
              <a:tr h="823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\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ківський національний університет імені В.Н.Каразі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077, м. Харків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-н Свободи,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іональний технічний університет «Харківський політехнічний інститут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002, м. Харків, вул. Фрунзе, 21, корп. У2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. 1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ківський національний економічний університет імені Семена Кузнец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001, м. Харків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. Леніна, 9-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ківський національний університет радіоелектроні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166, м. Харків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. Леніна, 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ківський національний університет міського господарства імені О.М.Бекет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002, м. Харків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ул. Маршала Бажанова, 1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ківський національний автомобільно-дорожній університ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002, м. Харків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ул. Петровського, 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ківський 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іональний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ніверситет будівництва та архітектур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002, м. Харків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ул. Сумська, 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раїнська державна академія залізничного транспор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050, м. Харків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йдан Феєрбаха, 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377200" y="5734080"/>
            <a:ext cx="766800" cy="11239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0" y="5734080"/>
            <a:ext cx="86508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РЕЄСТРАЦІЯ: </a:t>
            </a:r>
            <a:r>
              <a:rPr b="1" lang="uk-UA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мережа пунктів реєстраці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187280" y="735120"/>
          <a:ext cx="6985080" cy="6122880"/>
        </p:xfrm>
        <a:graphic>
          <a:graphicData uri="http://schemas.openxmlformats.org/drawingml/2006/table">
            <a:tbl>
              <a:tblPr/>
              <a:tblGrid>
                <a:gridCol w="520920"/>
                <a:gridCol w="3909960"/>
                <a:gridCol w="2554200"/>
              </a:tblGrid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ківський національний аграрний університет імені В.В.Докучає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483, Харківська область, Харківський район, п/в «Комуніст-1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ківський державний університет харчування та торгівл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051, м. Харків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ул. Клочківська, 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ківський машинобудівний коллед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000, м. Харків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ул. ІІІ Інтернаціоналу,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іональний аерокосмічний університет імені М.Є.Жуковського «Харківський авіаційний інститут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070, м.Харків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ул. Чкалова, 17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ківський автомобільно-дорожній техніку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051, м.Харків,                вул.Котельниківська,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ківський інститут фінансів Українського державного університету фінансів та міжнародної торгівл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003, м. Харків, пров. Плетньовський,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ківський регіональний інститут державного управління Національної академії державного управління при Президентові Украї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050, Україна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. Харків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п. Московський, 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ектромеханічний технікум Харківської національної академії міського господар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038, м. Харків, вул. Крупської, 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8229600" y="5661000"/>
            <a:ext cx="816120" cy="11970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0" y="5661000"/>
            <a:ext cx="92088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907640" y="115920"/>
            <a:ext cx="647244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uk-UA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РЕЄСТРАЦІЯ (03.01-05.03.20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20"/>
          <p:cNvSpPr/>
          <p:nvPr/>
        </p:nvSpPr>
        <p:spPr>
          <a:xfrm>
            <a:off x="1908000" y="836640"/>
            <a:ext cx="6985080" cy="1871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ідготувати комплект документі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пію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аспорт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свідоцтва про народженн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відку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із місця навчання за визначеною формо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копію атестата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ві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отокартк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розміром 3х4 см (для документів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а копіях написати «Згідно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з оригіналом»</a:t>
            </a: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поставити підпис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зазначити прізвище, ініціали та да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23"/>
          <p:cNvSpPr/>
          <p:nvPr/>
        </p:nvSpPr>
        <p:spPr>
          <a:xfrm>
            <a:off x="1979640" y="2924280"/>
            <a:ext cx="6967440" cy="20080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Оформити Заяву-реєстраційну картку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с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амостійно аб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у пункті реєстрації) </a:t>
            </a: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завантажити з сайту ХРЦОЯО спеціальну програ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заповнити поля у програм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здрукувати Заяву-реєстраційну картк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повнити власноруч необхідну частину Заяв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наклеїти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ві фотокартки у відведені місця Заяв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здрукувати Контрольно-інформаційний лист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зберігається в абітурієнта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19"/>
          <p:cNvSpPr/>
          <p:nvPr/>
        </p:nvSpPr>
        <p:spPr>
          <a:xfrm>
            <a:off x="1979640" y="5084640"/>
            <a:ext cx="6985080" cy="57636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Надіслати поштою комплект документів разом і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Заявою-реєстраційною карткою на адресу ХРЦОЯ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9"/>
          <p:cNvSpPr/>
          <p:nvPr/>
        </p:nvSpPr>
        <p:spPr>
          <a:xfrm>
            <a:off x="1979640" y="5805360"/>
            <a:ext cx="6985080" cy="6480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Отримати поштою </a:t>
            </a:r>
            <a:r>
              <a:rPr b="1" lang="uk-UA" sz="1800" spc="-1" strike="noStrike">
                <a:solidFill>
                  <a:srgbClr val="ff3300"/>
                </a:solidFill>
                <a:latin typeface="Tahoma"/>
              </a:rPr>
              <a:t>Сертифіка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Tahoma"/>
              </a:rPr>
              <a:t>реєстраційну картку, інформаційний бюлетен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5"/>
          <a:stretch/>
        </p:blipFill>
        <p:spPr>
          <a:xfrm>
            <a:off x="0" y="5516640"/>
            <a:ext cx="914400" cy="13413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6">
            <a:lum contrast="6000"/>
          </a:blip>
          <a:stretch/>
        </p:blipFill>
        <p:spPr>
          <a:xfrm>
            <a:off x="0" y="0"/>
            <a:ext cx="93348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8229600" y="5661000"/>
            <a:ext cx="816120" cy="1197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0" y="5661000"/>
            <a:ext cx="920880" cy="11970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1924200" y="101520"/>
            <a:ext cx="5524200" cy="666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1873080" y="136440"/>
            <a:ext cx="1467000" cy="717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924200" y="3789360"/>
            <a:ext cx="2863800" cy="379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089080" y="6418440"/>
            <a:ext cx="979560" cy="379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753000" y="6405480"/>
            <a:ext cx="3627360" cy="379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564000" y="18900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! </a:t>
            </a:r>
            <a:r>
              <a:rPr b="0" lang="uk-UA" sz="1800" spc="-1" strike="noStrike">
                <a:solidFill>
                  <a:srgbClr val="ff3300"/>
                </a:solidFill>
                <a:latin typeface="Arial"/>
              </a:rPr>
              <a:t>Дата та номер видачі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4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8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6000"/>
                            </p:stCondLst>
                            <p:childTnLst>
                              <p:par>
                                <p:cTn id="20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72151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ПЕРЕРЕЄСТРАЦІЯ (до 19.03.20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20"/>
          <p:cNvSpPr/>
          <p:nvPr/>
        </p:nvSpPr>
        <p:spPr>
          <a:xfrm>
            <a:off x="1908000" y="3429000"/>
            <a:ext cx="6985080" cy="25923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у разі відмови у реєстрації (за рішення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егламентної комісії – подання не всіх документі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еналежне оформлення комплекту документів тощ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еобхідно повторно пройти реєстрацію - надісла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комплект реєстраційних документів, усунувши причин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що стали підставою для відмо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20"/>
          <p:cNvSpPr/>
          <p:nvPr/>
        </p:nvSpPr>
        <p:spPr>
          <a:xfrm>
            <a:off x="1908000" y="1341360"/>
            <a:ext cx="6985080" cy="18716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разі внесення змін до реєстраційних дан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еобхідно повторно пройти реєстрацію - надісла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комплект реєстраційних документів і раніше отрима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ертифіка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3">
            <a:alphaModFix amt="0"/>
          </a:blip>
          <a:stretch/>
        </p:blipFill>
        <p:spPr>
          <a:xfrm>
            <a:off x="0" y="5516640"/>
            <a:ext cx="1031760" cy="13413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0" y="0"/>
            <a:ext cx="93348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AutoShape 20"/>
          <p:cNvSpPr/>
          <p:nvPr/>
        </p:nvSpPr>
        <p:spPr>
          <a:xfrm>
            <a:off x="1908000" y="692280"/>
            <a:ext cx="6985080" cy="19936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 разі втрати або пошкодження Сертифіка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еобхідно оформити його дублікат у ХРЦОЯ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ісля 1 квітня 2014 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20"/>
          <p:cNvSpPr/>
          <p:nvPr/>
        </p:nvSpPr>
        <p:spPr>
          <a:xfrm>
            <a:off x="1908000" y="3213000"/>
            <a:ext cx="7047000" cy="24386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 разі відмови від проходження ЗНО необхід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діслати отриманий Сертифікат та відповідн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яву про відмову до ХРЦОЯ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0" y="5516640"/>
            <a:ext cx="914400" cy="13413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0" y="0"/>
            <a:ext cx="933480" cy="127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2050920" y="907920"/>
            <a:ext cx="6769080" cy="418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75" name=""/>
          <p:cNvSpPr/>
          <p:nvPr/>
        </p:nvSpPr>
        <p:spPr>
          <a:xfrm>
            <a:off x="5343480" y="1522440"/>
            <a:ext cx="1523880" cy="271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296120" y="1541520"/>
            <a:ext cx="1523880" cy="271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0" y="5516640"/>
            <a:ext cx="1031760" cy="13413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0" y="0"/>
            <a:ext cx="93348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2050920" y="836640"/>
            <a:ext cx="6842160" cy="469908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0" y="5516640"/>
            <a:ext cx="914400" cy="134136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0" y="0"/>
            <a:ext cx="93348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3348000" y="2637000"/>
            <a:ext cx="5589720" cy="3944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1835280" y="189000"/>
            <a:ext cx="5257800" cy="369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4" name="" descr=""/>
          <p:cNvPicPr/>
          <p:nvPr/>
        </p:nvPicPr>
        <p:blipFill>
          <a:blip r:embed="rId3">
            <a:alphaModFix amt="0"/>
          </a:blip>
          <a:stretch/>
        </p:blipFill>
        <p:spPr>
          <a:xfrm>
            <a:off x="0" y="5516640"/>
            <a:ext cx="1031760" cy="134136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0" y="0"/>
            <a:ext cx="93348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5516640"/>
            <a:ext cx="1031760" cy="1341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0" y="0"/>
            <a:ext cx="933480" cy="1276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0"/>
          <p:cNvSpPr/>
          <p:nvPr/>
        </p:nvSpPr>
        <p:spPr>
          <a:xfrm>
            <a:off x="1268280" y="619200"/>
            <a:ext cx="7705800" cy="17827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и державного контролю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дотриманням законодавства щодо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ізації та проведення ЗНО-2013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ІНЗ, акти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20"/>
          <p:cNvSpPr/>
          <p:nvPr/>
        </p:nvSpPr>
        <p:spPr>
          <a:xfrm>
            <a:off x="1268280" y="2635200"/>
            <a:ext cx="7705800" cy="1584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и громадського спостереження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ЗНО-2013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О “ОПОРА”, звіт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20"/>
          <p:cNvSpPr/>
          <p:nvPr/>
        </p:nvSpPr>
        <p:spPr>
          <a:xfrm>
            <a:off x="1258920" y="4581360"/>
            <a:ext cx="7705800" cy="158436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и спостереження за проведенням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О-2013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ХРЦОЯО, акт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835280" y="0"/>
            <a:ext cx="741672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3300"/>
                </a:solidFill>
                <a:latin typeface="Arial"/>
                <a:ea typeface="Times New Roman"/>
              </a:rPr>
              <a:t>ІНФОРМАЦІЙНА СТОРІ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20"/>
          <p:cNvSpPr/>
          <p:nvPr/>
        </p:nvSpPr>
        <p:spPr>
          <a:xfrm>
            <a:off x="1908000" y="836640"/>
            <a:ext cx="6985080" cy="19940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творюється на сайті УЦОЯ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ісля закінченн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еєстраці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доступ здійснюється за номером Сертифіката 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pin-кодом, указаним у ньо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1989000" y="3095640"/>
            <a:ext cx="6615360" cy="297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9" name="" descr=""/>
          <p:cNvPicPr/>
          <p:nvPr/>
        </p:nvPicPr>
        <p:blipFill>
          <a:blip r:embed="rId3"/>
          <a:stretch/>
        </p:blipFill>
        <p:spPr>
          <a:xfrm>
            <a:off x="0" y="5516640"/>
            <a:ext cx="914400" cy="134136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0" y="0"/>
            <a:ext cx="933480" cy="127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835280" y="0"/>
            <a:ext cx="741672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3300"/>
                </a:solidFill>
                <a:latin typeface="Arial"/>
                <a:ea typeface="Times New Roman"/>
              </a:rPr>
              <a:t>ІНФОРМАЦІЙНА СТОРІ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20"/>
          <p:cNvSpPr/>
          <p:nvPr/>
        </p:nvSpPr>
        <p:spPr>
          <a:xfrm>
            <a:off x="1835280" y="1341360"/>
            <a:ext cx="6984720" cy="4680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озміщується інформація щодо реєстраційних дан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озміщується Інформаційний бюлетен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укладений мовою, вибраною під час реєстраці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озміщується Запрошення-перепустка і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азначенням місця та часу проходження ЗН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яку можна роздрукува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озміщується Інформаційна картка із результата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НО, яку необхідно роздрукува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0" y="5516640"/>
            <a:ext cx="1031760" cy="134136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0" y="0"/>
            <a:ext cx="933480" cy="127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835280" y="0"/>
            <a:ext cx="741672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3300"/>
                </a:solidFill>
                <a:latin typeface="Arial"/>
                <a:ea typeface="Times New Roman"/>
              </a:rPr>
              <a:t>ІНФОРМАЦІЙНА СТОРІ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1979640" y="836640"/>
            <a:ext cx="3887640" cy="5286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5283360" y="1484280"/>
            <a:ext cx="3611520" cy="518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98" name="" descr=""/>
          <p:cNvPicPr/>
          <p:nvPr/>
        </p:nvPicPr>
        <p:blipFill>
          <a:blip r:embed="rId3"/>
          <a:stretch/>
        </p:blipFill>
        <p:spPr>
          <a:xfrm>
            <a:off x="0" y="5516640"/>
            <a:ext cx="914400" cy="134136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0" y="0"/>
            <a:ext cx="933480" cy="127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907640" y="333000"/>
            <a:ext cx="698508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uk-UA" sz="3600" spc="-1" strike="noStrike">
                <a:solidFill>
                  <a:srgbClr val="ff3300"/>
                </a:solidFill>
                <a:latin typeface="Arial"/>
                <a:ea typeface="Times New Roman"/>
              </a:rPr>
              <a:t>РЕЄСТРАЦІ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979640" y="1483920"/>
            <a:ext cx="702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2750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надання доступу до Інтернет та оргтехніки з метою реєстрації випускників та доступу до їх інформаційних сторін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r">
              <a:lnSpc>
                <a:spcPct val="80000"/>
              </a:lnSpc>
              <a:spcBef>
                <a:spcPts val="27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uk-UA" sz="4400" spc="-1" strike="noStrike">
                <a:solidFill>
                  <a:srgbClr val="ff3300"/>
                </a:solidFill>
                <a:latin typeface="Arial"/>
              </a:rPr>
              <a:t>з 13.01.20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3718080"/>
            <a:ext cx="863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3348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3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0581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ДІН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476360" y="907920"/>
            <a:ext cx="669780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258920" y="981000"/>
            <a:ext cx="6923160" cy="51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оведення інформаційної кампанії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формлення інформаційних куточків щодо ЗНО у кожному ЗНЗ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оведення спільних батьківських зборів для батьків та випускників з питань ЗН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Громадські зустрічі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роки інформат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формлення предметних інформаційних куточків  щодо змісту тесті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нші форми роз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яснювальної роботи щодо реєстрації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дача довідок для реєстрації на З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формлення розділів ЗНО на сайтах Р(М)В(У)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3718080"/>
            <a:ext cx="863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280360" y="3718080"/>
            <a:ext cx="863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3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3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87280" y="2636640"/>
            <a:ext cx="70581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ПРОГРАМА ДЛЯ РЕЄСТРАЦІ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760320" cy="685800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8210520" y="0"/>
            <a:ext cx="93348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9" descr=""/>
          <p:cNvPicPr/>
          <p:nvPr/>
        </p:nvPicPr>
        <p:blipFill>
          <a:blip r:embed="rId1"/>
          <a:srcRect l="24508" t="4887" r="25001" b="3569"/>
          <a:stretch/>
        </p:blipFill>
        <p:spPr>
          <a:xfrm>
            <a:off x="2916360" y="0"/>
            <a:ext cx="461484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13" name="Rectangle 7"/>
          <p:cNvSpPr/>
          <p:nvPr/>
        </p:nvSpPr>
        <p:spPr>
          <a:xfrm>
            <a:off x="4716360" y="476280"/>
            <a:ext cx="2847960" cy="3920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8"/>
          <p:cNvSpPr/>
          <p:nvPr/>
        </p:nvSpPr>
        <p:spPr>
          <a:xfrm>
            <a:off x="2916360" y="1125360"/>
            <a:ext cx="4608360" cy="1295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9"/>
          <p:cNvSpPr/>
          <p:nvPr/>
        </p:nvSpPr>
        <p:spPr>
          <a:xfrm>
            <a:off x="2916360" y="2637000"/>
            <a:ext cx="4608360" cy="9763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0"/>
          <p:cNvSpPr/>
          <p:nvPr/>
        </p:nvSpPr>
        <p:spPr>
          <a:xfrm>
            <a:off x="2916360" y="5084640"/>
            <a:ext cx="4568760" cy="200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1"/>
          <p:cNvSpPr/>
          <p:nvPr/>
        </p:nvSpPr>
        <p:spPr>
          <a:xfrm>
            <a:off x="2916360" y="5373720"/>
            <a:ext cx="4568760" cy="200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4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4000"/>
                            </p:stCondLst>
                            <p:childTnLst>
                              <p:par>
                                <p:cTn id="2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2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6000"/>
                            </p:stCondLst>
                            <p:childTnLst>
                              <p:par>
                                <p:cTn id="2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6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8000"/>
                            </p:stCondLst>
                            <p:childTnLst>
                              <p:par>
                                <p:cTn id="25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0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5" descr=""/>
          <p:cNvPicPr/>
          <p:nvPr/>
        </p:nvPicPr>
        <p:blipFill>
          <a:blip r:embed="rId1"/>
          <a:srcRect l="27460" t="9316" r="25001" b="18333"/>
          <a:stretch/>
        </p:blipFill>
        <p:spPr>
          <a:xfrm>
            <a:off x="2484360" y="0"/>
            <a:ext cx="52038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19" name="Rectangle 13"/>
          <p:cNvSpPr/>
          <p:nvPr/>
        </p:nvSpPr>
        <p:spPr>
          <a:xfrm>
            <a:off x="2484360" y="981000"/>
            <a:ext cx="5183280" cy="719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4"/>
          <p:cNvSpPr/>
          <p:nvPr/>
        </p:nvSpPr>
        <p:spPr>
          <a:xfrm>
            <a:off x="2484360" y="3645000"/>
            <a:ext cx="5183280" cy="93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7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1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5" descr=""/>
          <p:cNvPicPr/>
          <p:nvPr/>
        </p:nvPicPr>
        <p:blipFill>
          <a:blip r:embed="rId1"/>
          <a:srcRect l="24508" t="5625" r="25001" b="5046"/>
          <a:stretch/>
        </p:blipFill>
        <p:spPr>
          <a:xfrm>
            <a:off x="2556000" y="0"/>
            <a:ext cx="489564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22" name="Rectangle 11"/>
          <p:cNvSpPr/>
          <p:nvPr/>
        </p:nvSpPr>
        <p:spPr>
          <a:xfrm>
            <a:off x="2556000" y="3357720"/>
            <a:ext cx="4895640" cy="3384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0"/>
          <p:cNvSpPr/>
          <p:nvPr/>
        </p:nvSpPr>
        <p:spPr>
          <a:xfrm>
            <a:off x="6516720" y="189000"/>
            <a:ext cx="865080" cy="215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8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2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908000" y="765000"/>
            <a:ext cx="723600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Телефон інформаційної служб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3300"/>
                </a:solidFill>
                <a:latin typeface="Times New Roman"/>
              </a:rPr>
              <a:t>(057) 705-07-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Електронна пошт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office@zno-kharkiv.org.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Сай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форум:</a:t>
            </a: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www.zno-kharkiv.org.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Адрес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3300"/>
                </a:solidFill>
                <a:latin typeface="Times New Roman"/>
              </a:rPr>
              <a:t>майдан Свободи, 6, офіс 463, м. Харків, 610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0" y="5637240"/>
            <a:ext cx="1512720" cy="122076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0" y="0"/>
            <a:ext cx="93348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0581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ДІН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946080"/>
            <a:ext cx="9124920" cy="5872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0" name=""/>
          <p:cNvSpPr/>
          <p:nvPr/>
        </p:nvSpPr>
        <p:spPr>
          <a:xfrm>
            <a:off x="6084720" y="6308640"/>
            <a:ext cx="28083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26920" y="6524640"/>
            <a:ext cx="80661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627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0" y="6021360"/>
            <a:ext cx="9144000" cy="8366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843280" y="6308640"/>
            <a:ext cx="63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Monotype Corsiva"/>
              </a:rPr>
              <a:t>З найкращими побажаннями колектив ХРЦОЯ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834920" y="-360"/>
            <a:ext cx="70578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НОРМАТИВНА БА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35280" y="836640"/>
            <a:ext cx="7057800" cy="61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аказ Міністерства освіти і наук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України від 03.09.2013 р. №125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 зовнішнє незалежне оцінювання навчальних досягнень осіб, які виявили бажання вступати до вищих навчальних закладів України в 2014 році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аказ Міністерства освіти і науки України від 08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.2013 р. №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57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 затвердженн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ормативно-правових актів щодо проведення зовнішнього незалежного оцінювання навчальних досягнень випускників навчальних закладів системи загальної середньої освіти в 2014 році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аказ Міністерства освіти і науки України від 08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.2013 р. №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57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 затвердження Календарного плану підготовки та проведення зовнішнього незалежного оцінювання навчальних досягнень осіб, які виявили бажання вступати до вищих навчальних закладів України в 2014 році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аказ Міністерства освіти і науки України від 29.10.2013 р. №15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 затвердження Умов прийому до вищих навчальних закладів України у 2014 році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аказ Міністерства освіти і науки України від 03.12.2013 р. №168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 затвердження програм для проведення зовнішнього незалежного оцінювання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5516640"/>
            <a:ext cx="914400" cy="13413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0" y="0"/>
            <a:ext cx="93348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547280" y="1052280"/>
            <a:ext cx="7417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оведення З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Іноземні мови (англійська, французька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03.06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імецька, іспанська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країнська мова і література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05.06, 06.06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сійська мова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0.06.201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атематика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2.06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еографія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4.06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Біологія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6.06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Фізика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8.06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сторія України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0.06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Хімія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3.06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сесвітня історія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5.06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вітова література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7.06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голошення результатів ЗНО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о 08.07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оведення додаткової сесії ЗНО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04.07 - 11.07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1835280" y="0"/>
            <a:ext cx="7057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КАЛЕНДАР ЗНО-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5516640"/>
            <a:ext cx="1031760" cy="1341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0" y="0"/>
            <a:ext cx="93348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AutoShape 20"/>
          <p:cNvGrpSpPr/>
          <p:nvPr/>
        </p:nvGrpSpPr>
        <p:grpSpPr>
          <a:xfrm>
            <a:off x="2546280" y="414360"/>
            <a:ext cx="2087640" cy="1079640"/>
            <a:chOff x="2546280" y="414360"/>
            <a:chExt cx="2087640" cy="1079640"/>
          </a:xfrm>
        </p:grpSpPr>
        <p:pic>
          <p:nvPicPr>
            <p:cNvPr id="91" name="AutoShape 20" descr=""/>
            <p:cNvPicPr/>
            <p:nvPr/>
          </p:nvPicPr>
          <p:blipFill>
            <a:blip r:embed="rId1"/>
            <a:stretch/>
          </p:blipFill>
          <p:spPr>
            <a:xfrm>
              <a:off x="2546280" y="414360"/>
              <a:ext cx="208764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2603880" y="525240"/>
              <a:ext cx="1919520" cy="9104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УКРАЇНСЬКА МОВ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Arial"/>
                </a:rPr>
                <a:t>І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ЛІТЕРАТУР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Arial"/>
                </a:rPr>
                <a:t>05.06, 06.06.20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AutoShape 20"/>
          <p:cNvGrpSpPr/>
          <p:nvPr/>
        </p:nvGrpSpPr>
        <p:grpSpPr>
          <a:xfrm>
            <a:off x="169920" y="414360"/>
            <a:ext cx="2228760" cy="1079640"/>
            <a:chOff x="169920" y="414360"/>
            <a:chExt cx="2228760" cy="1079640"/>
          </a:xfrm>
        </p:grpSpPr>
        <p:pic>
          <p:nvPicPr>
            <p:cNvPr id="94" name="AutoShape 20" descr=""/>
            <p:cNvPicPr/>
            <p:nvPr/>
          </p:nvPicPr>
          <p:blipFill>
            <a:blip r:embed="rId3"/>
            <a:stretch/>
          </p:blipFill>
          <p:spPr>
            <a:xfrm>
              <a:off x="169920" y="414360"/>
              <a:ext cx="22287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227520" y="525240"/>
              <a:ext cx="2060640" cy="9104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Arial"/>
                </a:rPr>
                <a:t>ІНОЗЕМНА</a:t>
              </a:r>
              <a:r>
                <a:rPr b="0" lang="uk-UA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uk-UA" sz="1200" spc="-1" strike="noStrike">
                  <a:solidFill>
                    <a:srgbClr val="000000"/>
                  </a:solidFill>
                  <a:latin typeface="Arial"/>
                </a:rPr>
                <a:t>МО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100" spc="-1" strike="noStrike">
                  <a:solidFill>
                    <a:srgbClr val="000000"/>
                  </a:solidFill>
                  <a:latin typeface="Arial"/>
                </a:rPr>
                <a:t>за вибором: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100" spc="-1" strike="noStrike">
                  <a:solidFill>
                    <a:srgbClr val="000000"/>
                  </a:solidFill>
                  <a:latin typeface="Arial"/>
                </a:rPr>
                <a:t>англійська, німецька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100" spc="-1" strike="noStrike">
                  <a:solidFill>
                    <a:srgbClr val="000000"/>
                  </a:solidFill>
                  <a:latin typeface="Arial"/>
                </a:rPr>
                <a:t>французька, іспанська</a:t>
              </a:r>
              <a:r>
                <a:rPr b="1" lang="uk-UA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Arial"/>
                </a:rPr>
                <a:t>03.06.2014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AutoShape 20"/>
          <p:cNvGrpSpPr/>
          <p:nvPr/>
        </p:nvGrpSpPr>
        <p:grpSpPr>
          <a:xfrm>
            <a:off x="2617920" y="1636560"/>
            <a:ext cx="2049480" cy="1079640"/>
            <a:chOff x="2617920" y="1636560"/>
            <a:chExt cx="2049480" cy="1079640"/>
          </a:xfrm>
        </p:grpSpPr>
        <p:pic>
          <p:nvPicPr>
            <p:cNvPr id="97" name="AutoShape 20" descr=""/>
            <p:cNvPicPr/>
            <p:nvPr/>
          </p:nvPicPr>
          <p:blipFill>
            <a:blip r:embed="rId5"/>
            <a:stretch/>
          </p:blipFill>
          <p:spPr>
            <a:xfrm>
              <a:off x="2617920" y="1636560"/>
              <a:ext cx="204948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2676600" y="1747440"/>
              <a:ext cx="1881720" cy="9104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БІОЛОГІ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6.06.20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AutoShape 20"/>
          <p:cNvGrpSpPr/>
          <p:nvPr/>
        </p:nvGrpSpPr>
        <p:grpSpPr>
          <a:xfrm>
            <a:off x="601560" y="1636560"/>
            <a:ext cx="1871640" cy="1079640"/>
            <a:chOff x="601560" y="1636560"/>
            <a:chExt cx="1871640" cy="1079640"/>
          </a:xfrm>
        </p:grpSpPr>
        <p:pic>
          <p:nvPicPr>
            <p:cNvPr id="100" name="AutoShape 20" descr=""/>
            <p:cNvPicPr/>
            <p:nvPr/>
          </p:nvPicPr>
          <p:blipFill>
            <a:blip r:embed="rId7"/>
            <a:stretch/>
          </p:blipFill>
          <p:spPr>
            <a:xfrm>
              <a:off x="601560" y="1636560"/>
              <a:ext cx="187164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660240" y="1747440"/>
              <a:ext cx="1702800" cy="9104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ГЕОГРАФІ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4.06.20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AutoShape 20"/>
          <p:cNvGrpSpPr/>
          <p:nvPr/>
        </p:nvGrpSpPr>
        <p:grpSpPr>
          <a:xfrm>
            <a:off x="7085160" y="414360"/>
            <a:ext cx="1866600" cy="1079640"/>
            <a:chOff x="7085160" y="414360"/>
            <a:chExt cx="1866600" cy="1079640"/>
          </a:xfrm>
        </p:grpSpPr>
        <p:pic>
          <p:nvPicPr>
            <p:cNvPr id="103" name="AutoShape 20" descr=""/>
            <p:cNvPicPr/>
            <p:nvPr/>
          </p:nvPicPr>
          <p:blipFill>
            <a:blip r:embed="rId9"/>
            <a:stretch/>
          </p:blipFill>
          <p:spPr>
            <a:xfrm>
              <a:off x="7085160" y="414360"/>
              <a:ext cx="186660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7141680" y="525240"/>
              <a:ext cx="1702440" cy="91044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МАТЕМАТИК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2.06.20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AutoShape 20"/>
          <p:cNvGrpSpPr/>
          <p:nvPr/>
        </p:nvGrpSpPr>
        <p:grpSpPr>
          <a:xfrm>
            <a:off x="6940440" y="1711440"/>
            <a:ext cx="1793880" cy="1079280"/>
            <a:chOff x="6940440" y="1711440"/>
            <a:chExt cx="1793880" cy="1079280"/>
          </a:xfrm>
        </p:grpSpPr>
        <p:pic>
          <p:nvPicPr>
            <p:cNvPr id="106" name="AutoShape 20" descr=""/>
            <p:cNvPicPr/>
            <p:nvPr/>
          </p:nvPicPr>
          <p:blipFill>
            <a:blip r:embed="rId11"/>
            <a:stretch/>
          </p:blipFill>
          <p:spPr>
            <a:xfrm>
              <a:off x="6940440" y="1711440"/>
              <a:ext cx="179388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6996960" y="1822320"/>
              <a:ext cx="1629360" cy="910440"/>
            </a:xfrm>
            <a:prstGeom prst="rect">
              <a:avLst/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Arial"/>
                </a:rPr>
                <a:t>ІСТОРІЯ УКРАЇН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Arial"/>
                </a:rPr>
                <a:t>20.06.20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AutoShape 20"/>
          <p:cNvGrpSpPr/>
          <p:nvPr/>
        </p:nvGrpSpPr>
        <p:grpSpPr>
          <a:xfrm>
            <a:off x="1181160" y="3008160"/>
            <a:ext cx="2084400" cy="1076400"/>
            <a:chOff x="1181160" y="3008160"/>
            <a:chExt cx="2084400" cy="1076400"/>
          </a:xfrm>
        </p:grpSpPr>
        <p:pic>
          <p:nvPicPr>
            <p:cNvPr id="109" name="AutoShape 20" descr=""/>
            <p:cNvPicPr/>
            <p:nvPr/>
          </p:nvPicPr>
          <p:blipFill>
            <a:blip r:embed="rId13"/>
            <a:stretch/>
          </p:blipFill>
          <p:spPr>
            <a:xfrm>
              <a:off x="1181160" y="3008160"/>
              <a:ext cx="2084400" cy="10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1236600" y="3116880"/>
              <a:ext cx="1920240" cy="910800"/>
            </a:xfrm>
            <a:prstGeom prst="rect">
              <a:avLst/>
            </a:prstGeom>
            <a:blipFill rotWithShape="0">
              <a:blip r:embed="rId1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ХІМІ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Arial"/>
                </a:rPr>
                <a:t>23.06.20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AutoShape 20"/>
          <p:cNvGrpSpPr/>
          <p:nvPr/>
        </p:nvGrpSpPr>
        <p:grpSpPr>
          <a:xfrm>
            <a:off x="4924440" y="1711440"/>
            <a:ext cx="1798560" cy="1004760"/>
            <a:chOff x="4924440" y="1711440"/>
            <a:chExt cx="1798560" cy="1004760"/>
          </a:xfrm>
        </p:grpSpPr>
        <p:pic>
          <p:nvPicPr>
            <p:cNvPr id="112" name="AutoShape 20" descr=""/>
            <p:cNvPicPr/>
            <p:nvPr/>
          </p:nvPicPr>
          <p:blipFill>
            <a:blip r:embed="rId15"/>
            <a:stretch/>
          </p:blipFill>
          <p:spPr>
            <a:xfrm>
              <a:off x="4924440" y="1711440"/>
              <a:ext cx="179856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4977720" y="1818720"/>
              <a:ext cx="1639440" cy="844920"/>
            </a:xfrm>
            <a:prstGeom prst="rect">
              <a:avLst/>
            </a:prstGeom>
            <a:blipFill rotWithShape="0">
              <a:blip r:embed="rId1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ФІЗИК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8.06.20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AutoShape 20"/>
          <p:cNvGrpSpPr/>
          <p:nvPr/>
        </p:nvGrpSpPr>
        <p:grpSpPr>
          <a:xfrm>
            <a:off x="4851360" y="414360"/>
            <a:ext cx="1832040" cy="1079640"/>
            <a:chOff x="4851360" y="414360"/>
            <a:chExt cx="1832040" cy="1079640"/>
          </a:xfrm>
        </p:grpSpPr>
        <p:pic>
          <p:nvPicPr>
            <p:cNvPr id="115" name="AutoShape 20" descr=""/>
            <p:cNvPicPr/>
            <p:nvPr/>
          </p:nvPicPr>
          <p:blipFill>
            <a:blip r:embed="rId17"/>
            <a:stretch/>
          </p:blipFill>
          <p:spPr>
            <a:xfrm>
              <a:off x="4851360" y="414360"/>
              <a:ext cx="183204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4907880" y="525240"/>
              <a:ext cx="1666800" cy="910440"/>
            </a:xfrm>
            <a:prstGeom prst="rect">
              <a:avLst/>
            </a:prstGeom>
            <a:blipFill rotWithShape="0">
              <a:blip r:embed="rId1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РОСІЙСЬКА МОВ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0.06.20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AutoShape 20"/>
          <p:cNvGrpSpPr/>
          <p:nvPr/>
        </p:nvGrpSpPr>
        <p:grpSpPr>
          <a:xfrm>
            <a:off x="3627360" y="3008160"/>
            <a:ext cx="1914480" cy="1076400"/>
            <a:chOff x="3627360" y="3008160"/>
            <a:chExt cx="1914480" cy="1076400"/>
          </a:xfrm>
        </p:grpSpPr>
        <p:pic>
          <p:nvPicPr>
            <p:cNvPr id="118" name="AutoShape 20" descr=""/>
            <p:cNvPicPr/>
            <p:nvPr/>
          </p:nvPicPr>
          <p:blipFill>
            <a:blip r:embed="rId19"/>
            <a:stretch/>
          </p:blipFill>
          <p:spPr>
            <a:xfrm>
              <a:off x="3627360" y="3008160"/>
              <a:ext cx="1914480" cy="10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3683880" y="3116880"/>
              <a:ext cx="1746720" cy="910800"/>
            </a:xfrm>
            <a:prstGeom prst="rect">
              <a:avLst/>
            </a:prstGeom>
            <a:blipFill rotWithShape="0">
              <a:blip r:embed="rId2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Arial"/>
                </a:rPr>
                <a:t>ВСЕСВІТНЯ ІСТОРІ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Arial"/>
                </a:rPr>
                <a:t>25.06.20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AutoShape 20"/>
          <p:cNvGrpSpPr/>
          <p:nvPr/>
        </p:nvGrpSpPr>
        <p:grpSpPr>
          <a:xfrm>
            <a:off x="5931000" y="3083040"/>
            <a:ext cx="2050920" cy="1074600"/>
            <a:chOff x="5931000" y="3083040"/>
            <a:chExt cx="2050920" cy="1074600"/>
          </a:xfrm>
        </p:grpSpPr>
        <p:pic>
          <p:nvPicPr>
            <p:cNvPr id="121" name="AutoShape 20" descr=""/>
            <p:cNvPicPr/>
            <p:nvPr/>
          </p:nvPicPr>
          <p:blipFill>
            <a:blip r:embed="rId21"/>
            <a:stretch/>
          </p:blipFill>
          <p:spPr>
            <a:xfrm>
              <a:off x="5931000" y="3083040"/>
              <a:ext cx="2050920" cy="10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5989680" y="3190680"/>
              <a:ext cx="1882080" cy="910080"/>
            </a:xfrm>
            <a:prstGeom prst="rect">
              <a:avLst/>
            </a:prstGeom>
            <a:blipFill rotWithShape="0">
              <a:blip r:embed="rId2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СВІТОВА ЛІТЕРАТУР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27.06.20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AutoShape 20"/>
          <p:cNvGrpSpPr/>
          <p:nvPr/>
        </p:nvGrpSpPr>
        <p:grpSpPr>
          <a:xfrm>
            <a:off x="1166760" y="4707000"/>
            <a:ext cx="6792840" cy="757080"/>
            <a:chOff x="1166760" y="4707000"/>
            <a:chExt cx="6792840" cy="757080"/>
          </a:xfrm>
        </p:grpSpPr>
        <p:pic>
          <p:nvPicPr>
            <p:cNvPr id="124" name="AutoShape 20" descr=""/>
            <p:cNvPicPr/>
            <p:nvPr/>
          </p:nvPicPr>
          <p:blipFill>
            <a:blip r:embed="rId23"/>
            <a:stretch/>
          </p:blipFill>
          <p:spPr>
            <a:xfrm>
              <a:off x="1166760" y="4707000"/>
              <a:ext cx="679284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1210680" y="4799520"/>
              <a:ext cx="6618240" cy="623520"/>
            </a:xfrm>
            <a:prstGeom prst="rect">
              <a:avLst/>
            </a:prstGeom>
            <a:blipFill rotWithShape="0">
              <a:blip r:embed="rId2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0" rIns="46800" tIns="23400" bIns="23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uk-UA" sz="1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ожливість складання тестів не більше як із чотирьох предметів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25"/>
          <a:stretch/>
        </p:blipFill>
        <p:spPr>
          <a:xfrm>
            <a:off x="8229600" y="5516640"/>
            <a:ext cx="914400" cy="1341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6">
            <a:alphaModFix amt="0"/>
          </a:blip>
          <a:stretch/>
        </p:blipFill>
        <p:spPr>
          <a:xfrm>
            <a:off x="0" y="5516640"/>
            <a:ext cx="1031760" cy="134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AutoShape 20"/>
          <p:cNvGrpSpPr/>
          <p:nvPr/>
        </p:nvGrpSpPr>
        <p:grpSpPr>
          <a:xfrm>
            <a:off x="1042920" y="192240"/>
            <a:ext cx="2803680" cy="788760"/>
            <a:chOff x="1042920" y="192240"/>
            <a:chExt cx="2803680" cy="788760"/>
          </a:xfrm>
        </p:grpSpPr>
        <p:pic>
          <p:nvPicPr>
            <p:cNvPr id="129" name="AutoShape 20" descr=""/>
            <p:cNvPicPr/>
            <p:nvPr/>
          </p:nvPicPr>
          <p:blipFill>
            <a:blip r:embed="rId1"/>
            <a:stretch/>
          </p:blipFill>
          <p:spPr>
            <a:xfrm>
              <a:off x="1042920" y="192240"/>
              <a:ext cx="2803680" cy="78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1084680" y="287280"/>
              <a:ext cx="2667600" cy="6505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БІОЛОГІ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AutoShape 20"/>
          <p:cNvGrpSpPr/>
          <p:nvPr/>
        </p:nvGrpSpPr>
        <p:grpSpPr>
          <a:xfrm>
            <a:off x="1042920" y="985680"/>
            <a:ext cx="2803680" cy="787680"/>
            <a:chOff x="1042920" y="985680"/>
            <a:chExt cx="2803680" cy="787680"/>
          </a:xfrm>
        </p:grpSpPr>
        <p:pic>
          <p:nvPicPr>
            <p:cNvPr id="132" name="AutoShape 20" descr=""/>
            <p:cNvPicPr/>
            <p:nvPr/>
          </p:nvPicPr>
          <p:blipFill>
            <a:blip r:embed="rId3"/>
            <a:stretch/>
          </p:blipFill>
          <p:spPr>
            <a:xfrm>
              <a:off x="1042920" y="985680"/>
              <a:ext cx="2803680" cy="78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1084680" y="1079640"/>
              <a:ext cx="2667600" cy="64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ГЕОГРАФІ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AutoShape 20"/>
          <p:cNvGrpSpPr/>
          <p:nvPr/>
        </p:nvGrpSpPr>
        <p:grpSpPr>
          <a:xfrm>
            <a:off x="1042920" y="1776240"/>
            <a:ext cx="2803680" cy="789120"/>
            <a:chOff x="1042920" y="1776240"/>
            <a:chExt cx="2803680" cy="789120"/>
          </a:xfrm>
        </p:grpSpPr>
        <p:pic>
          <p:nvPicPr>
            <p:cNvPr id="135" name="AutoShape 20" descr=""/>
            <p:cNvPicPr/>
            <p:nvPr/>
          </p:nvPicPr>
          <p:blipFill>
            <a:blip r:embed="rId5"/>
            <a:stretch/>
          </p:blipFill>
          <p:spPr>
            <a:xfrm>
              <a:off x="1042920" y="1776240"/>
              <a:ext cx="2803680" cy="78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1084680" y="1871280"/>
              <a:ext cx="2667600" cy="6505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МАТЕМАТИ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AutoShape 20"/>
          <p:cNvGrpSpPr/>
          <p:nvPr/>
        </p:nvGrpSpPr>
        <p:grpSpPr>
          <a:xfrm>
            <a:off x="1042920" y="2565360"/>
            <a:ext cx="2803680" cy="792360"/>
            <a:chOff x="1042920" y="2565360"/>
            <a:chExt cx="2803680" cy="792360"/>
          </a:xfrm>
        </p:grpSpPr>
        <p:pic>
          <p:nvPicPr>
            <p:cNvPr id="138" name="AutoShape 20" descr=""/>
            <p:cNvPicPr/>
            <p:nvPr/>
          </p:nvPicPr>
          <p:blipFill>
            <a:blip r:embed="rId7"/>
            <a:stretch/>
          </p:blipFill>
          <p:spPr>
            <a:xfrm>
              <a:off x="1042920" y="2565360"/>
              <a:ext cx="280368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1084680" y="2663640"/>
              <a:ext cx="2667600" cy="65052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Arial"/>
                </a:rPr>
                <a:t>ІСТОРІЯ УКРАЇН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AutoShape 20"/>
          <p:cNvGrpSpPr/>
          <p:nvPr/>
        </p:nvGrpSpPr>
        <p:grpSpPr>
          <a:xfrm>
            <a:off x="971640" y="3505320"/>
            <a:ext cx="2803320" cy="787320"/>
            <a:chOff x="971640" y="3505320"/>
            <a:chExt cx="2803320" cy="787320"/>
          </a:xfrm>
        </p:grpSpPr>
        <p:pic>
          <p:nvPicPr>
            <p:cNvPr id="141" name="AutoShape 20" descr=""/>
            <p:cNvPicPr/>
            <p:nvPr/>
          </p:nvPicPr>
          <p:blipFill>
            <a:blip r:embed="rId9"/>
            <a:stretch/>
          </p:blipFill>
          <p:spPr>
            <a:xfrm>
              <a:off x="971640" y="3505320"/>
              <a:ext cx="2803320" cy="7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1013400" y="3599280"/>
              <a:ext cx="2667240" cy="65016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СЕСВІТНЯ ІСТОРІ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AutoShape 20"/>
          <p:cNvGrpSpPr/>
          <p:nvPr/>
        </p:nvGrpSpPr>
        <p:grpSpPr>
          <a:xfrm>
            <a:off x="1042920" y="4149720"/>
            <a:ext cx="2803680" cy="789120"/>
            <a:chOff x="1042920" y="4149720"/>
            <a:chExt cx="2803680" cy="789120"/>
          </a:xfrm>
        </p:grpSpPr>
        <p:pic>
          <p:nvPicPr>
            <p:cNvPr id="144" name="AutoShape 20" descr=""/>
            <p:cNvPicPr/>
            <p:nvPr/>
          </p:nvPicPr>
          <p:blipFill>
            <a:blip r:embed="rId11"/>
            <a:stretch/>
          </p:blipFill>
          <p:spPr>
            <a:xfrm>
              <a:off x="1042920" y="4149720"/>
              <a:ext cx="2803680" cy="78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084680" y="4243680"/>
              <a:ext cx="2667600" cy="650520"/>
            </a:xfrm>
            <a:prstGeom prst="rect">
              <a:avLst/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ФІЗИ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AutoShape 20"/>
          <p:cNvGrpSpPr/>
          <p:nvPr/>
        </p:nvGrpSpPr>
        <p:grpSpPr>
          <a:xfrm>
            <a:off x="5068800" y="200160"/>
            <a:ext cx="2808360" cy="5398920"/>
            <a:chOff x="5068800" y="200160"/>
            <a:chExt cx="2808360" cy="5398920"/>
          </a:xfrm>
        </p:grpSpPr>
        <p:pic>
          <p:nvPicPr>
            <p:cNvPr id="147" name="AutoShape 20" descr=""/>
            <p:cNvPicPr/>
            <p:nvPr/>
          </p:nvPicPr>
          <p:blipFill>
            <a:blip r:embed="rId13"/>
            <a:stretch/>
          </p:blipFill>
          <p:spPr>
            <a:xfrm>
              <a:off x="5068800" y="200160"/>
              <a:ext cx="2808360" cy="539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5210640" y="393840"/>
              <a:ext cx="2470320" cy="5060880"/>
            </a:xfrm>
            <a:prstGeom prst="rect">
              <a:avLst/>
            </a:prstGeom>
            <a:blipFill rotWithShape="0">
              <a:blip r:embed="rId1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ереклад н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кримськотатарську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молдовську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ольську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румунську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Arial"/>
                </a:rPr>
                <a:t>російську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Arial"/>
                </a:rPr>
                <a:t>угорськ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мов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AutoShape 15"/>
          <p:cNvSpPr/>
          <p:nvPr/>
        </p:nvSpPr>
        <p:spPr>
          <a:xfrm>
            <a:off x="3780000" y="333360"/>
            <a:ext cx="865080" cy="5400720"/>
          </a:xfrm>
          <a:custGeom>
            <a:avLst/>
            <a:gdLst>
              <a:gd name="textAreaLeft" fmla="*/ 0 w 865080"/>
              <a:gd name="textAreaRight" fmla="*/ 312480 w 865080"/>
              <a:gd name="textAreaTop" fmla="*/ 140760 h 5400720"/>
              <a:gd name="textAreaBottom" fmla="*/ 5259960 h 540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42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AutoShape 20"/>
          <p:cNvGrpSpPr/>
          <p:nvPr/>
        </p:nvGrpSpPr>
        <p:grpSpPr>
          <a:xfrm>
            <a:off x="1030320" y="4991040"/>
            <a:ext cx="2806560" cy="787320"/>
            <a:chOff x="1030320" y="4991040"/>
            <a:chExt cx="2806560" cy="787320"/>
          </a:xfrm>
        </p:grpSpPr>
        <p:pic>
          <p:nvPicPr>
            <p:cNvPr id="151" name="AutoShape 20" descr=""/>
            <p:cNvPicPr/>
            <p:nvPr/>
          </p:nvPicPr>
          <p:blipFill>
            <a:blip r:embed="rId15"/>
            <a:stretch/>
          </p:blipFill>
          <p:spPr>
            <a:xfrm>
              <a:off x="1030320" y="4991040"/>
              <a:ext cx="2806560" cy="7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1073160" y="5087160"/>
              <a:ext cx="2666880" cy="649080"/>
            </a:xfrm>
            <a:prstGeom prst="rect">
              <a:avLst/>
            </a:prstGeom>
            <a:blipFill rotWithShape="0">
              <a:blip r:embed="rId1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ХІМІ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AutoShape 20"/>
          <p:cNvGrpSpPr/>
          <p:nvPr/>
        </p:nvGrpSpPr>
        <p:grpSpPr>
          <a:xfrm>
            <a:off x="971640" y="5877000"/>
            <a:ext cx="2803320" cy="787320"/>
            <a:chOff x="971640" y="5877000"/>
            <a:chExt cx="2803320" cy="787320"/>
          </a:xfrm>
        </p:grpSpPr>
        <p:pic>
          <p:nvPicPr>
            <p:cNvPr id="154" name="AutoShape 20" descr=""/>
            <p:cNvPicPr/>
            <p:nvPr/>
          </p:nvPicPr>
          <p:blipFill>
            <a:blip r:embed="rId17"/>
            <a:stretch/>
          </p:blipFill>
          <p:spPr>
            <a:xfrm>
              <a:off x="971640" y="5877000"/>
              <a:ext cx="2803320" cy="7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1013400" y="5970960"/>
              <a:ext cx="2667240" cy="650160"/>
            </a:xfrm>
            <a:prstGeom prst="rect">
              <a:avLst/>
            </a:prstGeom>
            <a:blipFill rotWithShape="0">
              <a:blip r:embed="rId1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СВІТОВА ЛІТЕРАТУР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AutoShape 20"/>
          <p:cNvGrpSpPr/>
          <p:nvPr/>
        </p:nvGrpSpPr>
        <p:grpSpPr>
          <a:xfrm>
            <a:off x="5054760" y="5805360"/>
            <a:ext cx="2809800" cy="862200"/>
            <a:chOff x="5054760" y="5805360"/>
            <a:chExt cx="2809800" cy="862200"/>
          </a:xfrm>
        </p:grpSpPr>
        <p:pic>
          <p:nvPicPr>
            <p:cNvPr id="157" name="AutoShape 20" descr=""/>
            <p:cNvPicPr/>
            <p:nvPr/>
          </p:nvPicPr>
          <p:blipFill>
            <a:blip r:embed="rId19"/>
            <a:stretch/>
          </p:blipFill>
          <p:spPr>
            <a:xfrm>
              <a:off x="5054760" y="5805360"/>
              <a:ext cx="2809800" cy="8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03360" y="5905080"/>
              <a:ext cx="2662560" cy="715680"/>
            </a:xfrm>
            <a:prstGeom prst="rect">
              <a:avLst/>
            </a:prstGeom>
            <a:blipFill rotWithShape="0">
              <a:blip r:embed="rId2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ереклад т</a:t>
              </a:r>
              <a:r>
                <a:rPr b="1" lang="uk-UA" sz="1600" spc="-1" strike="noStrike">
                  <a:solidFill>
                    <a:srgbClr val="000000"/>
                  </a:solidFill>
                  <a:latin typeface="Arial"/>
                </a:rPr>
                <a:t>і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льки на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російську мов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9" name="" descr=""/>
          <p:cNvPicPr/>
          <p:nvPr/>
        </p:nvPicPr>
        <p:blipFill>
          <a:blip r:embed="rId21"/>
          <a:stretch/>
        </p:blipFill>
        <p:spPr>
          <a:xfrm>
            <a:off x="8229600" y="5516640"/>
            <a:ext cx="914400" cy="13413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2">
            <a:alphaModFix amt="0"/>
          </a:blip>
          <a:stretch/>
        </p:blipFill>
        <p:spPr>
          <a:xfrm>
            <a:off x="0" y="5516640"/>
            <a:ext cx="1031760" cy="1341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4T08:13:26Z</dcterms:created>
  <dc:creator>N.Rusanova</dc:creator>
  <dc:description/>
  <dc:language>en-US</dc:language>
  <cp:lastModifiedBy>Timur</cp:lastModifiedBy>
  <dcterms:modified xsi:type="dcterms:W3CDTF">2014-01-10T15:27:18Z</dcterms:modified>
  <cp:revision>161</cp:revision>
  <dc:subject/>
  <dc:title>Слайд 1</dc:title>
</cp:coreProperties>
</file>