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9B5-4FC8-4545-89C0-054D5C36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737-A5F5-4AD6-B2A4-CCA5F0DF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4A7-3292-4C32-B6E6-30C26DD8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AF0-E3F7-4C9C-9EE7-44BEFEDA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EC20-0174-4717-8F49-2D910A3E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AB1D-57A0-47A0-BCC3-EF23B446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9F6C-F279-4320-9B81-6440C7D0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6376-EEFE-41B2-894A-CE9F37D6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7434-E3E3-4C9F-9869-510087F3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BE07-756C-424C-8265-28420DC6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1E26-784F-4F7E-9C39-40A09B38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068-A4E7-4EA7-B46A-B1145C9D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DBA9-D0C9-4991-91C7-37038E15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5056-CCA1-4FB9-B562-A2E8AFC7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9258-4648-440A-AC8E-34C199E4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8B98-8A0D-4C0D-BC8B-5BD09C96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B0D0-B0B3-414F-8964-E82D75DC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49668-1BC3-4B73-98E1-063FBD80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5CB0-AAD3-4967-952F-2C867CBA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919A5-DF4E-4221-B521-062FA967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365E-7360-46FC-A546-084EDB35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49A2-14B6-44E2-9E5D-19ED9F2B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C22-EFFB-45BE-94DF-F09B9127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758B-A578-4B31-B3E6-CBE04182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B7BD1-A3E0-4E82-8BE5-114CF327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0C3AD-938C-41ED-A7EF-5CAB21C0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E0B9-4DAB-41DE-88A9-616832CC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32A8-BBCA-45F7-8558-F80167C5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53BC-BAD4-44BC-BA57-1B8A6707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627E-A0B9-4300-BA9A-5B7EE8F4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840D-3ED7-41F5-93D3-973ABB04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D21A-1761-4B87-8726-E72260F6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B92D-73C1-48C0-8D65-4057D1AF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40C-7A60-4551-84E3-6D807276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F07C7-FBCF-4367-8749-61EA0BF5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A065D-EC32-4C56-B4CC-5473D42A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4421-93C3-4F12-A656-7FEEF18D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D1D1-4D72-49BD-9E56-AAABEF66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7DBE8-184A-45D4-AF76-52217B81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EC191-9DDF-45BF-B813-5D9DD6AD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6F6DA-C986-45F5-9B64-2FCD8149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3024C-A4AE-4F5B-A41A-2A589966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0839B-C9EC-40F6-A2BF-3EC37D2D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727D6-0D6C-4FE4-8D79-EE3F3005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329-8461-402C-96DE-AEF0A9D1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A6B3E-BDBC-4392-9C9A-BE711ED3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885C1-2D57-4A85-A6BE-07E167A9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1FC24-3EEF-4E49-B3E2-B307C225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68CB2-73BC-4674-A86D-9A2228B8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1B1B6-29C5-4540-9ABD-B34C6A43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715BE-86C2-4939-A53F-A7C80B3E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533C-8D9F-4DE5-80AE-DF02CEE3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A2CCE-C6BD-4D3C-A9D9-44771BAD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C68C9-444A-4433-8A4B-542AF468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0A92A-1EE3-4753-B07E-60B0E17D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D0C-59CF-48A6-99BC-D279863F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9E024-E124-451D-94AC-7364BEA6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2932E-0C8D-4F12-ACAB-6E4900F3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8CBC1-DED6-4D33-B0B3-312C2B4C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8D02B-2264-4BFC-8F2F-0C6325C7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6BBF2-ADE9-43B8-B631-87C0BFBB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D31BE-E324-4830-A864-69E35BD5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EF7E2-CCE0-41D8-8F5F-7066924C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1914D-A566-46FD-8894-3F38B139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25F82-7334-4472-892D-CAA33E4E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46720-3F37-43D4-88D5-EFC51FA3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A00-FEBD-4D5B-B1AF-F7CCDC86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625CB-0E5B-4385-99CE-2D7843FB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E38A7-117A-490C-96C5-C4E852FA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6507D-9B1B-4824-9D86-E7D7A680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A1693-9F31-4F21-B37A-BEE74A3A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45629-E976-4208-970F-CA20B232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25164-AE7E-4227-A262-36BF0134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CDB57-85FF-4DB0-B554-3A941109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475D2-17DD-40C0-ADC1-C05ED6D5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3B7C1-BF5A-4C66-9FAB-B8A768C7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53D41-3539-497E-9843-B7238596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CFE-41DB-406E-A8B6-362623C8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FDCB3-090A-425E-8B47-F2B05B99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5659-5959-402B-B0D9-6F371DBF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7F7D0-A9BE-4CCA-942F-1EDF5EF0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516BB-8242-43E0-8393-BD40DB27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358B7-7BFD-4C14-97EE-F7D7A993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4AD-700E-432C-BDBC-2D942935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B8FC-6E97-4ACD-A07A-3179237A9125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31CB-5A93-472C-A2F7-FDAEAD8D75AC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806B-7DCD-418C-829C-A456DE6D47F7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39B8-97FB-473F-8F4A-63C28732AC80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C79B-4B76-4F80-B21B-8D2AE663F545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9CE7-3ABB-4DAC-84AB-619EE65D2394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688B-C1ED-4585-AF73-6D2D6B6EF454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7;&#1074;&#1110;&#1090;&#1086;&#1074;&#1072;_&#1073;&#1086;&#1082;&#1089;&#1077;&#1088;&#1089;&#1100;&#1082;&#1072;_&#1086;&#1088;&#1075;&#1072;&#1085;&#1110;&#1079;&#1072;&#1094;&#1110;&#1103;" TargetMode="External"/><Relationship Id="rId2" Type="http://schemas.openxmlformats.org/officeDocument/2006/relationships/hyperlink" Target="https://uk.wikipedia.org/wiki/WBC" TargetMode="External"/><Relationship Id="rId3" Type="http://schemas.openxmlformats.org/officeDocument/2006/relationships/hyperlink" Target="https://uk.wikipedia.org/wiki/IBF" TargetMode="External"/><Relationship Id="rId4" Type="http://schemas.openxmlformats.org/officeDocument/2006/relationships/hyperlink" Target="https://uk.wikipedia.org/wiki/WBA" TargetMode="External"/><Relationship Id="rId5" Type="http://schemas.openxmlformats.org/officeDocument/2006/relationships/hyperlink" Target="https://uk.wikipedia.org/wiki/&#1056;&#1080;&#1085;&#1075;_(&#1078;&#1091;&#1088;&#1085;&#1072;&#1083;)" TargetMode="External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1;&#1110;&#1090;&#1085;&#1110;_&#1054;&#1083;&#1110;&#1084;&#1087;&#1110;&#1081;&#1089;&#1100;&#1082;&#1110;_&#1110;&#1075;&#1088;&#1080;_2012" TargetMode="External"/><Relationship Id="rId2" Type="http://schemas.openxmlformats.org/officeDocument/2006/relationships/hyperlink" Target="https://uk.wikipedia.org/wiki/&#1051;&#1110;&#1090;&#1085;&#1110;_&#1054;&#1083;&#1110;&#1084;&#1087;&#1110;&#1081;&#1089;&#1100;&#1082;&#1110;_&#1110;&#1075;&#1088;&#1080;_2012" TargetMode="External"/><Relationship Id="rId3" Type="http://schemas.openxmlformats.org/officeDocument/2006/relationships/hyperlink" Target="https://uk.wikipedia.org/wiki/&#1051;&#1110;&#1090;&#1085;&#1110;_&#1054;&#1083;&#1110;&#1084;&#1087;&#1110;&#1081;&#1089;&#1100;&#1082;&#1110;_&#1110;&#1075;&#1088;&#1080;_2012" TargetMode="External"/><Relationship Id="rId4" Type="http://schemas.openxmlformats.org/officeDocument/2006/relationships/hyperlink" Target="https://uk.wikipedia.org/wiki/&#1051;&#1086;&#1085;&#1076;&#1086;&#1085;" TargetMode="External"/><Relationship Id="rId5" Type="http://schemas.openxmlformats.org/officeDocument/2006/relationships/hyperlink" Target="https://uk.wikipedia.org/wiki/&#1040;&#1082;&#1072;&#1076;&#1077;&#1084;&#1110;&#1095;&#1085;&#1077;_&#1074;&#1077;&#1089;&#1083;&#1091;&#1074;&#1072;&#1085;&#1085;&#1103;_&#1085;&#1072;_&#1083;&#1110;&#1090;&#1085;&#1110;&#1093;_&#1054;&#1083;&#1110;&#1084;&#1087;&#1110;&#1081;&#1089;&#1100;&#1082;&#1080;&#1093;_&#1110;&#1075;&#1088;&#1072;&#1093;_2012_&#8212;_&#1087;&#1072;&#1088;&#1085;&#1110;_&#1095;&#1077;&#1090;&#1074;&#1110;&#1088;&#1082;&#1080;_(&#1078;&#1110;&#1085;&#1082;&#1080;)" TargetMode="External"/><Relationship Id="rId6" Type="http://schemas.openxmlformats.org/officeDocument/2006/relationships/hyperlink" Target="https://uk.wikipedia.org/wiki/&#1050;&#1086;&#1078;&#1077;&#1085;&#1082;&#1086;&#1074;&#1072;_&#1040;&#1085;&#1072;&#1089;&#1090;&#1072;&#1089;&#1110;&#1103;_&#1052;&#1080;&#1082;&#1086;&#1083;&#1072;&#1111;&#1074;&#1085;&#1072;" TargetMode="External"/><Relationship Id="rId7" Type="http://schemas.openxmlformats.org/officeDocument/2006/relationships/hyperlink" Target="https://uk.wikipedia.org/wiki/&#1058;&#1072;&#1088;&#1072;&#1089;&#1077;&#1085;&#1082;&#1086;_&#1050;&#1072;&#1090;&#1077;&#1088;&#1080;&#1085;&#1072;_&#1052;&#1080;&#1082;&#1086;&#1083;&#1072;&#1111;&#1074;&#1085;&#1072;" TargetMode="External"/><Relationship Id="rId8" Type="http://schemas.openxmlformats.org/officeDocument/2006/relationships/hyperlink" Target="https://uk.wikipedia.org/wiki/&#1044;&#1086;&#1074;&#1075;&#1086;&#1076;&#1100;&#1082;&#1086;_&#1053;&#1072;&#1090;&#1072;&#1083;&#1110;&#1103;_&#1042;&#1110;&#1082;&#1090;&#1086;&#1088;&#1110;&#1074;&#1085;&#1072;" TargetMode="External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1;&#1110;&#1090;&#1085;&#1110;_&#1054;&#1083;&#1110;&#1084;&#1087;&#1110;&#1081;&#1089;&#1100;&#1082;&#1110;_&#1110;&#1075;&#1088;&#1080;_2016" TargetMode="External"/><Relationship Id="rId2" Type="http://schemas.openxmlformats.org/officeDocument/2006/relationships/hyperlink" Target="https://uk.wikipedia.org/wiki/&#1056;&#1110;&#1086;-&#1076;&#1077;-&#1046;&#1072;&#1085;&#1077;&#1081;&#1088;&#1086;" TargetMode="External"/><Relationship Id="rId3" Type="http://schemas.openxmlformats.org/officeDocument/2006/relationships/hyperlink" Target="https://uk.wikipedia.org/wiki/&#1041;&#1088;&#1072;&#1079;&#1080;&#1083;&#1110;&#1103;" TargetMode="External"/><Relationship Id="rId4" Type="http://schemas.openxmlformats.org/officeDocument/2006/relationships/hyperlink" Target="https://uk.wikipedia.org/wiki/&#1057;&#1087;&#1086;&#1088;&#1090;&#1080;&#1074;&#1085;&#1072;_&#1075;&#1110;&#1084;&#1085;&#1072;&#1089;&#1090;&#1080;&#1082;&#1072;_&#1085;&#1072;_&#1083;&#1110;&#1090;&#1085;&#1110;&#1093;_&#1054;&#1083;&#1110;&#1084;&#1087;&#1110;&#1081;&#1089;&#1100;&#1082;&#1080;&#1093;_&#1110;&#1075;&#1088;&#1072;&#1093;_2016_&#8212;_&#1072;&#1073;&#1089;&#1086;&#1083;&#1102;&#1090;&#1085;&#1072;_&#1087;&#1077;&#1088;&#1096;&#1110;&#1089;&#1090;&#1100;_(&#1095;&#1086;&#1083;&#1086;&#1074;&#1110;&#1082;&#1080;)" TargetMode="External"/><Relationship Id="rId5" Type="http://schemas.openxmlformats.org/officeDocument/2006/relationships/hyperlink" Target="https://uk.wikipedia.org/wiki/&#1059;&#1090;&#1110;&#1084;&#1091;&#1088;&#1072;_&#1050;&#1086;&#1093;&#1077;&#1081;" TargetMode="External"/><Relationship Id="rId6" Type="http://schemas.openxmlformats.org/officeDocument/2006/relationships/hyperlink" Target="https://uk.wikipedia.org/wiki/&#1051;&#1110;&#1090;&#1085;&#1110;_&#1054;&#1083;&#1110;&#1084;&#1087;&#1110;&#1081;&#1089;&#1100;&#1082;&#1110;_&#1110;&#1075;&#1088;&#1080;_2016" TargetMode="External"/><Relationship Id="rId7" Type="http://schemas.openxmlformats.org/officeDocument/2006/relationships/hyperlink" Target="https://uk.wikipedia.org/wiki/&#1056;&#1110;&#1086;-&#1076;&#1077;-&#1046;&#1072;&#1085;&#1077;&#1081;&#1088;&#1086;" TargetMode="External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61;&#1091;&#1076;&#1086;&#1078;&#1085;&#1103;_&#1075;&#1110;&#1084;&#1085;&#1072;&#1089;&#1090;&#1080;&#1082;&#1072;" TargetMode="External"/><Relationship Id="rId2" Type="http://schemas.openxmlformats.org/officeDocument/2006/relationships/hyperlink" Target="https://uk.wikipedia.org/wiki/&#1051;&#1110;&#1090;&#1085;&#1110;_&#1054;&#1083;&#1110;&#1084;&#1087;&#1110;&#1081;&#1089;&#1100;&#1082;&#1110;_&#1110;&#1075;&#1088;&#1080;_2016" TargetMode="External"/><Relationship Id="rId3" Type="http://schemas.openxmlformats.org/officeDocument/2006/relationships/hyperlink" Target="https://uk.wikipedia.org/wiki/&#1061;&#1091;&#1076;&#1086;&#1078;&#1085;&#1103;_&#1075;&#1110;&#1084;&#1085;&#1072;&#1089;&#1090;&#1080;&#1082;&#1072;_&#1085;&#1072;_&#1083;&#1110;&#1090;&#1085;&#1110;&#1093;_&#1054;&#1083;&#1110;&#1084;&#1087;&#1110;&#1081;&#1089;&#1100;&#1082;&#1080;&#1093;_&#1110;&#1075;&#1088;&#1072;&#1093;_2016_&#8212;_&#1110;&#1085;&#1076;&#1080;&#1074;&#1110;&#1076;&#1091;&#1072;&#1083;&#1100;&#1085;&#1077;_&#1073;&#1072;&#1075;&#1072;&#1090;&#1086;&#1073;&#1086;&#1088;&#1089;&#1090;&#1074;&#1086;" TargetMode="External"/><Relationship Id="rId4" Type="http://schemas.openxmlformats.org/officeDocument/2006/relationships/hyperlink" Target="https://uk.wikipedia.org/wiki/&#1061;&#1091;&#1076;&#1086;&#1078;&#1085;&#1103;_&#1075;&#1110;&#1084;&#1085;&#1072;&#1089;&#1090;&#1080;&#1082;&#1072;_&#1085;&#1072;_&#1083;&#1110;&#1090;&#1085;&#1110;&#1093;_&#1054;&#1083;&#1110;&#1084;&#1087;&#1110;&#1081;&#1089;&#1100;&#1082;&#1080;&#1093;_&#1110;&#1075;&#1088;&#1072;&#1093;_2016_&#8212;_&#1110;&#1085;&#1076;&#1080;&#1074;&#1110;&#1076;&#1091;&#1072;&#1083;&#1100;&#1085;&#1077;_&#1073;&#1072;&#1075;&#1072;&#1090;&#1086;&#1073;&#1086;&#1088;&#1089;&#1090;&#1074;&#1086;" TargetMode="External"/><Relationship Id="rId5" Type="http://schemas.openxmlformats.org/officeDocument/2006/relationships/hyperlink" Target="https://uk.wikipedia.org/wiki/&#1051;&#1110;&#1090;&#1085;&#1110;_&#1054;&#1083;&#1110;&#1084;&#1087;&#1110;&#1081;&#1089;&#1100;&#1082;&#1110;_&#1110;&#1075;&#1088;&#1080;_2016" TargetMode="External"/><Relationship Id="rId6" Type="http://schemas.openxmlformats.org/officeDocument/2006/relationships/hyperlink" Target="https://uk.wikipedia.org/wiki/&#1056;&#1110;&#1086;-&#1076;&#1077;-&#1046;&#1072;&#1085;&#1077;&#1081;&#1088;&#1086;" TargetMode="External"/><Relationship Id="rId7" Type="http://schemas.openxmlformats.org/officeDocument/2006/relationships/hyperlink" Target="https://uk.wikipedia.org/wiki/&#1041;&#1088;&#1072;&#1079;&#1080;&#1083;&#1110;&#1103;" TargetMode="External"/><Relationship Id="rId8" Type="http://schemas.openxmlformats.org/officeDocument/2006/relationships/hyperlink" Target="https://uk.wikipedia.org/wiki/&#1071;&#1087;&#1086;&#1085;&#1110;&#1103;" TargetMode="External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9;&#1082;&#1088;&#1072;&#1111;&#1085;&#1072;" TargetMode="External"/><Relationship Id="rId2" Type="http://schemas.openxmlformats.org/officeDocument/2006/relationships/hyperlink" Target="https://uk.wikipedia.org/wiki/&#1041;&#1086;&#1088;&#1086;&#1090;&#1100;&#1073;&#1072;_(&#1089;&#1087;&#1086;&#1088;&#1090;)" TargetMode="External"/><Relationship Id="rId3" Type="http://schemas.openxmlformats.org/officeDocument/2006/relationships/hyperlink" Target="https://uk.wikipedia.org/wiki/&#1043;&#1088;&#1077;&#1082;&#1086;-&#1088;&#1080;&#1084;&#1089;&#1100;&#1082;&#1072;_&#1073;&#1086;&#1088;&#1086;&#1090;&#1100;&#1073;&#1072;" TargetMode="External"/><Relationship Id="rId4" Type="http://schemas.openxmlformats.org/officeDocument/2006/relationships/hyperlink" Target="https://uk.wikipedia.org/wiki/&#1043;&#1088;&#1077;&#1082;&#1086;-&#1088;&#1080;&#1084;&#1089;&#1100;&#1082;&#1072;_&#1073;&#1086;&#1088;&#1086;&#1090;&#1100;&#1073;&#1072;_&#1085;&#1072;_&#1083;&#1110;&#1090;&#1085;&#1110;&#1093;_&#1054;&#1083;&#1110;&#1084;&#1087;&#1110;&#1081;&#1089;&#1100;&#1082;&#1080;&#1093;_&#1110;&#1075;&#1088;&#1072;&#1093;_2016_&#8212;_&#1076;&#1086;_85_&#1082;&#1075;" TargetMode="External"/><Relationship Id="rId5" Type="http://schemas.openxmlformats.org/officeDocument/2006/relationships/hyperlink" Target="https://uk.wikipedia.org/wiki/&#1028;&#1074;&#1088;&#1086;&#1087;&#1077;&#1081;&#1089;&#1100;&#1082;&#1110;_&#1110;&#1075;&#1088;&#1080;_2019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WBO" TargetMode="External"/><Relationship Id="rId2" Type="http://schemas.openxmlformats.org/officeDocument/2006/relationships/hyperlink" Target="https://uk.wikipedia.org/wiki/IBF" TargetMode="External"/><Relationship Id="rId3" Type="http://schemas.openxmlformats.org/officeDocument/2006/relationships/hyperlink" Target="https://uk.wikipedia.org/wiki/IBO" TargetMode="External"/><Relationship Id="rId4" Type="http://schemas.openxmlformats.org/officeDocument/2006/relationships/hyperlink" Target="https://uk.wikipedia.org/wiki/The_Ring_(&#1078;&#1091;&#1088;&#1085;&#1072;&#1083;)" TargetMode="External"/><Relationship Id="rId5" Type="http://schemas.openxmlformats.org/officeDocument/2006/relationships/hyperlink" Target="https://uk.wikipedia.org/wiki/WBA" TargetMode="External"/><Relationship Id="rId6" Type="http://schemas.openxmlformats.org/officeDocument/2006/relationships/hyperlink" Target="https://uk.wikipedia.org/wiki/&#1050;&#1083;&#1080;&#1095;&#1082;&#1086;_&#1042;&#1110;&#1090;&#1072;&#1083;&#1110;&#1081;_&#1042;&#1086;&#1083;&#1086;&#1076;&#1080;&#1084;&#1080;&#1088;&#1086;&#1074;&#1080;&#1095;" TargetMode="External"/><Relationship Id="rId7" Type="http://schemas.openxmlformats.org/officeDocument/2006/relationships/hyperlink" Target="https://uk.wikipedia.org/wiki/&#1050;&#1085;&#1080;&#1075;&#1072;_&#1088;&#1077;&#1082;&#1086;&#1088;&#1076;&#1110;&#1074;_&#1043;&#1110;&#1085;&#1085;&#1077;&#1089;&#1072;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4;&#1083;&#1110;&#1084;&#1087;&#1110;&#1081;&#1089;&#1100;&#1082;&#1110;_&#1030;&#1075;&#1088;&#1080;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928960" y="2071440"/>
            <a:ext cx="32148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Segoe Print"/>
              </a:rPr>
              <a:t>Олімп</a:t>
            </a:r>
            <a:r>
              <a:rPr b="1" lang="uk-UA" sz="3200" spc="-1" strike="noStrike">
                <a:solidFill>
                  <a:srgbClr val="572314"/>
                </a:solidFill>
                <a:latin typeface="Segoe Print"/>
              </a:rPr>
              <a:t>ійська Україн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" descr="C:\Users\Yaroslav\Desktop\Ukr-e1517399269316.jpg"/>
          <p:cNvPicPr/>
          <p:nvPr/>
        </p:nvPicPr>
        <p:blipFill>
          <a:blip r:embed="rId1"/>
          <a:stretch/>
        </p:blipFill>
        <p:spPr>
          <a:xfrm>
            <a:off x="971640" y="333360"/>
            <a:ext cx="408132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0" name="Picture 3" descr="C:\Users\Yaroslav\Desktop\im578x383-2018-02-09T124053Z_742986880_DEVEE290Z84JN_RTRMADP_3_OLYMPICS-2018-OPENING.jpg"/>
          <p:cNvPicPr/>
          <p:nvPr/>
        </p:nvPicPr>
        <p:blipFill>
          <a:blip r:embed="rId2"/>
          <a:stretch/>
        </p:blipFill>
        <p:spPr>
          <a:xfrm>
            <a:off x="5435640" y="4680000"/>
            <a:ext cx="3286080" cy="21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186920" y="3933360"/>
            <a:ext cx="2808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Підготував:вчитель фізичного виховання Сугарівської філії  КЗ “Сахновщинського ліцея №1”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Чубенко Олександр Олександрович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63518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Яна Клочко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71600" y="999720"/>
            <a:ext cx="4786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Українська чотирикратна Олімпійська чемпіонка на дистанціях 200 та 400 метрів, срібна призерка — 800 метрі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Перемоги здобула наЛітніх Олімпійських іграх 2000 та 2004 років у комплексному плаванні; срібну медаль — 2000 рок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Рекорд світу на 400 м комплексним плаванням на Олімпійських іграх у Сіднеї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Рекорд Європи на 200 м комплексним плавання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Встановила 50 рекордів України у 25-ти та 50-ти метрових басейнах на дистанціях 100 м, 200 м, 400 м комплексним плаванням та 200 м, 400 м та 800 м вільним стилем, 100 м та 200 м на спині, 200 м батерфляєм та в естафетному плаванн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Picture 4" descr="https://star.korupciya.com/wp-content/uploads/2016/01/yana-klochkova.jpg"/>
          <p:cNvPicPr/>
          <p:nvPr/>
        </p:nvPicPr>
        <p:blipFill>
          <a:blip r:embed="rId1"/>
          <a:stretch/>
        </p:blipFill>
        <p:spPr>
          <a:xfrm>
            <a:off x="0" y="1400040"/>
            <a:ext cx="4214880" cy="318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00160" y="274680"/>
            <a:ext cx="69343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Микола Мільче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500280" y="1428480"/>
            <a:ext cx="53625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Завоював звання олімпійського чемпіона зі стендової стрільби на Олімпійських іграх 2000 року в Сіднеї, набравши 150 очок із 150 можливих (олімпійський рекорд), повторивши світовий рекорд. На Олімпійських іграх 2004 року в Афінах, набравши 121 очко поділив 9-14 місця. На Олімпійських іграх 2008 року в Пекіні, набравши 109 очков посів 32 місце. На Олімпійських іграх 2016 в Ріо- де- Жанейро пробився до бронзового фіналу і посів 4 місце поступившись спортсмену з Кувейт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Прапороносець України на урочистій церемонії відкриття ХХХІ Олімпіади 5 серпня 2016 року в Ріо-де-Жанейр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2" descr="https://upload.wikimedia.org/wikipedia/commons/e/e8/Milchev%2C_Malek_%26_Graves.jpg"/>
          <p:cNvPicPr/>
          <p:nvPr/>
        </p:nvPicPr>
        <p:blipFill>
          <a:blip r:embed="rId1"/>
          <a:stretch/>
        </p:blipFill>
        <p:spPr>
          <a:xfrm>
            <a:off x="142920" y="857160"/>
            <a:ext cx="3500280" cy="267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4" name="Picture 4" descr="https://i.sportarena.com/2016/08/mil.jpg"/>
          <p:cNvPicPr/>
          <p:nvPr/>
        </p:nvPicPr>
        <p:blipFill>
          <a:blip r:embed="rId2"/>
          <a:stretch/>
        </p:blipFill>
        <p:spPr>
          <a:xfrm>
            <a:off x="142920" y="4000680"/>
            <a:ext cx="3500280" cy="20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Ірина Мерлені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785840" y="1143000"/>
            <a:ext cx="40719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Олімпійська чемпіонка (Афіни, 2004), бронзова призерка Олімпіади (Пекін, 2008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триразова чемпіонка світу (2000, 2001, 2003), дворазова чемпіонка Європи (2004, 2005), вагова категорія — до 48 к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Заслужений майстер спорту України з вільної боротьб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2" descr="https://www.ukraine-is.com/wp-content/uploads/2016/09/%D0%86%D1%80%D0%B8%D0%BD%D0%B0-%D0%9C%D0%B5%D1%80%D0%BB%D0%B5%D0%BD%D1%96..jpg"/>
          <p:cNvPicPr/>
          <p:nvPr/>
        </p:nvPicPr>
        <p:blipFill>
          <a:blip r:embed="rId1"/>
          <a:stretch/>
        </p:blipFill>
        <p:spPr>
          <a:xfrm>
            <a:off x="214200" y="1428840"/>
            <a:ext cx="4786560" cy="351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Віктор Рубан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928960" y="1447920"/>
            <a:ext cx="60055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Segoe Print"/>
              </a:rPr>
              <a:t>Олімпійський чемпіон 2008 р. в індивідуальних змаганнях, бронзовий призер Олімпіади 2004 р. в команді, чемпіон світу 2009 р. в міксі та бронзовий призер в індивідуальних змаганнях, чемпіон Європи 2006 р., чемпіон Універсіади 2009 р. в індивідуальних змаганнях та срібний призер у міксі, неодноразовий переможець чемпіонату та Кубка Украї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Segoe Print"/>
              </a:rPr>
              <a:t>26 березня 2011 року Віктор Рубан став бронзовим призером чемпіонату Європи зі стрільби з лу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egoe Print"/>
              </a:rPr>
              <a:t>Заслужений майстер спорту України зі стрільби з лу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5" descr="Img214545858"/>
          <p:cNvPicPr/>
          <p:nvPr/>
        </p:nvPicPr>
        <p:blipFill>
          <a:blip r:embed="rId1"/>
          <a:stretch/>
        </p:blipFill>
        <p:spPr>
          <a:xfrm>
            <a:off x="142920" y="785880"/>
            <a:ext cx="30002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57360" y="274680"/>
            <a:ext cx="55004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Олександр Усик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142800" y="1447920"/>
            <a:ext cx="57913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Професійний український боксер. Абсолютний чемпіон світу в першій важкій вазі(версії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WBO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6 — 2019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WBC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8 — 2019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IBF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8 — 2019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WBA (Super)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8 — 2019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The Ring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8 —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т.ч.), Олімпійський чемпіон (2012),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 глядачам запам'ятався тим, що виходив на ринг в образі козака, а після фінального поєдинку танцював гопак.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Чемпіон світу (2011), чемпіон Європи (2008), багаторазовий чемпіон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Segoe Print"/>
              </a:rPr>
              <a:t>Заслужений майстер спорту України з бокс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2" descr="https://encrypted-tbn0.gstatic.com/images?q=tbn%3AANd9GcS5yHAWo7PpdEOD7kPMwtQ3KDXsq1isws9Y9A3Rj4nadcujxlRN"/>
          <p:cNvPicPr/>
          <p:nvPr/>
        </p:nvPicPr>
        <p:blipFill>
          <a:blip r:embed="rId6"/>
          <a:stretch/>
        </p:blipFill>
        <p:spPr>
          <a:xfrm>
            <a:off x="642960" y="3376440"/>
            <a:ext cx="2286000" cy="312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4" name="Picture 4" descr="Картинки по запросу &quot;усик олимпиада 2012&quot;"/>
          <p:cNvPicPr/>
          <p:nvPr/>
        </p:nvPicPr>
        <p:blipFill>
          <a:blip r:embed="rId7"/>
          <a:stretch/>
        </p:blipFill>
        <p:spPr>
          <a:xfrm>
            <a:off x="285840" y="500040"/>
            <a:ext cx="3316320" cy="245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5055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Василь Ломаченк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499920" y="1447560"/>
            <a:ext cx="54342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ий професійний боксер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Дворазовий чемпіон Олімпійських ігор (у 2008 та 2012 роках). На аматорському рівні дворазовий чемпіон світу (2009,2011), чемпіон Європи (2008), багаторазовий чемпіон України. Заслужений майстер спорту України. Найтитулованіший український боксер</a:t>
            </a:r>
            <a:r>
              <a:rPr b="0" lang="uk-UA" sz="1800" spc="-1" strike="noStrike" baseline="30000">
                <a:solidFill>
                  <a:srgbClr val="000000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10 квітня 2019 року Всесвітня боксерська організація (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WBO)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вручила чемпіонові світу в легкій вазі за версіями 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WBA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і 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WBO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цеві Василю Ломаченку пояс суперчемпіон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5 грудня 2019 року Василь Ломаченко отримав нагороду найкращому боксеру 2019 року за версією Всесвітньої боксерської організації у Токі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Picture 2" descr="https://i58.fastpic.ru/big/2013/1114/3e/f32c39160457985c64e1de34bddb8f3e.jpg"/>
          <p:cNvPicPr/>
          <p:nvPr/>
        </p:nvPicPr>
        <p:blipFill>
          <a:blip r:embed="rId1"/>
          <a:stretch/>
        </p:blipFill>
        <p:spPr>
          <a:xfrm>
            <a:off x="214200" y="1428840"/>
            <a:ext cx="3583080" cy="40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71600" y="274320"/>
            <a:ext cx="48625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Юрій Чебан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57760" y="1447920"/>
            <a:ext cx="50767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Український веслувальник-каноїст, дворазовий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Segoe Print"/>
              </a:rPr>
              <a:t>олімпійський чемпіон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 (2012 та 2016), бронзовий призер Олімпійських ігор (2008). У серпні 2014 року виграв чемпіонат світу, перемігши у фінальному запливі на 200 метрів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Заслужений майстер спорт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Єдиний спортсмен у iсторiї Олiмпiйських iгор двiчi вигравший золото у змаганнi на дистанцiю 200 метрiв серед каноїстiв-одиночо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2" descr="https://imgclf.112.ua/original/2016/08/18/253465.jpg?timestamp=1471517192"/>
          <p:cNvPicPr/>
          <p:nvPr/>
        </p:nvPicPr>
        <p:blipFill>
          <a:blip r:embed="rId1"/>
          <a:stretch/>
        </p:blipFill>
        <p:spPr>
          <a:xfrm>
            <a:off x="0" y="1928880"/>
            <a:ext cx="430848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Яна Дементьє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357360" y="1447920"/>
            <a:ext cx="557676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а веслувальниця (академічне веслування), загрібна, олімпійська чемпіонка, чемпіонка світу та Європи, заслужений майстер спорту України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Член олімпійської збірної України н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Іграх 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XXX 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Олімпіади 2012 року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Лондоні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. У складі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четвірки парної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6"/>
              </a:rPr>
              <a:t>Анастасія Коженкова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 Яна Дементьєва,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7"/>
              </a:rPr>
              <a:t>Катерина Тарасенко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й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8"/>
              </a:rPr>
              <a:t>Наталія Довгодько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) стала олімпійською чемпіонкою.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Багаторазова чемпіонка України, призерка Кубків світ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Picture 2" descr="https://storage1b.censor.net/images/7/8/7/b/787b4958be4d43ad5a2f22b396d7a75b/original.jpg"/>
          <p:cNvPicPr/>
          <p:nvPr/>
        </p:nvPicPr>
        <p:blipFill>
          <a:blip r:embed="rId9"/>
          <a:stretch/>
        </p:blipFill>
        <p:spPr>
          <a:xfrm>
            <a:off x="357120" y="4071960"/>
            <a:ext cx="3471840" cy="235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4" name="Picture 4" descr="https://web.kpi.kharkov.ua/sport/wp-content/uploads/sites/33/2014/07/dementeva-yana-5p-e1446811007958.jpg"/>
          <p:cNvPicPr/>
          <p:nvPr/>
        </p:nvPicPr>
        <p:blipFill>
          <a:blip r:embed="rId10"/>
          <a:stretch/>
        </p:blipFill>
        <p:spPr>
          <a:xfrm>
            <a:off x="500040" y="285840"/>
            <a:ext cx="2500200" cy="356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6160" y="274320"/>
            <a:ext cx="46483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72314"/>
                </a:solidFill>
                <a:latin typeface="Segoe Print"/>
              </a:rPr>
              <a:t>Ольга Харлан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499920" y="1213920"/>
            <a:ext cx="54342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а фехтувальниця (шабля), олімпійська чемпіонка в 2008 року у командній першості, бронзова призерка Олімпіади 2012 року, шестиразова чемпіонка світу (2009 року в командній першості, 2013 в індивідуальній і командній, 2014 в індивідуальній, 2017 в індивідуальній, 2019 в індивідуальній), восьмиразова чемпіонка Європи,ЗМСУ з фехтування, найкраща спортсменка року (2008, 2009) та найкраща спортсменка місяця (5 разів) в Україн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6" descr="https://m.buro247.ua/images/2016/09/Olga-harlan_MG_5838.jpg"/>
          <p:cNvPicPr/>
          <p:nvPr/>
        </p:nvPicPr>
        <p:blipFill>
          <a:blip r:embed="rId1"/>
          <a:stretch/>
        </p:blipFill>
        <p:spPr>
          <a:xfrm>
            <a:off x="214200" y="928800"/>
            <a:ext cx="3357720" cy="584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14880" y="274320"/>
            <a:ext cx="47196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Юлія Джім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00720" y="1447920"/>
            <a:ext cx="443376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а біатлоністка, чемпіонка Олімпійських ігор в Сочі, срібна призерка чемпіонату світу, переможниця та призерка етапів кубка світу з біатлону, чотириразова чемпіонка Європи в естафеті, призерка Кубка Європи з біатлону. Заслужений майстер спорту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Нагороджена орденами «За заслуги» III ступеня (2014), «За заслуги» II ступеня (2017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2" descr="https://pic.sport.ua/images/news/0/8/65/orig_333015.jpg"/>
          <p:cNvPicPr/>
          <p:nvPr/>
        </p:nvPicPr>
        <p:blipFill>
          <a:blip r:embed="rId1"/>
          <a:stretch/>
        </p:blipFill>
        <p:spPr>
          <a:xfrm>
            <a:off x="214200" y="785880"/>
            <a:ext cx="465300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05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300" spc="-1" strike="noStrike">
                <a:solidFill>
                  <a:srgbClr val="572314"/>
                </a:solidFill>
                <a:latin typeface="Segoe Print"/>
              </a:rPr>
              <a:t>Президенти НОК Україн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Прямоугольник 4"/>
          <p:cNvSpPr/>
          <p:nvPr/>
        </p:nvSpPr>
        <p:spPr>
          <a:xfrm>
            <a:off x="500040" y="12142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Segoe Print"/>
              </a:rPr>
              <a:t>Валерій Філіппович Борз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5286240" y="114300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Segoe Print"/>
              </a:rPr>
              <a:t>Сергій Назарович Буб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4" descr="Картинки по запросу &quot;валерий борзов&quot;"/>
          <p:cNvPicPr/>
          <p:nvPr/>
        </p:nvPicPr>
        <p:blipFill>
          <a:blip r:embed="rId1"/>
          <a:stretch/>
        </p:blipFill>
        <p:spPr>
          <a:xfrm>
            <a:off x="285840" y="2143080"/>
            <a:ext cx="393696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6" name="Picture 6" descr="Картинки по запросу &quot;бубка&quot;"/>
          <p:cNvPicPr/>
          <p:nvPr/>
        </p:nvPicPr>
        <p:blipFill>
          <a:blip r:embed="rId2"/>
          <a:stretch/>
        </p:blipFill>
        <p:spPr>
          <a:xfrm>
            <a:off x="4643280" y="2286000"/>
            <a:ext cx="428148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Прямоугольник 15"/>
          <p:cNvSpPr/>
          <p:nvPr/>
        </p:nvSpPr>
        <p:spPr>
          <a:xfrm>
            <a:off x="285840" y="5429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egoe Print"/>
                <a:ea typeface="Arial"/>
              </a:rPr>
              <a:t>1990-1998 —</a:t>
            </a:r>
            <a:r>
              <a:rPr b="1" lang="uk-UA" sz="1800" spc="-1" strike="noStrike">
                <a:solidFill>
                  <a:srgbClr val="000000"/>
                </a:solidFill>
                <a:latin typeface="Segoe Print"/>
                <a:ea typeface="Tahoma"/>
              </a:rPr>
              <a:t>президент Національного олімпійського комітету України</a:t>
            </a:r>
            <a:r>
              <a:rPr b="1" lang="uk-UA" sz="1800" spc="-1" strike="noStrike">
                <a:solidFill>
                  <a:srgbClr val="000000"/>
                </a:solidFill>
                <a:latin typeface="Segoe Prin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16"/>
          <p:cNvSpPr/>
          <p:nvPr/>
        </p:nvSpPr>
        <p:spPr>
          <a:xfrm>
            <a:off x="4714920" y="557208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egoe Print"/>
                <a:ea typeface="Arial"/>
              </a:rPr>
              <a:t>23 червня 2005 року і до сьогоднішнього часу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857680" y="274680"/>
            <a:ext cx="607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Олег Верняє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29040" y="1447560"/>
            <a:ext cx="5005440" cy="49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ийгімнаст, Олімпійський чемпіон і срібний призер Олімпійських ігор 2016, чемпіон світу зі спортивної гімнастики. Учасник Олімпійських Ігор 2012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11 серпня 2016 року н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Олімпійських іграх 2016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Ріо-де-Жанейро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Бразилія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) виборов срібну медаль 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абсолютній першості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 поступившись 0,099 бала переможцю —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Утімурі Кохею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16 серпня 2016 року у змаганнях на паралельних брусах виборов першу золоту медаль для України н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6"/>
              </a:rPr>
              <a:t>Олімпійських іграх 2016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7"/>
              </a:rPr>
              <a:t>Ріо-де-Жанейро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8" name="Picture 9" descr="C:\Users\Yaroslav\Desktop\unnamed (1).jpg"/>
          <p:cNvPicPr/>
          <p:nvPr/>
        </p:nvPicPr>
        <p:blipFill>
          <a:blip r:embed="rId8"/>
          <a:stretch/>
        </p:blipFill>
        <p:spPr>
          <a:xfrm>
            <a:off x="142920" y="357120"/>
            <a:ext cx="388152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9" name="Picture 11" descr="https://galinfo.com.ua/media/gallery/full/v/e/vernjajev.jpg"/>
          <p:cNvPicPr/>
          <p:nvPr/>
        </p:nvPicPr>
        <p:blipFill>
          <a:blip r:embed="rId9"/>
          <a:stretch/>
        </p:blipFill>
        <p:spPr>
          <a:xfrm>
            <a:off x="285840" y="3714840"/>
            <a:ext cx="386388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42880" y="274320"/>
            <a:ext cx="479124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Ганна Різатдіно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214880" y="1447560"/>
            <a:ext cx="47196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художня гімнастка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 бронзова призерк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Олімпійських ігор 2016 року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індивідуальному багатоборстві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 чемпіонка світу із вправ з обручем (2013), багаторазова призерка чемпіонатів світу та Європи, інших міжнародних змаган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20 серпня Ганна завоювала бронзову медаль на змаганнях з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художньої гімнастики в індивідуальному багатоборстві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на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Олімпійських іграх 2016 року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6"/>
              </a:rPr>
              <a:t>Ріо-де-Жанейро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7"/>
              </a:rPr>
              <a:t>Бразилія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11 вересня здобула срібну медаль в індивідуальному багатоборстві та бронзову медаль у командному багатоборстві на чемпіонаті 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Aeon Cup 2016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в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8"/>
              </a:rPr>
              <a:t>Японії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2" name="Picture 4" descr="https://gordonua.com/img/article/1464/29_tn.jpg"/>
          <p:cNvPicPr/>
          <p:nvPr/>
        </p:nvPicPr>
        <p:blipFill>
          <a:blip r:embed="rId9"/>
          <a:stretch/>
        </p:blipFill>
        <p:spPr>
          <a:xfrm>
            <a:off x="142920" y="1571760"/>
            <a:ext cx="418140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785760" y="274680"/>
            <a:ext cx="5148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Жан Беленюк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142880" y="1447560"/>
            <a:ext cx="479124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Український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борець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греко-римського стилю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у ваговій категорії до 85 кг. Багаторазовий чемпіон світу і Європи, призер цих змагань, срібний призер Олімпійських ігор 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2016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), чемпіон і срібний призер Європейських ігор (</a:t>
            </a:r>
            <a:r>
              <a:rPr b="0" lang="uk-UA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2019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, 2015), бронзовий призер Універсіади (2013). Заслужений майстер спорту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Найкращий спортсмен квітня 2014 рок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Найкращий борець класичного стилю у світі 2015 року за версією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Segoe Print"/>
              </a:rPr>
              <a:t>Міжнародної федерації об'єднаних стилів боротьб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5" name="Picture 2" descr="Картинки по запросу &quot;беленюк&quot;"/>
          <p:cNvPicPr/>
          <p:nvPr/>
        </p:nvPicPr>
        <p:blipFill>
          <a:blip r:embed="rId6"/>
          <a:stretch/>
        </p:blipFill>
        <p:spPr>
          <a:xfrm>
            <a:off x="142920" y="1785960"/>
            <a:ext cx="43815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71520" y="274680"/>
            <a:ext cx="5862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Олександр Абраменк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000320" y="1714320"/>
            <a:ext cx="493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країнський фристайліст, заслужений майстер спорту України, фахівець із лижної акробатики, олімпійський чемпіон 2018 року. Володар малого Кришталевого глобуса з лижної акробатики сезону 2015–16. Срібний призер Чемпіонату Світу 2019 рок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Орден «За заслуги» III с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8" name="Picture 2" descr="Картинки по запросу &quot;абраменко олександр&quot;"/>
          <p:cNvPicPr/>
          <p:nvPr/>
        </p:nvPicPr>
        <p:blipFill>
          <a:blip r:embed="rId1"/>
          <a:stretch/>
        </p:blipFill>
        <p:spPr>
          <a:xfrm>
            <a:off x="0" y="928800"/>
            <a:ext cx="385920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9" name="Picture 4" descr="Картинки по запросу &quot;абраменко олександр&quot;"/>
          <p:cNvPicPr/>
          <p:nvPr/>
        </p:nvPicPr>
        <p:blipFill>
          <a:blip r:embed="rId2"/>
          <a:stretch/>
        </p:blipFill>
        <p:spPr>
          <a:xfrm>
            <a:off x="785880" y="4143240"/>
            <a:ext cx="400032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714240" y="1447920"/>
            <a:ext cx="822024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З великим терпінням чекаємо Літню Олімпіаду 2020 в Токіо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1" name="Picture 2" descr="https://leonardo.osnova.io/a642ed6c-a93a-2a4c-01f9-4cd2bc74376a/-/scale_crop/900x833/center/"/>
          <p:cNvPicPr/>
          <p:nvPr/>
        </p:nvPicPr>
        <p:blipFill>
          <a:blip r:embed="rId1"/>
          <a:stretch/>
        </p:blipFill>
        <p:spPr>
          <a:xfrm>
            <a:off x="3071880" y="2500200"/>
            <a:ext cx="4000320" cy="370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213840" y="5429160"/>
            <a:ext cx="44290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Print"/>
              </a:rPr>
              <a:t>1998-2002 – президент НОК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000760" y="5357520"/>
            <a:ext cx="3862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egoe Print"/>
              </a:rPr>
              <a:t>2002-2005 – президент НОК Україн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2" descr="Картинки по запросу &quot;федоренко іван никифорович&quot;"/>
          <p:cNvPicPr/>
          <p:nvPr/>
        </p:nvPicPr>
        <p:blipFill>
          <a:blip r:embed="rId1"/>
          <a:stretch/>
        </p:blipFill>
        <p:spPr>
          <a:xfrm>
            <a:off x="214200" y="2214720"/>
            <a:ext cx="434016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2" name="Прямоугольник 5"/>
          <p:cNvSpPr/>
          <p:nvPr/>
        </p:nvSpPr>
        <p:spPr>
          <a:xfrm>
            <a:off x="571680" y="1285920"/>
            <a:ext cx="371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Segoe Print"/>
              </a:rPr>
              <a:t>Іван Нікіфорович Федоренк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оугольник 6"/>
          <p:cNvSpPr/>
          <p:nvPr/>
        </p:nvSpPr>
        <p:spPr>
          <a:xfrm>
            <a:off x="5045760" y="1285920"/>
            <a:ext cx="40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Segoe Print"/>
              </a:rPr>
              <a:t>Віктор Федорович Янукович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4" descr="Картинки по запросу &quot;янукович президент нок&quot;"/>
          <p:cNvPicPr/>
          <p:nvPr/>
        </p:nvPicPr>
        <p:blipFill>
          <a:blip r:embed="rId2"/>
          <a:stretch/>
        </p:blipFill>
        <p:spPr>
          <a:xfrm>
            <a:off x="5000760" y="2125800"/>
            <a:ext cx="3857400" cy="288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57720" y="857160"/>
            <a:ext cx="5505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Оксана Баюл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 Перша олімпійська чемпіонка (Х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VII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Олімпійські Зимові ігри, Ліллегаммер, Норвегія, 1994) 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незалежної України. Дворазова срібна призерка чемпіонатів Європи (1993,1994), чемпіонка світу (1993)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178087.jpg"/>
          <p:cNvPicPr/>
          <p:nvPr/>
        </p:nvPicPr>
        <p:blipFill>
          <a:blip r:embed="rId1"/>
          <a:stretch/>
        </p:blipFill>
        <p:spPr>
          <a:xfrm>
            <a:off x="214200" y="214200"/>
            <a:ext cx="2571840" cy="371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7" name="Picture 2" descr="https://lh3.googleusercontent.com/proxy/y_XAvqLmUVRmDsA-9E1Yn-TN762l4pvQ34nE5lImWi-9ajU6ZqybuE-_0iwZjuTqOsna86wHIDvSUR_GneFCSUPoBvSvDND0l3KIf-jtIYpPz6W42IdvDeGC"/>
          <p:cNvPicPr/>
          <p:nvPr/>
        </p:nvPicPr>
        <p:blipFill>
          <a:blip r:embed="rId2"/>
          <a:stretch/>
        </p:blipFill>
        <p:spPr>
          <a:xfrm>
            <a:off x="3143160" y="3357720"/>
            <a:ext cx="2325600" cy="319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8" name="Picture 7" descr="bajul"/>
          <p:cNvPicPr/>
          <p:nvPr/>
        </p:nvPicPr>
        <p:blipFill>
          <a:blip r:embed="rId3"/>
          <a:stretch/>
        </p:blipFill>
        <p:spPr>
          <a:xfrm>
            <a:off x="5715000" y="3438360"/>
            <a:ext cx="3143160" cy="291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785760" y="35676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Лілія Подкопає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929040" y="1447560"/>
            <a:ext cx="500544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У 1996 р. на 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XXVI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Олімпійських іграх в Атланті посіла перше місце в абсолютній першості, перше місце у вільних вправах, друге місце на колод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Абсолютна чемпіонка світу (1995, Японія, Сабає), Європи (1996, Велика Британія, Бірмінгем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Володарка Кубка Європи (1995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4" descr="Картинки по запросу &quot;подкопаєва лілія олександрівна&quot;"/>
          <p:cNvPicPr/>
          <p:nvPr/>
        </p:nvPicPr>
        <p:blipFill>
          <a:blip r:embed="rId1"/>
          <a:stretch/>
        </p:blipFill>
        <p:spPr>
          <a:xfrm>
            <a:off x="142920" y="214200"/>
            <a:ext cx="2643120" cy="396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2" name="Picture 8" descr="Картинки по запросу &quot;подкопаєва лілія олександрівна&quot;"/>
          <p:cNvPicPr/>
          <p:nvPr/>
        </p:nvPicPr>
        <p:blipFill>
          <a:blip r:embed="rId2"/>
          <a:stretch/>
        </p:blipFill>
        <p:spPr>
          <a:xfrm>
            <a:off x="1571760" y="4286160"/>
            <a:ext cx="2571480" cy="235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14800" y="500040"/>
            <a:ext cx="47908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Володимир Кличк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14800" y="1357200"/>
            <a:ext cx="5572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На 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XXVI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Літніх Олімпійських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іграх 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в Атланті здобув золото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у надважкій ваговій категорії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Чемпіон світу з боксу у важкій ваговій категорії за версіями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WBO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00—2003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, 2008—2015 роки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2"/>
              </a:rPr>
              <a:t>IBF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06—2015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3"/>
              </a:rPr>
              <a:t>IBO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06—2015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4"/>
              </a:rPr>
              <a:t>The Ring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09—2015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), 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Segoe Print"/>
                <a:hlinkClick r:id="rId5"/>
              </a:rPr>
              <a:t>WBA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 (2011—2015 </a:t>
            </a: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роки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2 жовтня 2018 року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Segoe Print"/>
                <a:hlinkClick r:id="rId6"/>
              </a:rPr>
              <a:t>Віталія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 та Володимира Кличків внесли до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Segoe Print"/>
                <a:hlinkClick r:id="rId7"/>
              </a:rPr>
              <a:t>Книги рекордів Гіннеса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, як братів-чемпіонів, які на двох провели найбільшу кількість бої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Картинки по запросу &quot;володимир кличко&quot;"/>
          <p:cNvPicPr/>
          <p:nvPr/>
        </p:nvPicPr>
        <p:blipFill>
          <a:blip r:embed="rId8"/>
          <a:stretch/>
        </p:blipFill>
        <p:spPr>
          <a:xfrm>
            <a:off x="214200" y="1143000"/>
            <a:ext cx="2928960" cy="44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2912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Інесса Кравець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57400" y="1499760"/>
            <a:ext cx="464004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Олімпійська чемпіонка 1996 року в потрійному стрибку. Срібна призерка Олімпійських</a:t>
            </a:r>
            <a:r>
              <a:rPr b="0" lang="uk-UA" sz="1700" spc="-1" strike="noStrike" u="sng">
                <a:solidFill>
                  <a:srgbClr val="8dc765"/>
                </a:solidFill>
                <a:uFillTx/>
                <a:latin typeface="Segoe Print"/>
                <a:hlinkClick r:id="rId1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ігор 1992 року в стрибках в довжину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Чемпіонка світу (1991, 1993, 1995), володар Кубка світу (1994), чемпіонка Європи (1992). Багаторазова призерка чемпіонатів Європи та світу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Неодноразова рекордсменка світу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Segoe Print"/>
              </a:rPr>
              <a:t>Її світовий рекорд у потрійному стрибку (15,50 м), встановлений 10 серпня 1995 року, не побитий до сьогодні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Картинки по запросу &quot;інеса кравець&quot;"/>
          <p:cNvPicPr/>
          <p:nvPr/>
        </p:nvPicPr>
        <p:blipFill>
          <a:blip r:embed="rId2"/>
          <a:stretch/>
        </p:blipFill>
        <p:spPr>
          <a:xfrm>
            <a:off x="214200" y="857160"/>
            <a:ext cx="3471840" cy="528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В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̓ </a:t>
            </a: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ячеслав Олійник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429000" y="1571400"/>
            <a:ext cx="514368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 Print"/>
              </a:rPr>
              <a:t>На Олімпіаді 1996 року в Атланті В'ячеслав Олійник здобув золоту медаль з греко - римської боротьби, яка стала першою золотою медаллю на літніх Олімпійських іграх в історії незалежної Украї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У 1994 році йому було присвоєно звання «Заслужений майстер спорту України». У 1996 році був нагороджений хрестом «За мужність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2" descr="Картинки по запросу &quot;вячеслав олійник&quot;"/>
          <p:cNvPicPr/>
          <p:nvPr/>
        </p:nvPicPr>
        <p:blipFill>
          <a:blip r:embed="rId1"/>
          <a:stretch/>
        </p:blipFill>
        <p:spPr>
          <a:xfrm>
            <a:off x="214200" y="1357200"/>
            <a:ext cx="3143520" cy="471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Катерина</a:t>
            </a:r>
            <a:r>
              <a:rPr b="1" lang="uk-UA" sz="3200" spc="-1" strike="noStrike">
                <a:solidFill>
                  <a:srgbClr val="000000"/>
                </a:solidFill>
                <a:latin typeface="Segoe Print"/>
              </a:rPr>
              <a:t> Серебрянсь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142800" y="1447920"/>
            <a:ext cx="57913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Олімпійська чемпіонка з художньої гімнастики в Атланті (1996), заслужений майстер спорту України з художньої гімнастики.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Почесна відзнака Президента України (1995) — за видатні досягнення, вагомий особистий внесок в утвердження авторитету України у світовому спортивному співтоварист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Segoe Print"/>
              </a:rPr>
              <a:t>Жінка року</a:t>
            </a: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 (1996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Print"/>
              </a:rPr>
              <a:t>Заслужений майстер спорту України (1996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7" descr="C:\Users\Yaroslav\Desktop\1_Галлерея 2.jpg"/>
          <p:cNvPicPr/>
          <p:nvPr/>
        </p:nvPicPr>
        <p:blipFill>
          <a:blip r:embed="rId1"/>
          <a:stretch/>
        </p:blipFill>
        <p:spPr>
          <a:xfrm>
            <a:off x="142920" y="1357200"/>
            <a:ext cx="2857320" cy="396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7T15:19:16Z</dcterms:created>
  <dc:creator>Yaroslav</dc:creator>
  <dc:description/>
  <dc:language>en-US</dc:language>
  <cp:lastModifiedBy>х</cp:lastModifiedBy>
  <dcterms:modified xsi:type="dcterms:W3CDTF">2020-03-14T06:00:01Z</dcterms:modified>
  <cp:revision>46</cp:revision>
  <dc:subject/>
  <dc:title>Олімпійська Україна</dc:title>
</cp:coreProperties>
</file>