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366-EA1A-4C70-958A-827F49F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962-9679-487D-86C5-EE916EF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976-44D0-4CE9-A0AC-2C46373A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AAB-9BDE-40BD-8FA0-F37EED8E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273-BE57-417E-AF43-6DE4FDC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894C-9BE9-41A3-BA7B-5D95B58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0EC-389A-4489-8092-8E9A295F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D2C-B1D9-4D2A-A782-2FB044A6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CDE1-E3E5-4DBD-8988-21377C6C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04E-CECF-4477-B1C8-989F641B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97E-09B7-4308-8E1A-781CBE89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712-A672-4EC0-8333-62722BD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C26A-032F-49FF-9703-FD9EE6A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AE3-2CC9-465B-9D21-1FF1AAB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0110-CC0F-45FB-AB83-25B2813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9DE-DB85-4B21-A013-6022A3FD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783A-15F7-4BB4-A8FB-FACA3100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A077-21A3-4F69-A24D-AD54D55C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E2A34-9C2A-480D-B8A8-2172FB1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20F4-5588-4B5F-BF9E-A37AEE8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D2B8-46C1-417E-BA34-A19DC94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0EAF-D888-4AEA-90EB-DA0F8B74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7ED-E5DC-49F0-8C76-6293A03D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D07C-CE33-4436-B2A0-85DF5C5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833F-675B-430B-9B21-E13B6E3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554D-5BAD-45F9-A0AD-7246945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50CA-05F8-4782-A027-032015D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7F4F-578D-47AD-AC81-21E6397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FFB8-F270-4E4B-A28C-207BAB8F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86DC-CAF7-4C2F-9417-000E32C1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B3CD-19E9-40CD-A18B-73E0543E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06C5-0BE2-4E09-B752-DA3EA6B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97FB-202F-4445-B8AC-C66E828D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C99-F2BB-42E8-9939-4DFA722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C80F-0872-4FCB-B98E-843CF0B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CA1B-57D8-4A30-AE5A-B11FDB91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14A3-8946-4955-842C-FB1977AA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0932-BA16-40DE-9728-3420BFF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6FC7-D18B-4FEC-B18C-DF6BD60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B1C7-1F6B-4B88-AF23-B75C0BC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D076-CD9E-4474-9CC7-55A66F3E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B2D2-6B5A-4745-A452-D5982752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EC27-FF4A-448E-A63F-08DDC049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C89A-A334-4166-B5C7-420DBCF9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037-0B88-4ECB-8197-32183866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B5C6-1EEF-407A-BF64-D49FB914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93AC-36DA-4891-AE68-F4E30A5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B85A-2109-4F79-8F82-BBD57E6E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E721-0B79-4D87-966A-348E81A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FF93D-F761-4355-9A62-3A871409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F53FC-FAEB-4E8C-BB61-95D2BF16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3B6E-2724-4352-AA48-99FF787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4C4B-A722-4018-B247-0562BE7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28EC-5A35-46D0-95BF-C6F0A43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EAA1-F733-4CCD-BD8B-BAEE87DD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F3B-1B3D-4380-BF65-2C774038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EAF4-CA0A-4023-845B-B16F1046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DDD5-7FBE-4DE2-8C1A-8381E4FF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AC6E-9CE1-4E68-873E-4FA08D57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ED73-6006-4A4B-A7BC-D83CEB2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6388-8231-4E9D-B58F-2E147529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E210-D38F-4281-ACD0-22CE80A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CEEB-960C-4FF6-A40C-1545A93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2C24-D59D-4AD7-9842-296B487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E3EB-6D9F-4DD7-9A29-62C0A6E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9F60-CD3A-41C2-B120-F2E2829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7B8-6FD1-4755-86DD-85B74DB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65CAC-18FF-4C8F-997B-2E8D0F73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C824-179E-4FEC-992C-39153E7B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B75A-898D-435C-A7AD-7BB571F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67AF-E55A-49F1-A346-338ABCB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631C-3C61-4BB4-B8B0-AEB37F1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9496-F97D-421F-9D98-FE7B54D4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3CDB-5122-4B55-AC87-B7628219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7131-0C99-4ABC-906B-BC97472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43A6-BAA2-47F5-AD80-7DAD102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0C74C-FAE7-468E-AF0E-1B09258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A25-F161-4CA0-9126-61D88E0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05E7-6AA2-4C6D-9060-B0A3CA6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82AF-3F12-4744-A7B8-781960D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D2B4-EE3F-4155-AA89-6F84C35C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5DE9-61DA-4161-864B-D3324413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FEB3-1024-47E5-9EC4-E8E0E52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145-C791-44B5-A712-32D9283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FB4-B11C-4E73-B0DD-421FDA8813EB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DB1-289D-41F3-9F2E-1BA0F85FD66D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313-09E9-4207-8CE1-F4833D924C0A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36D2-F67A-4EE9-8A8F-08F49E213380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E88E-299E-41C2-B774-58E30F51B372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B58-FAAB-4A03-AC8B-4307AC0EB0BB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C45A-4C51-4809-9F0C-04A5F5F1B3B3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7;&#1074;&#1110;&#1090;&#1086;&#1074;&#1072;_&#1073;&#1086;&#1082;&#1089;&#1077;&#1088;&#1089;&#1100;&#1082;&#1072;_&#1086;&#1088;&#1075;&#1072;&#1085;&#1110;&#1079;&#1072;&#1094;&#1110;&#1103;" TargetMode="External"/><Relationship Id="rId2" Type="http://schemas.openxmlformats.org/officeDocument/2006/relationships/hyperlink" Target="https://uk.wikipedia.org/wiki/WBC" TargetMode="External"/><Relationship Id="rId3" Type="http://schemas.openxmlformats.org/officeDocument/2006/relationships/hyperlink" Target="https://uk.wikipedia.org/wiki/IBF" TargetMode="External"/><Relationship Id="rId4" Type="http://schemas.openxmlformats.org/officeDocument/2006/relationships/hyperlink" Target="https://uk.wikipedia.org/wiki/WBA" TargetMode="External"/><Relationship Id="rId5" Type="http://schemas.openxmlformats.org/officeDocument/2006/relationships/hyperlink" Target="https://uk.wikipedia.org/wiki/&#1056;&#1080;&#1085;&#1075;_(&#1078;&#1091;&#1088;&#1085;&#1072;&#1083;)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3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4" Type="http://schemas.openxmlformats.org/officeDocument/2006/relationships/hyperlink" Target="https://uk.wikipedia.org/wiki/&#1051;&#1086;&#1085;&#1076;&#1086;&#1085;" TargetMode="External"/><Relationship Id="rId5" Type="http://schemas.openxmlformats.org/officeDocument/2006/relationships/hyperlink" Target="https://uk.wikipedia.org/wiki/&#1040;&#1082;&#1072;&#1076;&#1077;&#1084;&#1110;&#1095;&#1085;&#1077;_&#1074;&#1077;&#1089;&#1083;&#1091;&#1074;&#1072;&#1085;&#1085;&#1103;_&#1085;&#1072;_&#1083;&#1110;&#1090;&#1085;&#1110;&#1093;_&#1054;&#1083;&#1110;&#1084;&#1087;&#1110;&#1081;&#1089;&#1100;&#1082;&#1080;&#1093;_&#1110;&#1075;&#1088;&#1072;&#1093;_2012_&#8212;_&#1087;&#1072;&#1088;&#1085;&#1110;_&#1095;&#1077;&#1090;&#1074;&#1110;&#1088;&#1082;&#1080;_(&#1078;&#1110;&#1085;&#1082;&#1080;)" TargetMode="External"/><Relationship Id="rId6" Type="http://schemas.openxmlformats.org/officeDocument/2006/relationships/hyperlink" Target="https://uk.wikipedia.org/wiki/&#1050;&#1086;&#1078;&#1077;&#1085;&#1082;&#1086;&#1074;&#1072;_&#1040;&#1085;&#1072;&#1089;&#1090;&#1072;&#1089;&#1110;&#1103;_&#1052;&#1080;&#1082;&#1086;&#1083;&#1072;&#1111;&#1074;&#1085;&#1072;" TargetMode="External"/><Relationship Id="rId7" Type="http://schemas.openxmlformats.org/officeDocument/2006/relationships/hyperlink" Target="https://uk.wikipedia.org/wiki/&#1058;&#1072;&#1088;&#1072;&#1089;&#1077;&#1085;&#1082;&#1086;_&#1050;&#1072;&#1090;&#1077;&#1088;&#1080;&#1085;&#1072;_&#1052;&#1080;&#1082;&#1086;&#1083;&#1072;&#1111;&#1074;&#1085;&#1072;" TargetMode="External"/><Relationship Id="rId8" Type="http://schemas.openxmlformats.org/officeDocument/2006/relationships/hyperlink" Target="https://uk.wikipedia.org/wiki/&#1044;&#1086;&#1074;&#1075;&#1086;&#1076;&#1100;&#1082;&#1086;_&#1053;&#1072;&#1090;&#1072;&#1083;&#1110;&#1103;_&#1042;&#1110;&#1082;&#1090;&#1086;&#1088;&#1110;&#1074;&#1085;&#1072;" TargetMode="External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2" Type="http://schemas.openxmlformats.org/officeDocument/2006/relationships/hyperlink" Target="https://uk.wikipedia.org/wiki/&#1056;&#1110;&#1086;-&#1076;&#1077;-&#1046;&#1072;&#1085;&#1077;&#1081;&#1088;&#1086;" TargetMode="External"/><Relationship Id="rId3" Type="http://schemas.openxmlformats.org/officeDocument/2006/relationships/hyperlink" Target="https://uk.wikipedia.org/wiki/&#1041;&#1088;&#1072;&#1079;&#1080;&#1083;&#1110;&#1103;" TargetMode="External"/><Relationship Id="rId4" Type="http://schemas.openxmlformats.org/officeDocument/2006/relationships/hyperlink" Target="https://uk.wikipedia.org/wiki/&#1057;&#1087;&#1086;&#1088;&#1090;&#1080;&#1074;&#1085;&#1072;_&#1075;&#1110;&#1084;&#1085;&#1072;&#1089;&#1090;&#1080;&#1082;&#1072;_&#1085;&#1072;_&#1083;&#1110;&#1090;&#1085;&#1110;&#1093;_&#1054;&#1083;&#1110;&#1084;&#1087;&#1110;&#1081;&#1089;&#1100;&#1082;&#1080;&#1093;_&#1110;&#1075;&#1088;&#1072;&#1093;_2016_&#8212;_&#1072;&#1073;&#1089;&#1086;&#1083;&#1102;&#1090;&#1085;&#1072;_&#1087;&#1077;&#1088;&#1096;&#1110;&#1089;&#1090;&#1100;_(&#1095;&#1086;&#1083;&#1086;&#1074;&#1110;&#1082;&#1080;)" TargetMode="External"/><Relationship Id="rId5" Type="http://schemas.openxmlformats.org/officeDocument/2006/relationships/hyperlink" Target="https://uk.wikipedia.org/wiki/&#1059;&#1090;&#1110;&#1084;&#1091;&#1088;&#1072;_&#1050;&#1086;&#1093;&#1077;&#1081;" TargetMode="External"/><Relationship Id="rId6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7" Type="http://schemas.openxmlformats.org/officeDocument/2006/relationships/hyperlink" Target="https://uk.wikipedia.org/wiki/&#1056;&#1110;&#1086;-&#1076;&#1077;-&#1046;&#1072;&#1085;&#1077;&#1081;&#1088;&#1086;" TargetMode="External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1;&#1091;&#1076;&#1086;&#1078;&#1085;&#1103;_&#1075;&#1110;&#1084;&#1085;&#1072;&#1089;&#1090;&#1080;&#1082;&#1072;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3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4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5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6" Type="http://schemas.openxmlformats.org/officeDocument/2006/relationships/hyperlink" Target="https://uk.wikipedia.org/wiki/&#1056;&#1110;&#1086;-&#1076;&#1077;-&#1046;&#1072;&#1085;&#1077;&#1081;&#1088;&#1086;" TargetMode="External"/><Relationship Id="rId7" Type="http://schemas.openxmlformats.org/officeDocument/2006/relationships/hyperlink" Target="https://uk.wikipedia.org/wiki/&#1041;&#1088;&#1072;&#1079;&#1080;&#1083;&#1110;&#1103;" TargetMode="External"/><Relationship Id="rId8" Type="http://schemas.openxmlformats.org/officeDocument/2006/relationships/hyperlink" Target="https://uk.wikipedia.org/wiki/&#1071;&#1087;&#1086;&#1085;&#1110;&#1103;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9;&#1082;&#1088;&#1072;&#1111;&#1085;&#1072;" TargetMode="External"/><Relationship Id="rId2" Type="http://schemas.openxmlformats.org/officeDocument/2006/relationships/hyperlink" Target="https://uk.wikipedia.org/wiki/&#1041;&#1086;&#1088;&#1086;&#1090;&#1100;&#1073;&#1072;_(&#1089;&#1087;&#1086;&#1088;&#1090;)" TargetMode="External"/><Relationship Id="rId3" Type="http://schemas.openxmlformats.org/officeDocument/2006/relationships/hyperlink" Target="https://uk.wikipedia.org/wiki/&#1043;&#1088;&#1077;&#1082;&#1086;-&#1088;&#1080;&#1084;&#1089;&#1100;&#1082;&#1072;_&#1073;&#1086;&#1088;&#1086;&#1090;&#1100;&#1073;&#1072;" TargetMode="External"/><Relationship Id="rId4" Type="http://schemas.openxmlformats.org/officeDocument/2006/relationships/hyperlink" Target="https://uk.wikipedia.org/wiki/&#1043;&#1088;&#1077;&#1082;&#1086;-&#1088;&#1080;&#1084;&#1089;&#1100;&#1082;&#1072;_&#1073;&#1086;&#1088;&#1086;&#1090;&#1100;&#1073;&#1072;_&#1085;&#1072;_&#1083;&#1110;&#1090;&#1085;&#1110;&#1093;_&#1054;&#1083;&#1110;&#1084;&#1087;&#1110;&#1081;&#1089;&#1100;&#1082;&#1080;&#1093;_&#1110;&#1075;&#1088;&#1072;&#1093;_2016_&#8212;_&#1076;&#1086;_85_&#1082;&#1075;" TargetMode="External"/><Relationship Id="rId5" Type="http://schemas.openxmlformats.org/officeDocument/2006/relationships/hyperlink" Target="https://uk.wikipedia.org/wiki/&#1028;&#1074;&#1088;&#1086;&#1087;&#1077;&#1081;&#1089;&#1100;&#1082;&#1110;_&#1110;&#1075;&#1088;&#1080;_2019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WBO" TargetMode="External"/><Relationship Id="rId2" Type="http://schemas.openxmlformats.org/officeDocument/2006/relationships/hyperlink" Target="https://uk.wikipedia.org/wiki/IBF" TargetMode="External"/><Relationship Id="rId3" Type="http://schemas.openxmlformats.org/officeDocument/2006/relationships/hyperlink" Target="https://uk.wikipedia.org/wiki/IBO" TargetMode="External"/><Relationship Id="rId4" Type="http://schemas.openxmlformats.org/officeDocument/2006/relationships/hyperlink" Target="https://uk.wikipedia.org/wiki/The_Ring_(&#1078;&#1091;&#1088;&#1085;&#1072;&#1083;)" TargetMode="External"/><Relationship Id="rId5" Type="http://schemas.openxmlformats.org/officeDocument/2006/relationships/hyperlink" Target="https://uk.wikipedia.org/wiki/WBA" TargetMode="External"/><Relationship Id="rId6" Type="http://schemas.openxmlformats.org/officeDocument/2006/relationships/hyperlink" Target="https://uk.wikipedia.org/wiki/&#1050;&#1083;&#1080;&#1095;&#1082;&#1086;_&#1042;&#1110;&#1090;&#1072;&#1083;&#1110;&#1081;_&#1042;&#1086;&#1083;&#1086;&#1076;&#1080;&#1084;&#1080;&#1088;&#1086;&#1074;&#1080;&#1095;" TargetMode="External"/><Relationship Id="rId7" Type="http://schemas.openxmlformats.org/officeDocument/2006/relationships/hyperlink" Target="https://uk.wikipedia.org/wiki/&#1050;&#1085;&#1080;&#1075;&#1072;_&#1088;&#1077;&#1082;&#1086;&#1088;&#1076;&#1110;&#1074;_&#1043;&#1110;&#1085;&#1085;&#1077;&#1089;&#1072;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4;&#1083;&#1110;&#1084;&#1087;&#1110;&#1081;&#1089;&#1100;&#1082;&#1110;_&#1030;&#1075;&#1088;&#1080;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28960" y="2071440"/>
            <a:ext cx="32148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Segoe Print"/>
              </a:rPr>
              <a:t>Олімп</a:t>
            </a: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ійська Украї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C:\Users\Yaroslav\Desktop\Ukr-e1517399269316.jpg"/>
          <p:cNvPicPr/>
          <p:nvPr/>
        </p:nvPicPr>
        <p:blipFill>
          <a:blip r:embed="rId1"/>
          <a:stretch/>
        </p:blipFill>
        <p:spPr>
          <a:xfrm>
            <a:off x="971640" y="333360"/>
            <a:ext cx="4081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0" name="Picture 3" descr="C:\Users\Yaroslav\Desktop\im578x383-2018-02-09T124053Z_742986880_DEVEE290Z84JN_RTRMADP_3_OLYMPICS-2018-OPENING.jpg"/>
          <p:cNvPicPr/>
          <p:nvPr/>
        </p:nvPicPr>
        <p:blipFill>
          <a:blip r:embed="rId2"/>
          <a:stretch/>
        </p:blipFill>
        <p:spPr>
          <a:xfrm>
            <a:off x="5435640" y="4680000"/>
            <a:ext cx="328608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ідготував:вчитель фізичного виховання Сугарівської філії  КЗ “Сахновщинського ліцея №1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Чубенко Олександр Олександр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63518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Клочк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71600" y="99972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а чотирикратна Олімпійська чемпіонка на дистанціях 200 та 400 метрів, срібна призерка — 800 метр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еремоги здобула наЛітніх Олімпійських іграх 2000 та 2004 років у комплексному плаванні; срібну медаль — 200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світу на 400 м комплексним плаванням на Олімпійських іграх у Сіднеї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Європи на 200 м комплексним плавання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становила 50 рекордів України у 25-ти та 50-ти метрових басейнах на дистанціях 100 м, 200 м, 400 м комплексним плаванням та 200 м, 400 м та 800 м вільним стилем, 100 м та 200 м на спині, 200 м батерфляєм та в естафетному плаван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4" descr="https://star.korupciya.com/wp-content/uploads/2016/01/yana-klochkova.jpg"/>
          <p:cNvPicPr/>
          <p:nvPr/>
        </p:nvPicPr>
        <p:blipFill>
          <a:blip r:embed="rId1"/>
          <a:stretch/>
        </p:blipFill>
        <p:spPr>
          <a:xfrm>
            <a:off x="0" y="1400040"/>
            <a:ext cx="4214880" cy="318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00160" y="274680"/>
            <a:ext cx="69343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Микола Мільче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00280" y="1428480"/>
            <a:ext cx="5362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Завоював звання олімпійського чемпіона зі стендової стрільби на Олімпійських іграх 2000 року в Сіднеї, набравши 150 очок із 150 можливих (олімпійський рекорд), повторивши світовий рекорд. На Олімпійських іграх 2004 року в Афінах, набравши 121 очко поділив 9-14 місця. На Олімпійських іграх 2008 року в Пекіні, набравши 109 очков посів 32 місце. На Олімпійських іграх 2016 в Ріо- де- Жанейро пробився до бронзового фіналу і посів 4 місце поступившись спортсмену з Кувей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рапороносець України на урочистій церемонії відкриття ХХХІ Олімпіади 5 серпня 2016 року в Ріо-де-Жанейр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https://upload.wikimedia.org/wikipedia/commons/e/e8/Milchev%2C_Malek_%26_Graves.jpg"/>
          <p:cNvPicPr/>
          <p:nvPr/>
        </p:nvPicPr>
        <p:blipFill>
          <a:blip r:embed="rId1"/>
          <a:stretch/>
        </p:blipFill>
        <p:spPr>
          <a:xfrm>
            <a:off x="142920" y="857160"/>
            <a:ext cx="350028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Picture 4" descr="https://i.sportarena.com/2016/08/mil.jpg"/>
          <p:cNvPicPr/>
          <p:nvPr/>
        </p:nvPicPr>
        <p:blipFill>
          <a:blip r:embed="rId2"/>
          <a:stretch/>
        </p:blipFill>
        <p:spPr>
          <a:xfrm>
            <a:off x="142920" y="4000680"/>
            <a:ext cx="350028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рина Мерлені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85840" y="114300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(Афіни, 2004), бронзова призерка Олімпіади (Пекін, 2008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триразова чемпіонка світу (2000, 2001, 2003), дворазова чемпіонка Європи (2004, 2005), вагова категорія — до 48 к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 з вільної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s://www.ukraine-is.com/wp-content/uploads/2016/09/%D0%86%D1%80%D0%B8%D0%BD%D0%B0-%D0%9C%D0%B5%D1%80%D0%BB%D0%B5%D0%BD%D1%96..jpg"/>
          <p:cNvPicPr/>
          <p:nvPr/>
        </p:nvPicPr>
        <p:blipFill>
          <a:blip r:embed="rId1"/>
          <a:stretch/>
        </p:blipFill>
        <p:spPr>
          <a:xfrm>
            <a:off x="214200" y="1428840"/>
            <a:ext cx="4786560" cy="35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іктор Ру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928960" y="1447920"/>
            <a:ext cx="60055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Олімпійський чемпіон 2008 р. в індивідуальних змаганнях, бронзовий призер Олімпіади 2004 р. в команді, чемпіон світу 2009 р. в міксі та бронзовий призер в індивідуальних змаганнях, чемпіон Європи 2006 р., чемпіон Універсіади 2009 р. в індивідуальних змаганнях та срібний призер у міксі, неодноразовий переможець чемпіонату та Кубка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26 березня 2011 року Віктор Рубан став бронзовим призером чемпіонату Європи 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Img214545858"/>
          <p:cNvPicPr/>
          <p:nvPr/>
        </p:nvPicPr>
        <p:blipFill>
          <a:blip r:embed="rId1"/>
          <a:stretch/>
        </p:blipFill>
        <p:spPr>
          <a:xfrm>
            <a:off x="142920" y="785880"/>
            <a:ext cx="3000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57360" y="274680"/>
            <a:ext cx="55004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Ус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Професійний український боксер. Абсолютний чемпіон світу в першій важкій вазі(версії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6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WBC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WBA (Super)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т.ч.), Олімпійський чемпіон (2012),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глядачам запам'ятався тим, що виходив на ринг в образі козака, а після фінального поєдинку танцював гопак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(2011), чемпіон Європи (2008), багаторазовий чемпіон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Заслужений майстер спорту України з бок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2" descr="https://encrypted-tbn0.gstatic.com/images?q=tbn%3AANd9GcS5yHAWo7PpdEOD7kPMwtQ3KDXsq1isws9Y9A3Rj4nadcujxlRN"/>
          <p:cNvPicPr/>
          <p:nvPr/>
        </p:nvPicPr>
        <p:blipFill>
          <a:blip r:embed="rId6"/>
          <a:stretch/>
        </p:blipFill>
        <p:spPr>
          <a:xfrm>
            <a:off x="642960" y="3376440"/>
            <a:ext cx="2286000" cy="312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4" descr="Картинки по запросу &quot;усик олимпиада 2012&quot;"/>
          <p:cNvPicPr/>
          <p:nvPr/>
        </p:nvPicPr>
        <p:blipFill>
          <a:blip r:embed="rId7"/>
          <a:stretch/>
        </p:blipFill>
        <p:spPr>
          <a:xfrm>
            <a:off x="285840" y="500040"/>
            <a:ext cx="3316320" cy="24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5055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асиль Ломач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499920" y="1447560"/>
            <a:ext cx="54342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 професійний боксер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Дворазовий чемпіон Олімпійських ігор (у 2008 та 2012 роках). На аматорському рівні дворазовий чемпіон світу (2009,2011), чемпіон Європи (2008), багаторазовий чемпіон України. Заслужений майстер спорту України. Найтитулованіший український боксер</a:t>
            </a:r>
            <a:r>
              <a:rPr b="0" lang="uk-UA" sz="1800" spc="-1" strike="noStrike" baseline="30000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0 квітня 2019 року Всесвітня боксерська організація (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)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ручила чемпіонові світу в легкій вазі за версіями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A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цеві Василю Ломаченку пояс суперчемпіо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5 грудня 2019 року Василь Ломаченко отримав нагороду найкращому боксеру 2019 року за версією Всесвітньої боксерської організації у Токі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2" descr="https://i58.fastpic.ru/big/2013/1114/3e/f32c39160457985c64e1de34bddb8f3e.jpg"/>
          <p:cNvPicPr/>
          <p:nvPr/>
        </p:nvPicPr>
        <p:blipFill>
          <a:blip r:embed="rId1"/>
          <a:stretch/>
        </p:blipFill>
        <p:spPr>
          <a:xfrm>
            <a:off x="214200" y="1428840"/>
            <a:ext cx="35830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71600" y="274320"/>
            <a:ext cx="4862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рій Че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57760" y="1447920"/>
            <a:ext cx="5076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ий веслувальник-каноїст, дворазовий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олімпійський чемпіон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2012 та 2016), бронзовий призер Олімпійських ігор (2008). У серпні 2014 року виграв чемпіонат світу, перемігши у фінальному запливі на 200 метрі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Єдиний спортсмен у iсторiї Олiмпiйських iгор двiчi вигравший золото у змаганнi на дистанцiю 200 метрiв серед каноїстiв-одиноч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https://imgclf.112.ua/original/2016/08/18/253465.jpg?timestamp=1471517192"/>
          <p:cNvPicPr/>
          <p:nvPr/>
        </p:nvPicPr>
        <p:blipFill>
          <a:blip r:embed="rId1"/>
          <a:stretch/>
        </p:blipFill>
        <p:spPr>
          <a:xfrm>
            <a:off x="0" y="1928880"/>
            <a:ext cx="430848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Дементь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357360" y="1447920"/>
            <a:ext cx="55767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веслувальниця (академічне веслування), загрібна, олімпійська чемпіонка, чемпіонка світу та Європи, заслужений майстер спорту України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лен олімпійської збірної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Іграх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XXX 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Олімпіади 2012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Лондон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 У складі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четвірки парно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Анастасія Коженков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Яна Дементьєва,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атерина Тарасен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й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Наталія Довгодь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стала олімпійською чемпіонкою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Багаторазова чемпіонка України, призерка Кубків сві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https://storage1b.censor.net/images/7/8/7/b/787b4958be4d43ad5a2f22b396d7a75b/original.jpg"/>
          <p:cNvPicPr/>
          <p:nvPr/>
        </p:nvPicPr>
        <p:blipFill>
          <a:blip r:embed="rId9"/>
          <a:stretch/>
        </p:blipFill>
        <p:spPr>
          <a:xfrm>
            <a:off x="357120" y="4071960"/>
            <a:ext cx="347184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4" name="Picture 4" descr="https://web.kpi.kharkov.ua/sport/wp-content/uploads/sites/33/2014/07/dementeva-yana-5p-e1446811007958.jpg"/>
          <p:cNvPicPr/>
          <p:nvPr/>
        </p:nvPicPr>
        <p:blipFill>
          <a:blip r:embed="rId10"/>
          <a:stretch/>
        </p:blipFill>
        <p:spPr>
          <a:xfrm>
            <a:off x="500040" y="285840"/>
            <a:ext cx="250020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6160" y="274320"/>
            <a:ext cx="4648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Ольга Харл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99920" y="1213920"/>
            <a:ext cx="54342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фехтувальниця (шабля), олімпійська чемпіонка в 2008 року у командній першості, бронзова призерка Олімпіади 2012 року, шестиразова чемпіонка світу (2009 року в командній першості, 2013 в індивідуальній і командній, 2014 в індивідуальній, 2017 в індивідуальній, 2019 в індивідуальній), восьмиразова чемпіонка Європи,ЗМСУ з фехтування, найкраща спортсменка року (2008, 2009) та найкраща спортсменка місяця (5 разів) в Украї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https://m.buro247.ua/images/2016/09/Olga-harlan_MG_5838.jpg"/>
          <p:cNvPicPr/>
          <p:nvPr/>
        </p:nvPicPr>
        <p:blipFill>
          <a:blip r:embed="rId1"/>
          <a:stretch/>
        </p:blipFill>
        <p:spPr>
          <a:xfrm>
            <a:off x="214200" y="928800"/>
            <a:ext cx="3357720" cy="58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14880" y="274320"/>
            <a:ext cx="471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лія Джі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00720" y="1447920"/>
            <a:ext cx="443376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біатлоністка, чемпіонка Олімпійських ігор в Сочі, срібна призерка чемпіонату світу, переможниця та призерка етапів кубка світу з біатлону, чотириразова чемпіонка Європи в естафеті, призерка Кубка Європи з біатлону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городжена орденами «За заслуги» III ступеня (2014), «За заслуги» II ступеня (2017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https://pic.sport.ua/images/news/0/8/65/orig_333015.jpg"/>
          <p:cNvPicPr/>
          <p:nvPr/>
        </p:nvPicPr>
        <p:blipFill>
          <a:blip r:embed="rId1"/>
          <a:stretch/>
        </p:blipFill>
        <p:spPr>
          <a:xfrm>
            <a:off x="214200" y="785880"/>
            <a:ext cx="46530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05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Segoe Print"/>
              </a:rPr>
              <a:t>Президенти НОК Україн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500040" y="12142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алерій Філіппович Бор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5286240" y="11430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Сергій Назарович Буб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Картинки по запросу &quot;валерий борзов&quot;"/>
          <p:cNvPicPr/>
          <p:nvPr/>
        </p:nvPicPr>
        <p:blipFill>
          <a:blip r:embed="rId1"/>
          <a:stretch/>
        </p:blipFill>
        <p:spPr>
          <a:xfrm>
            <a:off x="285840" y="2143080"/>
            <a:ext cx="393696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Picture 6" descr="Картинки по запросу &quot;бубка&quot;"/>
          <p:cNvPicPr/>
          <p:nvPr/>
        </p:nvPicPr>
        <p:blipFill>
          <a:blip r:embed="rId2"/>
          <a:stretch/>
        </p:blipFill>
        <p:spPr>
          <a:xfrm>
            <a:off x="4643280" y="2286000"/>
            <a:ext cx="428148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15"/>
          <p:cNvSpPr/>
          <p:nvPr/>
        </p:nvSpPr>
        <p:spPr>
          <a:xfrm>
            <a:off x="28584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1990-1998 —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Tahoma"/>
              </a:rPr>
              <a:t>президент Національного олімпійського комітету України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6"/>
          <p:cNvSpPr/>
          <p:nvPr/>
        </p:nvSpPr>
        <p:spPr>
          <a:xfrm>
            <a:off x="4714920" y="557208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23 червня 2005 року і до сьогоднішнього час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7680" y="274680"/>
            <a:ext cx="607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г Верняє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29040" y="1447560"/>
            <a:ext cx="500544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гімнаст, Олімпійський чемпіон і срібний призер Олімпійських ігор 2016, чемпіон світу зі спортивної гімнастики. Учасник Олімпійських Ігор 2012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серпня 2016 року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виборов срібну медаль 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абсолютній першост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поступившись 0,099 бала переможцю —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Утімурі Кохе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6 серпня 2016 року у змаганнях на паралельних брусах виборов першу золоту медаль для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Ріо-де-Жанейро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9" descr="C:\Users\Yaroslav\Desktop\unnamed (1).jpg"/>
          <p:cNvPicPr/>
          <p:nvPr/>
        </p:nvPicPr>
        <p:blipFill>
          <a:blip r:embed="rId8"/>
          <a:stretch/>
        </p:blipFill>
        <p:spPr>
          <a:xfrm>
            <a:off x="142920" y="357120"/>
            <a:ext cx="388152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Picture 11" descr="https://galinfo.com.ua/media/gallery/full/v/e/vernjajev.jpg"/>
          <p:cNvPicPr/>
          <p:nvPr/>
        </p:nvPicPr>
        <p:blipFill>
          <a:blip r:embed="rId9"/>
          <a:stretch/>
        </p:blipFill>
        <p:spPr>
          <a:xfrm>
            <a:off x="285840" y="3714840"/>
            <a:ext cx="38638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42880" y="274320"/>
            <a:ext cx="4791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Ганна Різатдін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14880" y="1447560"/>
            <a:ext cx="471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художня гімнастк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бронзова призер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Олімпійських ігор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чемпіонка світу із вправ з обручем (2013), багаторазова призерка чемпіонатів світу та Європи, інших міжнародних змаган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20 серпня Ганна завоювала бронзову медаль на змаганнях з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художньої гімнастики в 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Олімпійських іграх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вересня здобула срібну медаль в індивідуальному багатоборстві та бронзову медаль у командному багатоборстві на чемпіонат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Aeon Cup 2016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Японі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4" descr="https://gordonua.com/img/article/1464/29_tn.jpg"/>
          <p:cNvPicPr/>
          <p:nvPr/>
        </p:nvPicPr>
        <p:blipFill>
          <a:blip r:embed="rId9"/>
          <a:stretch/>
        </p:blipFill>
        <p:spPr>
          <a:xfrm>
            <a:off x="142920" y="1571760"/>
            <a:ext cx="4181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85760" y="274680"/>
            <a:ext cx="5148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Жан Беленю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142880" y="1447560"/>
            <a:ext cx="47912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Український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борець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греко-римського стил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у ваговій категорії до 85 кг. Багаторазовий чемпіон світу і Європи, призер цих змагань, срібний призер Олімпі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, чемпіон і срібний призер Європе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2019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 2015), бронзовий призер Універсіади (2013)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спортсмен квітня 2014 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борець класичного стилю у світі 2015 року за версією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Міжнародної федерації об'єднаних стилів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Picture 2" descr="Картинки по запросу &quot;беленюк&quot;"/>
          <p:cNvPicPr/>
          <p:nvPr/>
        </p:nvPicPr>
        <p:blipFill>
          <a:blip r:embed="rId6"/>
          <a:stretch/>
        </p:blipFill>
        <p:spPr>
          <a:xfrm>
            <a:off x="142920" y="1785960"/>
            <a:ext cx="43815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1520" y="274680"/>
            <a:ext cx="5862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Абрам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000320" y="1714320"/>
            <a:ext cx="493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 фристайліст, заслужений майстер спорту України, фахівець із лижної акробатики, олімпійський чемпіон 2018 року. Володар малого Кришталевого глобуса з лижної акробатики сезону 2015–16. Срібний призер Чемпіонату Світу 2019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рден «За заслуги» III с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Картинки по запросу &quot;абраменко олександр&quot;"/>
          <p:cNvPicPr/>
          <p:nvPr/>
        </p:nvPicPr>
        <p:blipFill>
          <a:blip r:embed="rId1"/>
          <a:stretch/>
        </p:blipFill>
        <p:spPr>
          <a:xfrm>
            <a:off x="0" y="928800"/>
            <a:ext cx="385920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4" descr="Картинки по запросу &quot;абраменко олександр&quot;"/>
          <p:cNvPicPr/>
          <p:nvPr/>
        </p:nvPicPr>
        <p:blipFill>
          <a:blip r:embed="rId2"/>
          <a:stretch/>
        </p:blipFill>
        <p:spPr>
          <a:xfrm>
            <a:off x="785880" y="4143240"/>
            <a:ext cx="40003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714240" y="1447920"/>
            <a:ext cx="82202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З великим терпінням чекаємо Літню Олімпіаду 2020 в Токі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2" descr="https://leonardo.osnova.io/a642ed6c-a93a-2a4c-01f9-4cd2bc74376a/-/scale_crop/900x833/center/"/>
          <p:cNvPicPr/>
          <p:nvPr/>
        </p:nvPicPr>
        <p:blipFill>
          <a:blip r:embed="rId1"/>
          <a:stretch/>
        </p:blipFill>
        <p:spPr>
          <a:xfrm>
            <a:off x="3071880" y="2500200"/>
            <a:ext cx="4000320" cy="370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13840" y="5429160"/>
            <a:ext cx="44290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1998-2002 – президент НОК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760" y="5357520"/>
            <a:ext cx="3862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</a:rPr>
              <a:t>2002-2005 – президент НОК Украї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Картинки по запросу &quot;федоренко іван никифорович&quot;"/>
          <p:cNvPicPr/>
          <p:nvPr/>
        </p:nvPicPr>
        <p:blipFill>
          <a:blip r:embed="rId1"/>
          <a:stretch/>
        </p:blipFill>
        <p:spPr>
          <a:xfrm>
            <a:off x="214200" y="2214720"/>
            <a:ext cx="434016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5"/>
          <p:cNvSpPr/>
          <p:nvPr/>
        </p:nvSpPr>
        <p:spPr>
          <a:xfrm>
            <a:off x="571680" y="12859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Іван Нікіфорович Федоренк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5045760" y="128592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іктор Федорович Янук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Картинки по запросу &quot;янукович президент нок&quot;"/>
          <p:cNvPicPr/>
          <p:nvPr/>
        </p:nvPicPr>
        <p:blipFill>
          <a:blip r:embed="rId2"/>
          <a:stretch/>
        </p:blipFill>
        <p:spPr>
          <a:xfrm>
            <a:off x="5000760" y="2125800"/>
            <a:ext cx="385740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57720" y="857160"/>
            <a:ext cx="5505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ксана Баюл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Перша олімпійська чемпіонка (Х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VII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Олімпійські Зимові ігри, Ліллегаммер, Норвегія, 1994)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езалежної України. Дворазова срібна призерка чемпіонатів Європи (1993,1994), чемпіонка світу (1993)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178087.jpg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Picture 2" descr="https://lh3.googleusercontent.com/proxy/y_XAvqLmUVRmDsA-9E1Yn-TN762l4pvQ34nE5lImWi-9ajU6ZqybuE-_0iwZjuTqOsna86wHIDvSUR_GneFCSUPoBvSvDND0l3KIf-jtIYpPz6W42IdvDeGC"/>
          <p:cNvPicPr/>
          <p:nvPr/>
        </p:nvPicPr>
        <p:blipFill>
          <a:blip r:embed="rId2"/>
          <a:stretch/>
        </p:blipFill>
        <p:spPr>
          <a:xfrm>
            <a:off x="3143160" y="3357720"/>
            <a:ext cx="2325600" cy="31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8" name="Picture 7" descr="bajul"/>
          <p:cNvPicPr/>
          <p:nvPr/>
        </p:nvPicPr>
        <p:blipFill>
          <a:blip r:embed="rId3"/>
          <a:stretch/>
        </p:blipFill>
        <p:spPr>
          <a:xfrm>
            <a:off x="5715000" y="3438360"/>
            <a:ext cx="3143160" cy="291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5760" y="35676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Лілія Подкопа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29040" y="1447560"/>
            <a:ext cx="50054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6 р. на 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их іграх в Атланті посіла перше місце в абсолютній першості, перше місце у вільних вправах, друге місце на колод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Абсолютна чемпіонка світу (1995, Японія, Сабає), Європи (1996, Велика Британія, Бірмінгем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олодарка Кубка Європи (1995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Картинки по запросу &quot;подкопаєва лілія олександрівна&quot;"/>
          <p:cNvPicPr/>
          <p:nvPr/>
        </p:nvPicPr>
        <p:blipFill>
          <a:blip r:embed="rId1"/>
          <a:stretch/>
        </p:blipFill>
        <p:spPr>
          <a:xfrm>
            <a:off x="142920" y="214200"/>
            <a:ext cx="2643120" cy="39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Picture 8" descr="Картинки по запросу &quot;подкопаєва лілія олександрівна&quot;"/>
          <p:cNvPicPr/>
          <p:nvPr/>
        </p:nvPicPr>
        <p:blipFill>
          <a:blip r:embed="rId2"/>
          <a:stretch/>
        </p:blipFill>
        <p:spPr>
          <a:xfrm>
            <a:off x="1571760" y="4286160"/>
            <a:ext cx="2571480" cy="23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14800" y="500040"/>
            <a:ext cx="4790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олодимир Клич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14800" y="1357200"/>
            <a:ext cx="557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Літніх Олімпійських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грах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 Атланті здобув золото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 надважкій ваговій категорії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з боксу у важкій ваговій категорії за версіями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0—2003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, 2008—2015 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9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WBA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1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2 жовтня 2018 року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Віталія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та Володимира Кличків внесли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ниги рекордів Гіннеса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, як братів-чемпіонів, які на двох провели найбільшу кількість бої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и по запросу &quot;володимир кличко&quot;"/>
          <p:cNvPicPr/>
          <p:nvPr/>
        </p:nvPicPr>
        <p:blipFill>
          <a:blip r:embed="rId8"/>
          <a:stretch/>
        </p:blipFill>
        <p:spPr>
          <a:xfrm>
            <a:off x="214200" y="1143000"/>
            <a:ext cx="2928960" cy="44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291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несса Кравец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57400" y="1499760"/>
            <a:ext cx="46400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Олімпійська чемпіонка 1996 року в потрійному стрибку. Срібна призерка Олімпійських</a:t>
            </a:r>
            <a:r>
              <a:rPr b="0" lang="uk-UA" sz="17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ігор 1992 року в стрибках в довжин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Чемпіонка світу (1991, 1993, 1995), володар Кубка світу (1994), чемпіонка Європи (1992). Багаторазова призерка чемпіонатів Європи т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Неодноразова рекордсменк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Її світовий рекорд у потрійному стрибку (15,50 м), встановлений 10 серпня 1995 року, не побитий до сьогодні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Картинки по запросу &quot;інеса кравець&quot;"/>
          <p:cNvPicPr/>
          <p:nvPr/>
        </p:nvPicPr>
        <p:blipFill>
          <a:blip r:embed="rId2"/>
          <a:stretch/>
        </p:blipFill>
        <p:spPr>
          <a:xfrm>
            <a:off x="214200" y="857160"/>
            <a:ext cx="3471840" cy="528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̓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чеслав Олійн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29000" y="1571400"/>
            <a:ext cx="514368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а Олімпіаді 1996 року в Атланті В'ячеслав Олійник здобув золоту медаль з греко - римської боротьби, яка стала першою золотою медаллю на літніх Олімпійських іграх в історії незалежної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4 році йому було присвоєно звання «Заслужений майстер спорту України». У 1996 році був нагороджений хрестом «За мужність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Картинки по запросу &quot;вячеслав олійник&quot;"/>
          <p:cNvPicPr/>
          <p:nvPr/>
        </p:nvPicPr>
        <p:blipFill>
          <a:blip r:embed="rId1"/>
          <a:stretch/>
        </p:blipFill>
        <p:spPr>
          <a:xfrm>
            <a:off x="214200" y="1357200"/>
            <a:ext cx="314352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Катерина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Серебрянсь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з художньої гімнастики в Атланті (1996), заслужений майстер спорту України з художньої гімнастики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очесна відзнака Президента України (1995) — за видатні досягнення, вагомий особистий внесок в утвердження авторитету України у світовому спортивному співтоварист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Жінка року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7" descr="C:\Users\Yaroslav\Desktop\1_Галлерея 2.jpg"/>
          <p:cNvPicPr/>
          <p:nvPr/>
        </p:nvPicPr>
        <p:blipFill>
          <a:blip r:embed="rId1"/>
          <a:stretch/>
        </p:blipFill>
        <p:spPr>
          <a:xfrm>
            <a:off x="142920" y="1357200"/>
            <a:ext cx="2857320" cy="39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5:19:16Z</dcterms:created>
  <dc:creator>Yaroslav</dc:creator>
  <dc:description/>
  <dc:language>en-US</dc:language>
  <cp:lastModifiedBy>х</cp:lastModifiedBy>
  <dcterms:modified xsi:type="dcterms:W3CDTF">2020-03-14T06:00:01Z</dcterms:modified>
  <cp:revision>46</cp:revision>
  <dc:subject/>
  <dc:title>Олімпійська Україна</dc:title>
</cp:coreProperties>
</file>