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FC0-A6AC-4E17-8B13-BC7D7EDB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698-2C13-4FF2-8AE5-F3EF0C77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BC9-7FA3-43B9-987C-D2BBEEBC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64E-1F5A-4D4C-A3A8-1A99FE91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B0C5-5978-4E23-9BC3-D079A264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5849-EAA3-4A7F-BD3E-57E3A192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D8D7-443D-44DB-9A55-B0869E4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A6E5-55C9-4625-BE61-390115DC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7501-8277-4F9A-8E3F-122B2F98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89F0-2EAC-4560-AB8B-99117D59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7972-C6DE-4556-AFCD-6B4C734E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01C-5AAB-48D3-8E47-3AC832CA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1B27-9122-465B-A0C4-62727407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FCD-9111-43CA-8296-A62E8EA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60E3-5A07-45D8-A684-E13B54A7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0BB8-322F-4E3C-951E-F23B0ED6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CB34-65D9-4807-B313-84B54F1B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C509-904E-4D98-81C2-23F3534A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312D-513B-49CB-9C05-ED3E920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C7AC-9194-4C62-A01F-1DA4A832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D102-C3BD-45D4-8A50-885C4C12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0B5B-317B-4566-9AEA-78CB4A5F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B3E-276F-4DB8-8011-661F1AE6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2D6F5-7ABE-4C0D-9729-75534DF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2F9F-B212-4DDA-B161-A1B8C14C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3978-B5A9-460E-BD45-394772F9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761E-F19F-4D18-9305-20B6072C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725AA-3BAE-4519-9F87-99A00632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A943-1D72-4D52-B743-AC3F2C33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AA62-2E93-4DD8-BB0B-C07B14FF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78242-0948-41DD-A963-88532FA8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1F71-6950-49B4-B131-DC901AC1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AFD5D-690D-4890-B56C-CA06D445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E49-865C-47D7-BF41-D7CA859E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4183D-7875-45CC-A1CB-8E22915A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0B099-A5DC-4B67-AB0F-110D57FD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A7E36-1B3A-411F-9D4B-75D6654C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73C6-76E2-4368-8DBC-FB457B45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9CA0-B2E8-4343-8E95-3EB6254D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BC0D-486B-482A-A92B-E00F33E2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321D-BD96-4516-A9D9-DD8722BE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37E3-6B01-4DCB-B13B-7CC7AE22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3E3E-EFEA-4FB6-9D52-0B4E96AF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846C-0D5D-405E-B17B-9D065744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A64-9C7D-4EEA-BE3A-175F5FDD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7B8B-B439-4182-AC85-21E3DD35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6FEC4-190C-4FA9-A9B8-8108D44B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4308-2272-4801-BB5F-51EFCE52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AB1AB-6B32-4C5A-91CA-24A6B3B5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3C29-C4C3-4509-8F29-85B8825C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946F6-353B-4A62-A1C9-8E7DAF8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6681-BC8A-4957-93CD-92E18F51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79D6-10EF-4413-8F5E-A988AC7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64FA-EB6A-46F3-923E-B327B06F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3E1F-E151-4EEF-8803-494F5FA6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CA9-4BF8-4C21-929D-96C9E042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0996-B4FE-4594-90D8-BD813A0A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C0FE-5612-4E08-BC5B-92243C10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DAABB-DEE3-4A4E-9508-0D0A1BF5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F1DCF-AEC6-4E9C-9EC3-5A145764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B1C43-D281-4B61-9A75-99CFB940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45870-E03A-4475-A52F-5332345F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04BD-478E-440D-80E5-B00345CC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EB987-DD08-4E97-98FF-EACC0EB9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2FB64-1671-47A1-AFAD-07F49D6D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4289A-3A1A-4DD8-8F1F-8E90538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ACF-0262-439D-98D1-A257DFB7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F0B74-3CE4-4BA5-AB02-EC697B9B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BC79B-CBF0-4B29-AC45-7DE11993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C18C7-38C1-415C-A398-B8BE9233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22A7A-EC62-4B33-86F1-E5FC82A0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E217D-A89C-4882-8B04-E3F41073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FD936-7816-44DC-A303-87EB56F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9DA79-3618-43E2-87BB-D4659CC2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07524-033C-4686-9E6E-8A7EDC4E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0630-AE20-499B-9E26-CEB9B850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B8902-98E3-4529-AFF7-893345E9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86D-7E30-461A-BF17-6108AF30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F886C-4D4A-4FE4-A3F4-08137FF9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15635-C63F-4FCD-BFA7-AD8CB67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94298-EC44-47D0-8AAB-BCB9531E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67B7C-F24E-4F4F-98D7-C9E42F90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D31A8-5D4E-463C-A011-FF7D380B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805-3920-460F-B19A-01FEAF6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1492-60FC-4652-903C-45FB4BFC8385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7F3A-331B-4553-BEA5-D59A56FDA627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3103-4A7F-40B4-9D6F-45F7A4348C5C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142F-7B8D-4BC2-96E1-815E10D2686C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08B2-C3B7-45E3-9078-6D14E0D93491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1A39-A59F-44CA-BA85-0D4EC927C587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B0E7-BE38-400C-A2FD-792746584C1B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7;&#1074;&#1110;&#1090;&#1086;&#1074;&#1072;_&#1073;&#1086;&#1082;&#1089;&#1077;&#1088;&#1089;&#1100;&#1082;&#1072;_&#1086;&#1088;&#1075;&#1072;&#1085;&#1110;&#1079;&#1072;&#1094;&#1110;&#1103;" TargetMode="External"/><Relationship Id="rId2" Type="http://schemas.openxmlformats.org/officeDocument/2006/relationships/hyperlink" Target="https://uk.wikipedia.org/wiki/WBC" TargetMode="External"/><Relationship Id="rId3" Type="http://schemas.openxmlformats.org/officeDocument/2006/relationships/hyperlink" Target="https://uk.wikipedia.org/wiki/IBF" TargetMode="External"/><Relationship Id="rId4" Type="http://schemas.openxmlformats.org/officeDocument/2006/relationships/hyperlink" Target="https://uk.wikipedia.org/wiki/WBA" TargetMode="External"/><Relationship Id="rId5" Type="http://schemas.openxmlformats.org/officeDocument/2006/relationships/hyperlink" Target="https://uk.wikipedia.org/wiki/&#1056;&#1080;&#1085;&#1075;_(&#1078;&#1091;&#1088;&#1085;&#1072;&#1083;)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1;&#1110;&#1090;&#1085;&#1110;_&#1054;&#1083;&#1110;&#1084;&#1087;&#1110;&#1081;&#1089;&#1100;&#1082;&#1110;_&#1110;&#1075;&#1088;&#1080;_2012" TargetMode="External"/><Relationship Id="rId2" Type="http://schemas.openxmlformats.org/officeDocument/2006/relationships/hyperlink" Target="https://uk.wikipedia.org/wiki/&#1051;&#1110;&#1090;&#1085;&#1110;_&#1054;&#1083;&#1110;&#1084;&#1087;&#1110;&#1081;&#1089;&#1100;&#1082;&#1110;_&#1110;&#1075;&#1088;&#1080;_2012" TargetMode="External"/><Relationship Id="rId3" Type="http://schemas.openxmlformats.org/officeDocument/2006/relationships/hyperlink" Target="https://uk.wikipedia.org/wiki/&#1051;&#1110;&#1090;&#1085;&#1110;_&#1054;&#1083;&#1110;&#1084;&#1087;&#1110;&#1081;&#1089;&#1100;&#1082;&#1110;_&#1110;&#1075;&#1088;&#1080;_2012" TargetMode="External"/><Relationship Id="rId4" Type="http://schemas.openxmlformats.org/officeDocument/2006/relationships/hyperlink" Target="https://uk.wikipedia.org/wiki/&#1051;&#1086;&#1085;&#1076;&#1086;&#1085;" TargetMode="External"/><Relationship Id="rId5" Type="http://schemas.openxmlformats.org/officeDocument/2006/relationships/hyperlink" Target="https://uk.wikipedia.org/wiki/&#1040;&#1082;&#1072;&#1076;&#1077;&#1084;&#1110;&#1095;&#1085;&#1077;_&#1074;&#1077;&#1089;&#1083;&#1091;&#1074;&#1072;&#1085;&#1085;&#1103;_&#1085;&#1072;_&#1083;&#1110;&#1090;&#1085;&#1110;&#1093;_&#1054;&#1083;&#1110;&#1084;&#1087;&#1110;&#1081;&#1089;&#1100;&#1082;&#1080;&#1093;_&#1110;&#1075;&#1088;&#1072;&#1093;_2012_&#8212;_&#1087;&#1072;&#1088;&#1085;&#1110;_&#1095;&#1077;&#1090;&#1074;&#1110;&#1088;&#1082;&#1080;_(&#1078;&#1110;&#1085;&#1082;&#1080;)" TargetMode="External"/><Relationship Id="rId6" Type="http://schemas.openxmlformats.org/officeDocument/2006/relationships/hyperlink" Target="https://uk.wikipedia.org/wiki/&#1050;&#1086;&#1078;&#1077;&#1085;&#1082;&#1086;&#1074;&#1072;_&#1040;&#1085;&#1072;&#1089;&#1090;&#1072;&#1089;&#1110;&#1103;_&#1052;&#1080;&#1082;&#1086;&#1083;&#1072;&#1111;&#1074;&#1085;&#1072;" TargetMode="External"/><Relationship Id="rId7" Type="http://schemas.openxmlformats.org/officeDocument/2006/relationships/hyperlink" Target="https://uk.wikipedia.org/wiki/&#1058;&#1072;&#1088;&#1072;&#1089;&#1077;&#1085;&#1082;&#1086;_&#1050;&#1072;&#1090;&#1077;&#1088;&#1080;&#1085;&#1072;_&#1052;&#1080;&#1082;&#1086;&#1083;&#1072;&#1111;&#1074;&#1085;&#1072;" TargetMode="External"/><Relationship Id="rId8" Type="http://schemas.openxmlformats.org/officeDocument/2006/relationships/hyperlink" Target="https://uk.wikipedia.org/wiki/&#1044;&#1086;&#1074;&#1075;&#1086;&#1076;&#1100;&#1082;&#1086;_&#1053;&#1072;&#1090;&#1072;&#1083;&#1110;&#1103;_&#1042;&#1110;&#1082;&#1090;&#1086;&#1088;&#1110;&#1074;&#1085;&#1072;" TargetMode="External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2" Type="http://schemas.openxmlformats.org/officeDocument/2006/relationships/hyperlink" Target="https://uk.wikipedia.org/wiki/&#1056;&#1110;&#1086;-&#1076;&#1077;-&#1046;&#1072;&#1085;&#1077;&#1081;&#1088;&#1086;" TargetMode="External"/><Relationship Id="rId3" Type="http://schemas.openxmlformats.org/officeDocument/2006/relationships/hyperlink" Target="https://uk.wikipedia.org/wiki/&#1041;&#1088;&#1072;&#1079;&#1080;&#1083;&#1110;&#1103;" TargetMode="External"/><Relationship Id="rId4" Type="http://schemas.openxmlformats.org/officeDocument/2006/relationships/hyperlink" Target="https://uk.wikipedia.org/wiki/&#1057;&#1087;&#1086;&#1088;&#1090;&#1080;&#1074;&#1085;&#1072;_&#1075;&#1110;&#1084;&#1085;&#1072;&#1089;&#1090;&#1080;&#1082;&#1072;_&#1085;&#1072;_&#1083;&#1110;&#1090;&#1085;&#1110;&#1093;_&#1054;&#1083;&#1110;&#1084;&#1087;&#1110;&#1081;&#1089;&#1100;&#1082;&#1080;&#1093;_&#1110;&#1075;&#1088;&#1072;&#1093;_2016_&#8212;_&#1072;&#1073;&#1089;&#1086;&#1083;&#1102;&#1090;&#1085;&#1072;_&#1087;&#1077;&#1088;&#1096;&#1110;&#1089;&#1090;&#1100;_(&#1095;&#1086;&#1083;&#1086;&#1074;&#1110;&#1082;&#1080;)" TargetMode="External"/><Relationship Id="rId5" Type="http://schemas.openxmlformats.org/officeDocument/2006/relationships/hyperlink" Target="https://uk.wikipedia.org/wiki/&#1059;&#1090;&#1110;&#1084;&#1091;&#1088;&#1072;_&#1050;&#1086;&#1093;&#1077;&#1081;" TargetMode="External"/><Relationship Id="rId6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7" Type="http://schemas.openxmlformats.org/officeDocument/2006/relationships/hyperlink" Target="https://uk.wikipedia.org/wiki/&#1056;&#1110;&#1086;-&#1076;&#1077;-&#1046;&#1072;&#1085;&#1077;&#1081;&#1088;&#1086;" TargetMode="External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61;&#1091;&#1076;&#1086;&#1078;&#1085;&#1103;_&#1075;&#1110;&#1084;&#1085;&#1072;&#1089;&#1090;&#1080;&#1082;&#1072;" TargetMode="External"/><Relationship Id="rId2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3" Type="http://schemas.openxmlformats.org/officeDocument/2006/relationships/hyperlink" Target="https://uk.wikipedia.org/wiki/&#1061;&#1091;&#1076;&#1086;&#1078;&#1085;&#1103;_&#1075;&#1110;&#1084;&#1085;&#1072;&#1089;&#1090;&#1080;&#1082;&#1072;_&#1085;&#1072;_&#1083;&#1110;&#1090;&#1085;&#1110;&#1093;_&#1054;&#1083;&#1110;&#1084;&#1087;&#1110;&#1081;&#1089;&#1100;&#1082;&#1080;&#1093;_&#1110;&#1075;&#1088;&#1072;&#1093;_2016_&#8212;_&#1110;&#1085;&#1076;&#1080;&#1074;&#1110;&#1076;&#1091;&#1072;&#1083;&#1100;&#1085;&#1077;_&#1073;&#1072;&#1075;&#1072;&#1090;&#1086;&#1073;&#1086;&#1088;&#1089;&#1090;&#1074;&#1086;" TargetMode="External"/><Relationship Id="rId4" Type="http://schemas.openxmlformats.org/officeDocument/2006/relationships/hyperlink" Target="https://uk.wikipedia.org/wiki/&#1061;&#1091;&#1076;&#1086;&#1078;&#1085;&#1103;_&#1075;&#1110;&#1084;&#1085;&#1072;&#1089;&#1090;&#1080;&#1082;&#1072;_&#1085;&#1072;_&#1083;&#1110;&#1090;&#1085;&#1110;&#1093;_&#1054;&#1083;&#1110;&#1084;&#1087;&#1110;&#1081;&#1089;&#1100;&#1082;&#1080;&#1093;_&#1110;&#1075;&#1088;&#1072;&#1093;_2016_&#8212;_&#1110;&#1085;&#1076;&#1080;&#1074;&#1110;&#1076;&#1091;&#1072;&#1083;&#1100;&#1085;&#1077;_&#1073;&#1072;&#1075;&#1072;&#1090;&#1086;&#1073;&#1086;&#1088;&#1089;&#1090;&#1074;&#1086;" TargetMode="External"/><Relationship Id="rId5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6" Type="http://schemas.openxmlformats.org/officeDocument/2006/relationships/hyperlink" Target="https://uk.wikipedia.org/wiki/&#1056;&#1110;&#1086;-&#1076;&#1077;-&#1046;&#1072;&#1085;&#1077;&#1081;&#1088;&#1086;" TargetMode="External"/><Relationship Id="rId7" Type="http://schemas.openxmlformats.org/officeDocument/2006/relationships/hyperlink" Target="https://uk.wikipedia.org/wiki/&#1041;&#1088;&#1072;&#1079;&#1080;&#1083;&#1110;&#1103;" TargetMode="External"/><Relationship Id="rId8" Type="http://schemas.openxmlformats.org/officeDocument/2006/relationships/hyperlink" Target="https://uk.wikipedia.org/wiki/&#1071;&#1087;&#1086;&#1085;&#1110;&#1103;" TargetMode="External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9;&#1082;&#1088;&#1072;&#1111;&#1085;&#1072;" TargetMode="External"/><Relationship Id="rId2" Type="http://schemas.openxmlformats.org/officeDocument/2006/relationships/hyperlink" Target="https://uk.wikipedia.org/wiki/&#1041;&#1086;&#1088;&#1086;&#1090;&#1100;&#1073;&#1072;_(&#1089;&#1087;&#1086;&#1088;&#1090;)" TargetMode="External"/><Relationship Id="rId3" Type="http://schemas.openxmlformats.org/officeDocument/2006/relationships/hyperlink" Target="https://uk.wikipedia.org/wiki/&#1043;&#1088;&#1077;&#1082;&#1086;-&#1088;&#1080;&#1084;&#1089;&#1100;&#1082;&#1072;_&#1073;&#1086;&#1088;&#1086;&#1090;&#1100;&#1073;&#1072;" TargetMode="External"/><Relationship Id="rId4" Type="http://schemas.openxmlformats.org/officeDocument/2006/relationships/hyperlink" Target="https://uk.wikipedia.org/wiki/&#1043;&#1088;&#1077;&#1082;&#1086;-&#1088;&#1080;&#1084;&#1089;&#1100;&#1082;&#1072;_&#1073;&#1086;&#1088;&#1086;&#1090;&#1100;&#1073;&#1072;_&#1085;&#1072;_&#1083;&#1110;&#1090;&#1085;&#1110;&#1093;_&#1054;&#1083;&#1110;&#1084;&#1087;&#1110;&#1081;&#1089;&#1100;&#1082;&#1080;&#1093;_&#1110;&#1075;&#1088;&#1072;&#1093;_2016_&#8212;_&#1076;&#1086;_85_&#1082;&#1075;" TargetMode="External"/><Relationship Id="rId5" Type="http://schemas.openxmlformats.org/officeDocument/2006/relationships/hyperlink" Target="https://uk.wikipedia.org/wiki/&#1028;&#1074;&#1088;&#1086;&#1087;&#1077;&#1081;&#1089;&#1100;&#1082;&#1110;_&#1110;&#1075;&#1088;&#1080;_2019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WBO" TargetMode="External"/><Relationship Id="rId2" Type="http://schemas.openxmlformats.org/officeDocument/2006/relationships/hyperlink" Target="https://uk.wikipedia.org/wiki/IBF" TargetMode="External"/><Relationship Id="rId3" Type="http://schemas.openxmlformats.org/officeDocument/2006/relationships/hyperlink" Target="https://uk.wikipedia.org/wiki/IBO" TargetMode="External"/><Relationship Id="rId4" Type="http://schemas.openxmlformats.org/officeDocument/2006/relationships/hyperlink" Target="https://uk.wikipedia.org/wiki/The_Ring_(&#1078;&#1091;&#1088;&#1085;&#1072;&#1083;)" TargetMode="External"/><Relationship Id="rId5" Type="http://schemas.openxmlformats.org/officeDocument/2006/relationships/hyperlink" Target="https://uk.wikipedia.org/wiki/WBA" TargetMode="External"/><Relationship Id="rId6" Type="http://schemas.openxmlformats.org/officeDocument/2006/relationships/hyperlink" Target="https://uk.wikipedia.org/wiki/&#1050;&#1083;&#1080;&#1095;&#1082;&#1086;_&#1042;&#1110;&#1090;&#1072;&#1083;&#1110;&#1081;_&#1042;&#1086;&#1083;&#1086;&#1076;&#1080;&#1084;&#1080;&#1088;&#1086;&#1074;&#1080;&#1095;" TargetMode="External"/><Relationship Id="rId7" Type="http://schemas.openxmlformats.org/officeDocument/2006/relationships/hyperlink" Target="https://uk.wikipedia.org/wiki/&#1050;&#1085;&#1080;&#1075;&#1072;_&#1088;&#1077;&#1082;&#1086;&#1088;&#1076;&#1110;&#1074;_&#1043;&#1110;&#1085;&#1085;&#1077;&#1089;&#1072;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4;&#1083;&#1110;&#1084;&#1087;&#1110;&#1081;&#1089;&#1100;&#1082;&#1110;_&#1030;&#1075;&#1088;&#1080;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28960" y="2071440"/>
            <a:ext cx="32148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Segoe Print"/>
              </a:rPr>
              <a:t>Олімп</a:t>
            </a:r>
            <a:r>
              <a:rPr b="1" lang="uk-UA" sz="3200" spc="-1" strike="noStrike">
                <a:solidFill>
                  <a:srgbClr val="572314"/>
                </a:solidFill>
                <a:latin typeface="Segoe Print"/>
              </a:rPr>
              <a:t>ійська Україн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C:\Users\Yaroslav\Desktop\Ukr-e1517399269316.jpg"/>
          <p:cNvPicPr/>
          <p:nvPr/>
        </p:nvPicPr>
        <p:blipFill>
          <a:blip r:embed="rId1"/>
          <a:stretch/>
        </p:blipFill>
        <p:spPr>
          <a:xfrm>
            <a:off x="971640" y="333360"/>
            <a:ext cx="408132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0" name="Picture 3" descr="C:\Users\Yaroslav\Desktop\im578x383-2018-02-09T124053Z_742986880_DEVEE290Z84JN_RTRMADP_3_OLYMPICS-2018-OPENING.jpg"/>
          <p:cNvPicPr/>
          <p:nvPr/>
        </p:nvPicPr>
        <p:blipFill>
          <a:blip r:embed="rId2"/>
          <a:stretch/>
        </p:blipFill>
        <p:spPr>
          <a:xfrm>
            <a:off x="5435640" y="4680000"/>
            <a:ext cx="3286080" cy="21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186920" y="3933360"/>
            <a:ext cx="280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ідготував:вчитель фізичного виховання Сугарівської філії  КЗ “Сахновщинського ліцея №1”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Чубенко Олександр Олександрович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63518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Яна Клочко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71600" y="99972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країнська чотирикратна Олімпійська чемпіонка на дистанціях 200 та 400 метрів, срібна призерка — 800 метрі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Перемоги здобула наЛітніх Олімпійських іграх 2000 та 2004 років у комплексному плаванні; срібну медаль — 2000 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Рекорд світу на 400 м комплексним плаванням на Олімпійських іграх у Сіднеї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Рекорд Європи на 200 м комплексним плавання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становила 50 рекордів України у 25-ти та 50-ти метрових басейнах на дистанціях 100 м, 200 м, 400 м комплексним плаванням та 200 м, 400 м та 800 м вільним стилем, 100 м та 200 м на спині, 200 м батерфляєм та в естафетному плаванн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4" descr="https://star.korupciya.com/wp-content/uploads/2016/01/yana-klochkova.jpg"/>
          <p:cNvPicPr/>
          <p:nvPr/>
        </p:nvPicPr>
        <p:blipFill>
          <a:blip r:embed="rId1"/>
          <a:stretch/>
        </p:blipFill>
        <p:spPr>
          <a:xfrm>
            <a:off x="0" y="1400040"/>
            <a:ext cx="4214880" cy="318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00160" y="274680"/>
            <a:ext cx="69343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Микола Мільче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00280" y="1428480"/>
            <a:ext cx="5362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Завоював звання олімпійського чемпіона зі стендової стрільби на Олімпійських іграх 2000 року в Сіднеї, набравши 150 очок із 150 можливих (олімпійський рекорд), повторивши світовий рекорд. На Олімпійських іграх 2004 року в Афінах, набравши 121 очко поділив 9-14 місця. На Олімпійських іграх 2008 року в Пекіні, набравши 109 очков посів 32 місце. На Олімпійських іграх 2016 в Ріо- де- Жанейро пробився до бронзового фіналу і посів 4 місце поступившись спортсмену з Кувейт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Прапороносець України на урочистій церемонії відкриття ХХХІ Олімпіади 5 серпня 2016 року в Ріо-де-Жанейр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https://upload.wikimedia.org/wikipedia/commons/e/e8/Milchev%2C_Malek_%26_Graves.jpg"/>
          <p:cNvPicPr/>
          <p:nvPr/>
        </p:nvPicPr>
        <p:blipFill>
          <a:blip r:embed="rId1"/>
          <a:stretch/>
        </p:blipFill>
        <p:spPr>
          <a:xfrm>
            <a:off x="142920" y="857160"/>
            <a:ext cx="3500280" cy="267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4" name="Picture 4" descr="https://i.sportarena.com/2016/08/mil.jpg"/>
          <p:cNvPicPr/>
          <p:nvPr/>
        </p:nvPicPr>
        <p:blipFill>
          <a:blip r:embed="rId2"/>
          <a:stretch/>
        </p:blipFill>
        <p:spPr>
          <a:xfrm>
            <a:off x="142920" y="4000680"/>
            <a:ext cx="350028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Ірина Мерлені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785840" y="1143000"/>
            <a:ext cx="40719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лімпійська чемпіонка (Афіни, 2004), бронзова призерка Олімпіади (Пекін, 2008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триразова чемпіонка світу (2000, 2001, 2003), дворазова чемпіонка Європи (2004, 2005), вагова категорія — до 48 к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Заслужений майстер спорту України з вільної боротьб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https://www.ukraine-is.com/wp-content/uploads/2016/09/%D0%86%D1%80%D0%B8%D0%BD%D0%B0-%D0%9C%D0%B5%D1%80%D0%BB%D0%B5%D0%BD%D1%96..jpg"/>
          <p:cNvPicPr/>
          <p:nvPr/>
        </p:nvPicPr>
        <p:blipFill>
          <a:blip r:embed="rId1"/>
          <a:stretch/>
        </p:blipFill>
        <p:spPr>
          <a:xfrm>
            <a:off x="214200" y="1428840"/>
            <a:ext cx="4786560" cy="351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іктор Рубан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928960" y="1447920"/>
            <a:ext cx="60055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Segoe Print"/>
              </a:rPr>
              <a:t>Олімпійський чемпіон 2008 р. в індивідуальних змаганнях, бронзовий призер Олімпіади 2004 р. в команді, чемпіон світу 2009 р. в міксі та бронзовий призер в індивідуальних змаганнях, чемпіон Європи 2006 р., чемпіон Універсіади 2009 р. в індивідуальних змаганнях та срібний призер у міксі, неодноразовий переможець чемпіонату та Кубка Украї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Segoe Print"/>
              </a:rPr>
              <a:t>26 березня 2011 року Віктор Рубан став бронзовим призером чемпіонату Європи зі стрільби з лу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egoe Print"/>
              </a:rPr>
              <a:t>Заслужений майстер спорту України зі стрільби з лу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5" descr="Img214545858"/>
          <p:cNvPicPr/>
          <p:nvPr/>
        </p:nvPicPr>
        <p:blipFill>
          <a:blip r:embed="rId1"/>
          <a:stretch/>
        </p:blipFill>
        <p:spPr>
          <a:xfrm>
            <a:off x="142920" y="785880"/>
            <a:ext cx="3000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57360" y="274680"/>
            <a:ext cx="55004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лександр Уси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142800" y="1447920"/>
            <a:ext cx="57913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Професійний український боксер. Абсолютний чемпіон світу в першій важкій вазі(версії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WBO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6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WBC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IBF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WBA (Super)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The Ring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т.ч.), Олімпійський чемпіон (2012),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глядачам запам'ятався тим, що виходив на ринг в образі козака, а після фінального поєдинку танцював гопак.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Чемпіон світу (2011), чемпіон Європи (2008), багаторазовий чемпіон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Segoe Print"/>
              </a:rPr>
              <a:t>Заслужений майстер спорту України з бокс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2" descr="https://encrypted-tbn0.gstatic.com/images?q=tbn%3AANd9GcS5yHAWo7PpdEOD7kPMwtQ3KDXsq1isws9Y9A3Rj4nadcujxlRN"/>
          <p:cNvPicPr/>
          <p:nvPr/>
        </p:nvPicPr>
        <p:blipFill>
          <a:blip r:embed="rId6"/>
          <a:stretch/>
        </p:blipFill>
        <p:spPr>
          <a:xfrm>
            <a:off x="642960" y="3376440"/>
            <a:ext cx="2286000" cy="312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4" name="Picture 4" descr="Картинки по запросу &quot;усик олимпиада 2012&quot;"/>
          <p:cNvPicPr/>
          <p:nvPr/>
        </p:nvPicPr>
        <p:blipFill>
          <a:blip r:embed="rId7"/>
          <a:stretch/>
        </p:blipFill>
        <p:spPr>
          <a:xfrm>
            <a:off x="285840" y="500040"/>
            <a:ext cx="3316320" cy="245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5055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асиль Ломаченк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499920" y="1447560"/>
            <a:ext cx="54342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ий професійний боксер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Дворазовий чемпіон Олімпійських ігор (у 2008 та 2012 роках). На аматорському рівні дворазовий чемпіон світу (2009,2011), чемпіон Європи (2008), багаторазовий чемпіон України. Заслужений майстер спорту України. Найтитулованіший український боксер</a:t>
            </a:r>
            <a:r>
              <a:rPr b="0" lang="uk-UA" sz="1800" spc="-1" strike="noStrike" baseline="30000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0 квітня 2019 року Всесвітня боксерська організація (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WBO)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вручила чемпіонові світу в легкій вазі за версіями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WBA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WBO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цеві Василю Ломаченку пояс суперчемпіо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5 грудня 2019 року Василь Ломаченко отримав нагороду найкращому боксеру 2019 року за версією Всесвітньої боксерської організації у Токі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2" descr="https://i58.fastpic.ru/big/2013/1114/3e/f32c39160457985c64e1de34bddb8f3e.jpg"/>
          <p:cNvPicPr/>
          <p:nvPr/>
        </p:nvPicPr>
        <p:blipFill>
          <a:blip r:embed="rId1"/>
          <a:stretch/>
        </p:blipFill>
        <p:spPr>
          <a:xfrm>
            <a:off x="214200" y="1428840"/>
            <a:ext cx="358308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71600" y="274320"/>
            <a:ext cx="4862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Юрій Чебан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57760" y="1447920"/>
            <a:ext cx="50767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країнський веслувальник-каноїст, дворазовий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Segoe Print"/>
              </a:rPr>
              <a:t>олімпійський чемпіон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(2012 та 2016), бронзовий призер Олімпійських ігор (2008). У серпні 2014 року виграв чемпіонат світу, перемігши у фінальному запливі на 200 метрів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Заслужений майстер спорт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Єдиний спортсмен у iсторiї Олiмпiйських iгор двiчi вигравший золото у змаганнi на дистанцiю 200 метрiв серед каноїстiв-одиночо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https://imgclf.112.ua/original/2016/08/18/253465.jpg?timestamp=1471517192"/>
          <p:cNvPicPr/>
          <p:nvPr/>
        </p:nvPicPr>
        <p:blipFill>
          <a:blip r:embed="rId1"/>
          <a:stretch/>
        </p:blipFill>
        <p:spPr>
          <a:xfrm>
            <a:off x="0" y="1928880"/>
            <a:ext cx="430848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Яна Дементьє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357360" y="1447920"/>
            <a:ext cx="55767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веслувальниця (академічне веслування), загрібна, олімпійська чемпіонка, чемпіонка світу та Європи, заслужений майстер спорту України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Член олімпійської збірної України 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Іграх 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XXX 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Олімпіади 2012 року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Лондон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. У складі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четвірки парної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Анастасія Коженкова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Яна Дементьєва,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Катерина Тарасенк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й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8"/>
              </a:rPr>
              <a:t>Наталія Довгодьк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 стала олімпійською чемпіонкою.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Багаторазова чемпіонка України, призерка Кубків світ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Picture 2" descr="https://storage1b.censor.net/images/7/8/7/b/787b4958be4d43ad5a2f22b396d7a75b/original.jpg"/>
          <p:cNvPicPr/>
          <p:nvPr/>
        </p:nvPicPr>
        <p:blipFill>
          <a:blip r:embed="rId9"/>
          <a:stretch/>
        </p:blipFill>
        <p:spPr>
          <a:xfrm>
            <a:off x="357120" y="4071960"/>
            <a:ext cx="347184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4" name="Picture 4" descr="https://web.kpi.kharkov.ua/sport/wp-content/uploads/sites/33/2014/07/dementeva-yana-5p-e1446811007958.jpg"/>
          <p:cNvPicPr/>
          <p:nvPr/>
        </p:nvPicPr>
        <p:blipFill>
          <a:blip r:embed="rId10"/>
          <a:stretch/>
        </p:blipFill>
        <p:spPr>
          <a:xfrm>
            <a:off x="500040" y="285840"/>
            <a:ext cx="2500200" cy="35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6160" y="274320"/>
            <a:ext cx="46483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72314"/>
                </a:solidFill>
                <a:latin typeface="Segoe Print"/>
              </a:rPr>
              <a:t>Ольга Харлан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499920" y="1213920"/>
            <a:ext cx="54342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фехтувальниця (шабля), олімпійська чемпіонка в 2008 року у командній першості, бронзова призерка Олімпіади 2012 року, шестиразова чемпіонка світу (2009 року в командній першості, 2013 в індивідуальній і командній, 2014 в індивідуальній, 2017 в індивідуальній, 2019 в індивідуальній), восьмиразова чемпіонка Європи,ЗМСУ з фехтування, найкраща спортсменка року (2008, 2009) та найкраща спортсменка місяця (5 разів) в Україн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6" descr="https://m.buro247.ua/images/2016/09/Olga-harlan_MG_5838.jpg"/>
          <p:cNvPicPr/>
          <p:nvPr/>
        </p:nvPicPr>
        <p:blipFill>
          <a:blip r:embed="rId1"/>
          <a:stretch/>
        </p:blipFill>
        <p:spPr>
          <a:xfrm>
            <a:off x="214200" y="928800"/>
            <a:ext cx="3357720" cy="584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14880" y="274320"/>
            <a:ext cx="471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Юлія Джім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00720" y="1447920"/>
            <a:ext cx="443376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біатлоністка, чемпіонка Олімпійських ігор в Сочі, срібна призерка чемпіонату світу, переможниця та призерка етапів кубка світу з біатлону, чотириразова чемпіонка Європи в естафеті, призерка Кубка Європи з біатлону. Заслужений майстер спорту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городжена орденами «За заслуги» III ступеня (2014), «За заслуги» II ступеня (2017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2" descr="https://pic.sport.ua/images/news/0/8/65/orig_333015.jpg"/>
          <p:cNvPicPr/>
          <p:nvPr/>
        </p:nvPicPr>
        <p:blipFill>
          <a:blip r:embed="rId1"/>
          <a:stretch/>
        </p:blipFill>
        <p:spPr>
          <a:xfrm>
            <a:off x="214200" y="785880"/>
            <a:ext cx="465300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05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Segoe Print"/>
              </a:rPr>
              <a:t>Президенти НОК Україн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500040" y="12142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Валерій Філіппович Борз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5286240" y="114300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Сергій Назарович Буб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4" descr="Картинки по запросу &quot;валерий борзов&quot;"/>
          <p:cNvPicPr/>
          <p:nvPr/>
        </p:nvPicPr>
        <p:blipFill>
          <a:blip r:embed="rId1"/>
          <a:stretch/>
        </p:blipFill>
        <p:spPr>
          <a:xfrm>
            <a:off x="285840" y="2143080"/>
            <a:ext cx="393696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6" name="Picture 6" descr="Картинки по запросу &quot;бубка&quot;"/>
          <p:cNvPicPr/>
          <p:nvPr/>
        </p:nvPicPr>
        <p:blipFill>
          <a:blip r:embed="rId2"/>
          <a:stretch/>
        </p:blipFill>
        <p:spPr>
          <a:xfrm>
            <a:off x="4643280" y="2286000"/>
            <a:ext cx="428148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Прямоугольник 15"/>
          <p:cNvSpPr/>
          <p:nvPr/>
        </p:nvSpPr>
        <p:spPr>
          <a:xfrm>
            <a:off x="285840" y="5429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Arial"/>
              </a:rPr>
              <a:t>1990-1998 —</a:t>
            </a: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Tahoma"/>
              </a:rPr>
              <a:t>президент Національного олімпійського комітету України</a:t>
            </a: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16"/>
          <p:cNvSpPr/>
          <p:nvPr/>
        </p:nvSpPr>
        <p:spPr>
          <a:xfrm>
            <a:off x="4714920" y="557208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Arial"/>
              </a:rPr>
              <a:t>23 червня 2005 року і до сьогоднішнього часу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57680" y="274680"/>
            <a:ext cx="607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лег Верняє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29040" y="1447560"/>
            <a:ext cx="500544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ийгімнаст, Олімпійський чемпіон і срібний призер Олімпійських ігор 2016, чемпіон світу зі спортивної гімнастики. Учасник Олімпійських Ігор 2012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1 серпня 2016 року 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Олімпійських іграх 2016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Ріо-де-Жанейр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Бразилія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 виборов срібну медаль 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абсолютній першост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поступившись 0,099 бала переможцю —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Утімурі Кохею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6 серпня 2016 року у змаганнях на паралельних брусах виборов першу золоту медаль для України 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Олімпійських іграх 2016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Ріо-де-Жанейро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9" descr="C:\Users\Yaroslav\Desktop\unnamed (1).jpg"/>
          <p:cNvPicPr/>
          <p:nvPr/>
        </p:nvPicPr>
        <p:blipFill>
          <a:blip r:embed="rId8"/>
          <a:stretch/>
        </p:blipFill>
        <p:spPr>
          <a:xfrm>
            <a:off x="142920" y="357120"/>
            <a:ext cx="388152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9" name="Picture 11" descr="https://galinfo.com.ua/media/gallery/full/v/e/vernjajev.jpg"/>
          <p:cNvPicPr/>
          <p:nvPr/>
        </p:nvPicPr>
        <p:blipFill>
          <a:blip r:embed="rId9"/>
          <a:stretch/>
        </p:blipFill>
        <p:spPr>
          <a:xfrm>
            <a:off x="285840" y="3714840"/>
            <a:ext cx="386388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42880" y="274320"/>
            <a:ext cx="479124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Ганна Різатдіно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14880" y="1447560"/>
            <a:ext cx="471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художня гімнастка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бронзова призерк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Олімпійських ігор 2016 року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індивідуальному багатоборств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чемпіонка світу із вправ з обручем (2013), багаторазова призерка чемпіонатів світу та Європи, інших міжнародних змаган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20 серпня Ганна завоювала бронзову медаль на змаганнях з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художньої гімнастики в індивідуальному багатоборств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Олімпійських іграх 2016 року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Ріо-де-Жанейр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Бразилія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1 вересня здобула срібну медаль в індивідуальному багатоборстві та бронзову медаль у командному багатоборстві на чемпіонаті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Aeon Cup 2016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8"/>
              </a:rPr>
              <a:t>Японії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2" name="Picture 4" descr="https://gordonua.com/img/article/1464/29_tn.jpg"/>
          <p:cNvPicPr/>
          <p:nvPr/>
        </p:nvPicPr>
        <p:blipFill>
          <a:blip r:embed="rId9"/>
          <a:stretch/>
        </p:blipFill>
        <p:spPr>
          <a:xfrm>
            <a:off x="142920" y="1571760"/>
            <a:ext cx="41814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785760" y="274680"/>
            <a:ext cx="5148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Жан Беленю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142880" y="1447560"/>
            <a:ext cx="47912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Український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борець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греко-римського стилю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у ваговій категорії до 85 кг. Багаторазовий чемпіон світу і Європи, призер цих змагань, срібний призер Олімпійських ігор 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2016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, чемпіон і срібний призер Європейських ігор 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2019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 2015), бронзовий призер Універсіади (2013). Заслужений майстер спорту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йкращий спортсмен квітня 2014 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йкращий борець класичного стилю у світі 2015 року за версією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Segoe Print"/>
              </a:rPr>
              <a:t>Міжнародної федерації об'єднаних стилів боротьб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5" name="Picture 2" descr="Картинки по запросу &quot;беленюк&quot;"/>
          <p:cNvPicPr/>
          <p:nvPr/>
        </p:nvPicPr>
        <p:blipFill>
          <a:blip r:embed="rId6"/>
          <a:stretch/>
        </p:blipFill>
        <p:spPr>
          <a:xfrm>
            <a:off x="142920" y="1785960"/>
            <a:ext cx="43815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71520" y="274680"/>
            <a:ext cx="5862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лександр Абраменк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000320" y="1714320"/>
            <a:ext cx="493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ий фристайліст, заслужений майстер спорту України, фахівець із лижної акробатики, олімпійський чемпіон 2018 року. Володар малого Кришталевого глобуса з лижної акробатики сезону 2015–16. Срібний призер Чемпіонату Світу 2019 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рден «За заслуги» III с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2" descr="Картинки по запросу &quot;абраменко олександр&quot;"/>
          <p:cNvPicPr/>
          <p:nvPr/>
        </p:nvPicPr>
        <p:blipFill>
          <a:blip r:embed="rId1"/>
          <a:stretch/>
        </p:blipFill>
        <p:spPr>
          <a:xfrm>
            <a:off x="0" y="928800"/>
            <a:ext cx="385920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4" descr="Картинки по запросу &quot;абраменко олександр&quot;"/>
          <p:cNvPicPr/>
          <p:nvPr/>
        </p:nvPicPr>
        <p:blipFill>
          <a:blip r:embed="rId2"/>
          <a:stretch/>
        </p:blipFill>
        <p:spPr>
          <a:xfrm>
            <a:off x="785880" y="4143240"/>
            <a:ext cx="400032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714240" y="1447920"/>
            <a:ext cx="822024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З великим терпінням чекаємо Літню Олімпіаду 2020 в Токі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2" descr="https://leonardo.osnova.io/a642ed6c-a93a-2a4c-01f9-4cd2bc74376a/-/scale_crop/900x833/center/"/>
          <p:cNvPicPr/>
          <p:nvPr/>
        </p:nvPicPr>
        <p:blipFill>
          <a:blip r:embed="rId1"/>
          <a:stretch/>
        </p:blipFill>
        <p:spPr>
          <a:xfrm>
            <a:off x="3071880" y="2500200"/>
            <a:ext cx="4000320" cy="370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13840" y="5429160"/>
            <a:ext cx="44290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Print"/>
              </a:rPr>
              <a:t>1998-2002 – президент НОК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000760" y="5357520"/>
            <a:ext cx="3862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egoe Print"/>
              </a:rPr>
              <a:t>2002-2005 – президент НОК Україн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Картинки по запросу &quot;федоренко іван никифорович&quot;"/>
          <p:cNvPicPr/>
          <p:nvPr/>
        </p:nvPicPr>
        <p:blipFill>
          <a:blip r:embed="rId1"/>
          <a:stretch/>
        </p:blipFill>
        <p:spPr>
          <a:xfrm>
            <a:off x="214200" y="2214720"/>
            <a:ext cx="434016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5"/>
          <p:cNvSpPr/>
          <p:nvPr/>
        </p:nvSpPr>
        <p:spPr>
          <a:xfrm>
            <a:off x="571680" y="1285920"/>
            <a:ext cx="37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Іван Нікіфорович Федоренк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оугольник 6"/>
          <p:cNvSpPr/>
          <p:nvPr/>
        </p:nvSpPr>
        <p:spPr>
          <a:xfrm>
            <a:off x="5045760" y="1285920"/>
            <a:ext cx="40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Віктор Федорович Янукович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4" descr="Картинки по запросу &quot;янукович президент нок&quot;"/>
          <p:cNvPicPr/>
          <p:nvPr/>
        </p:nvPicPr>
        <p:blipFill>
          <a:blip r:embed="rId2"/>
          <a:stretch/>
        </p:blipFill>
        <p:spPr>
          <a:xfrm>
            <a:off x="5000760" y="2125800"/>
            <a:ext cx="3857400" cy="28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57720" y="857160"/>
            <a:ext cx="5505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ксана Баюл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Перша олімпійська чемпіонка (Х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VII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Олімпійські Зимові ігри, Ліллегаммер, Норвегія, 1994)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незалежної України. Дворазова срібна призерка чемпіонатів Європи (1993,1994), чемпіонка світу (1993)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178087.jpg"/>
          <p:cNvPicPr/>
          <p:nvPr/>
        </p:nvPicPr>
        <p:blipFill>
          <a:blip r:embed="rId1"/>
          <a:stretch/>
        </p:blipFill>
        <p:spPr>
          <a:xfrm>
            <a:off x="214200" y="214200"/>
            <a:ext cx="2571840" cy="37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7" name="Picture 2" descr="https://lh3.googleusercontent.com/proxy/y_XAvqLmUVRmDsA-9E1Yn-TN762l4pvQ34nE5lImWi-9ajU6ZqybuE-_0iwZjuTqOsna86wHIDvSUR_GneFCSUPoBvSvDND0l3KIf-jtIYpPz6W42IdvDeGC"/>
          <p:cNvPicPr/>
          <p:nvPr/>
        </p:nvPicPr>
        <p:blipFill>
          <a:blip r:embed="rId2"/>
          <a:stretch/>
        </p:blipFill>
        <p:spPr>
          <a:xfrm>
            <a:off x="3143160" y="3357720"/>
            <a:ext cx="2325600" cy="319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8" name="Picture 7" descr="bajul"/>
          <p:cNvPicPr/>
          <p:nvPr/>
        </p:nvPicPr>
        <p:blipFill>
          <a:blip r:embed="rId3"/>
          <a:stretch/>
        </p:blipFill>
        <p:spPr>
          <a:xfrm>
            <a:off x="5715000" y="3438360"/>
            <a:ext cx="3143160" cy="291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85760" y="35676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Лілія Подкопає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29040" y="1447560"/>
            <a:ext cx="50054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 1996 р. на 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XXVI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лімпійських іграх в Атланті посіла перше місце в абсолютній першості, перше місце у вільних вправах, друге місце на колод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Абсолютна чемпіонка світу (1995, Японія, Сабає), Європи (1996, Велика Британія, Бірмінгем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олодарка Кубка Європи (1995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4" descr="Картинки по запросу &quot;подкопаєва лілія олександрівна&quot;"/>
          <p:cNvPicPr/>
          <p:nvPr/>
        </p:nvPicPr>
        <p:blipFill>
          <a:blip r:embed="rId1"/>
          <a:stretch/>
        </p:blipFill>
        <p:spPr>
          <a:xfrm>
            <a:off x="142920" y="214200"/>
            <a:ext cx="2643120" cy="396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2" name="Picture 8" descr="Картинки по запросу &quot;подкопаєва лілія олександрівна&quot;"/>
          <p:cNvPicPr/>
          <p:nvPr/>
        </p:nvPicPr>
        <p:blipFill>
          <a:blip r:embed="rId2"/>
          <a:stretch/>
        </p:blipFill>
        <p:spPr>
          <a:xfrm>
            <a:off x="1571760" y="4286160"/>
            <a:ext cx="2571480" cy="235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14800" y="500040"/>
            <a:ext cx="4790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олодимир Кличк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14800" y="1357200"/>
            <a:ext cx="5572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XXVI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Літніх Олімпійських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іграх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 Атланті здобув золото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 надважкій ваговій категорії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Чемпіон світу з боксу у важкій ваговій категорії за версіями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WBO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0—2003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, 2008—2015 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IBF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6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IBO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6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The Ring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9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WBA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1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2 жовтня 2018 року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Віталія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та Володимира Кличків внесли до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Книги рекордів Гіннеса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, як братів-чемпіонів, які на двох провели найбільшу кількість бої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и по запросу &quot;володимир кличко&quot;"/>
          <p:cNvPicPr/>
          <p:nvPr/>
        </p:nvPicPr>
        <p:blipFill>
          <a:blip r:embed="rId8"/>
          <a:stretch/>
        </p:blipFill>
        <p:spPr>
          <a:xfrm>
            <a:off x="214200" y="1143000"/>
            <a:ext cx="2928960" cy="44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2912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Інесса Кравець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57400" y="1499760"/>
            <a:ext cx="46400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Олімпійська чемпіонка 1996 року в потрійному стрибку. Срібна призерка Олімпійських</a:t>
            </a:r>
            <a:r>
              <a:rPr b="0" lang="uk-UA" sz="17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ігор 1992 року в стрибках в довжин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Чемпіонка світу (1991, 1993, 1995), володар Кубка світу (1994), чемпіонка Європи (1992). Багаторазова призерка чемпіонатів Європи та світ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Неодноразова рекордсменка світ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Її світовий рекорд у потрійному стрибку (15,50 м), встановлений 10 серпня 1995 року, не побитий до сьогодні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Картинки по запросу &quot;інеса кравець&quot;"/>
          <p:cNvPicPr/>
          <p:nvPr/>
        </p:nvPicPr>
        <p:blipFill>
          <a:blip r:embed="rId2"/>
          <a:stretch/>
        </p:blipFill>
        <p:spPr>
          <a:xfrm>
            <a:off x="214200" y="857160"/>
            <a:ext cx="3471840" cy="528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̓ </a:t>
            </a: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ячеслав Олійни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429000" y="1571400"/>
            <a:ext cx="514368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На Олімпіаді 1996 року в Атланті В'ячеслав Олійник здобув золоту медаль з греко - римської боротьби, яка стала першою золотою медаллю на літніх Олімпійських іграх в історії незалежної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 1994 році йому було присвоєно звання «Заслужений майстер спорту України». У 1996 році був нагороджений хрестом «За мужність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Картинки по запросу &quot;вячеслав олійник&quot;"/>
          <p:cNvPicPr/>
          <p:nvPr/>
        </p:nvPicPr>
        <p:blipFill>
          <a:blip r:embed="rId1"/>
          <a:stretch/>
        </p:blipFill>
        <p:spPr>
          <a:xfrm>
            <a:off x="214200" y="1357200"/>
            <a:ext cx="314352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Катерина</a:t>
            </a: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 Серебрянсь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142800" y="1447920"/>
            <a:ext cx="57913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лімпійська чемпіонка з художньої гімнастики в Атланті (1996), заслужений майстер спорту України з художньої гімнастики.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Почесна відзнака Президента України (1995) — за видатні досягнення, вагомий особистий внесок в утвердження авторитету України у світовому спортивному співтоварист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Segoe Print"/>
              </a:rPr>
              <a:t>Жінка року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(1996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Заслужений майстер спорту України (1996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7" descr="C:\Users\Yaroslav\Desktop\1_Галлерея 2.jpg"/>
          <p:cNvPicPr/>
          <p:nvPr/>
        </p:nvPicPr>
        <p:blipFill>
          <a:blip r:embed="rId1"/>
          <a:stretch/>
        </p:blipFill>
        <p:spPr>
          <a:xfrm>
            <a:off x="142920" y="1357200"/>
            <a:ext cx="2857320" cy="39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15:19:16Z</dcterms:created>
  <dc:creator>Yaroslav</dc:creator>
  <dc:description/>
  <dc:language>en-US</dc:language>
  <cp:lastModifiedBy>х</cp:lastModifiedBy>
  <dcterms:modified xsi:type="dcterms:W3CDTF">2020-03-14T06:00:01Z</dcterms:modified>
  <cp:revision>46</cp:revision>
  <dc:subject/>
  <dc:title>Олімпійська Україна</dc:title>
</cp:coreProperties>
</file>