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99BF-D268-4EA7-AA89-8CDB5E4F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A13-6941-4FB7-8976-852E8C98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A2E-070B-4D6E-A956-B6A0AB42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3EF-C5AA-4E8D-B887-B35CE0DA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FB37-2D99-4D45-9224-98C6FBFA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A4A4-88B8-4FAD-A48B-037941DE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6EDB-E21A-47D0-85BD-F755BBED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10ED-20F1-4E4C-BFA8-96C6E1C8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03DE-3DB3-49A8-A881-F1D13120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0342-D5FC-403E-BE06-343F22D0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CF81-B96D-47BB-AC70-09076356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6B29-413E-4A29-9A9D-859D15CF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246C-36F3-4D8C-8BFE-FC9AB336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AC3A-6794-47C0-9652-D9660142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1B38-C991-4854-B8CF-1ADC128C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2663-51C7-4B07-B487-5B21CE3A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379D-8A88-4B7A-AB60-94AE7C3F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212A-FF59-4BE8-B400-276BF802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9037-D1DE-4EB3-8E52-ACBC4814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3F6F-4F2A-4514-90E6-101C755F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C90B-6626-4080-8809-D8E84C72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49C-3AEB-4711-95C0-40A9FE40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160-F1EC-4BA5-9539-DF743C41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922-6B18-41AE-9EA7-1A71F6AE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541F-3501-4DCA-9E89-5C9B90FA90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44CC-D734-457D-A357-72EB12D701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582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a26d18"/>
                </a:solidFill>
                <a:latin typeface="Times New Roman"/>
              </a:rPr>
              <a:t>“</a:t>
            </a:r>
            <a:r>
              <a:rPr b="0" lang="uk-UA" sz="5400" spc="-1" strike="noStrike">
                <a:solidFill>
                  <a:srgbClr val="a26d18"/>
                </a:solidFill>
                <a:latin typeface="Times New Roman"/>
              </a:rPr>
              <a:t>Використання інноваційних технологій  в сучасних умовах розвитку освіти”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762120" y="0"/>
            <a:ext cx="73911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ТЕРАКТИВНІ  ТЕХНОЛОГІЇ 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990720"/>
            <a:ext cx="2209680" cy="838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ї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оперативн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вчан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514600" y="990720"/>
            <a:ext cx="2209680" cy="838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туативн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делюван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952880" y="990720"/>
            <a:ext cx="1905120" cy="838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лектив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упов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7086600" y="990720"/>
            <a:ext cx="2057400" cy="838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искусійні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2209680"/>
            <a:ext cx="2209680" cy="4114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бота в пар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мінювані трій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рус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кваріу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2590920" y="2209680"/>
            <a:ext cx="1981080" cy="4114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муляційні ігр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льові ігр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удові слухан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4952880" y="2209680"/>
            <a:ext cx="1905120" cy="4114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кроф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закінчен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чен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зковий штур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журна пил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Джигсоу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рево ріш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7162920" y="2209680"/>
            <a:ext cx="1981080" cy="4114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тод ПРЕ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йми позиці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ба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перервна шк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умо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3"/>
          <p:cNvSpPr/>
          <p:nvPr/>
        </p:nvSpPr>
        <p:spPr>
          <a:xfrm flipH="1">
            <a:off x="1218960" y="685800"/>
            <a:ext cx="3276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4"/>
          <p:cNvSpPr/>
          <p:nvPr/>
        </p:nvSpPr>
        <p:spPr>
          <a:xfrm flipH="1">
            <a:off x="3581280" y="6858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495680" y="68580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4495680" y="685800"/>
            <a:ext cx="3429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7"/>
          <p:cNvSpPr/>
          <p:nvPr/>
        </p:nvSpPr>
        <p:spPr>
          <a:xfrm>
            <a:off x="10666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8"/>
          <p:cNvSpPr/>
          <p:nvPr/>
        </p:nvSpPr>
        <p:spPr>
          <a:xfrm>
            <a:off x="35812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58672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0"/>
          <p:cNvSpPr/>
          <p:nvPr/>
        </p:nvSpPr>
        <p:spPr>
          <a:xfrm>
            <a:off x="807732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088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МЕТОДИЧНА МОДЕЛЬ ПІЗНАВАЛЬНОГО ПРОЦЕСУ В КОНТЕКСТІ ТЕХНОЛОГІЇ КРИТИЧНОГО МИСЛЕНН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ЛИК – демонстрування учнями первинних знань, особистісного досві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зковий штурм», «незакінчене речення», обмін проблем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МИСЛЕННЯ – безпосередня робота з інформаціє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ція або бесід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егляд віде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тературні дослідже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чі робот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ння з маркуванням тексту, читання в п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х, узагальнення в парах, спрямоване чита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отаційні трійки, бріколаж,  письмові практики, сторітелін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ДУМИ – рефлексі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3"/>
          <p:cNvGrpSpPr/>
          <p:nvPr/>
        </p:nvGrpSpPr>
        <p:grpSpPr>
          <a:xfrm>
            <a:off x="533520" y="609480"/>
            <a:ext cx="8422920" cy="5715720"/>
            <a:chOff x="533520" y="609480"/>
            <a:chExt cx="8422920" cy="5715720"/>
          </a:xfrm>
        </p:grpSpPr>
        <p:grpSp>
          <p:nvGrpSpPr>
            <p:cNvPr id="183" name="Group 4"/>
            <p:cNvGrpSpPr/>
            <p:nvPr/>
          </p:nvGrpSpPr>
          <p:grpSpPr>
            <a:xfrm>
              <a:off x="2394720" y="609480"/>
              <a:ext cx="4134960" cy="1970280"/>
              <a:chOff x="2394720" y="609480"/>
              <a:chExt cx="4134960" cy="1970280"/>
            </a:xfrm>
          </p:grpSpPr>
          <p:grpSp>
            <p:nvGrpSpPr>
              <p:cNvPr id="184" name="Group 5"/>
              <p:cNvGrpSpPr/>
              <p:nvPr/>
            </p:nvGrpSpPr>
            <p:grpSpPr>
              <a:xfrm>
                <a:off x="3092760" y="609480"/>
                <a:ext cx="3436920" cy="1970280"/>
                <a:chOff x="3092760" y="609480"/>
                <a:chExt cx="3436920" cy="1970280"/>
              </a:xfrm>
            </p:grpSpPr>
            <p:sp>
              <p:nvSpPr>
                <p:cNvPr id="185" name="AutoShape 6"/>
                <p:cNvSpPr/>
                <p:nvPr/>
              </p:nvSpPr>
              <p:spPr>
                <a:xfrm>
                  <a:off x="3120840" y="792360"/>
                  <a:ext cx="3356280" cy="1787400"/>
                </a:xfrm>
                <a:prstGeom prst="hexagon">
                  <a:avLst>
                    <a:gd name="adj" fmla="val 46944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AutoShape 7"/>
                <p:cNvSpPr/>
                <p:nvPr/>
              </p:nvSpPr>
              <p:spPr>
                <a:xfrm>
                  <a:off x="3092760" y="609480"/>
                  <a:ext cx="3436920" cy="1939320"/>
                </a:xfrm>
                <a:prstGeom prst="hexagon">
                  <a:avLst>
                    <a:gd name="adj" fmla="val 46947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AutoShape 8"/>
                <p:cNvSpPr/>
                <p:nvPr/>
              </p:nvSpPr>
              <p:spPr>
                <a:xfrm>
                  <a:off x="3289320" y="869040"/>
                  <a:ext cx="2949840" cy="1572120"/>
                </a:xfrm>
                <a:prstGeom prst="hexagon">
                  <a:avLst>
                    <a:gd name="adj" fmla="val 46909"/>
                    <a:gd name="vf" fmla="val 115470"/>
                  </a:avLst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Text Box 9"/>
              <p:cNvSpPr/>
              <p:nvPr/>
            </p:nvSpPr>
            <p:spPr>
              <a:xfrm>
                <a:off x="2394720" y="1142280"/>
                <a:ext cx="34358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Павутинка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искусії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искусійна сітка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Алверманн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Group 10"/>
            <p:cNvGrpSpPr/>
            <p:nvPr/>
          </p:nvGrpSpPr>
          <p:grpSpPr>
            <a:xfrm>
              <a:off x="533520" y="1597680"/>
              <a:ext cx="3484440" cy="1887120"/>
              <a:chOff x="533520" y="1597680"/>
              <a:chExt cx="3484440" cy="1887120"/>
            </a:xfrm>
          </p:grpSpPr>
          <p:grpSp>
            <p:nvGrpSpPr>
              <p:cNvPr id="190" name="Group 11"/>
              <p:cNvGrpSpPr/>
              <p:nvPr/>
            </p:nvGrpSpPr>
            <p:grpSpPr>
              <a:xfrm>
                <a:off x="533520" y="1597680"/>
                <a:ext cx="3484440" cy="1887120"/>
                <a:chOff x="533520" y="1597680"/>
                <a:chExt cx="3484440" cy="1887120"/>
              </a:xfrm>
            </p:grpSpPr>
            <p:sp>
              <p:nvSpPr>
                <p:cNvPr id="191" name="AutoShape 12"/>
                <p:cNvSpPr/>
                <p:nvPr/>
              </p:nvSpPr>
              <p:spPr>
                <a:xfrm>
                  <a:off x="657720" y="1697400"/>
                  <a:ext cx="3360240" cy="1787400"/>
                </a:xfrm>
                <a:prstGeom prst="hexagon">
                  <a:avLst>
                    <a:gd name="adj" fmla="val 4699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AutoShape 13"/>
                <p:cNvSpPr/>
                <p:nvPr/>
              </p:nvSpPr>
              <p:spPr>
                <a:xfrm>
                  <a:off x="533520" y="1597680"/>
                  <a:ext cx="3456720" cy="1856160"/>
                </a:xfrm>
                <a:prstGeom prst="hexagon">
                  <a:avLst>
                    <a:gd name="adj" fmla="val 46997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AutoShape 14"/>
                <p:cNvSpPr/>
                <p:nvPr/>
              </p:nvSpPr>
              <p:spPr>
                <a:xfrm>
                  <a:off x="826560" y="1774080"/>
                  <a:ext cx="2953440" cy="1572480"/>
                </a:xfrm>
                <a:prstGeom prst="hexagon">
                  <a:avLst>
                    <a:gd name="adj" fmla="val 46955"/>
                    <a:gd name="vf" fmla="val 115470"/>
                  </a:avLst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Text Box 15"/>
              <p:cNvSpPr/>
              <p:nvPr/>
            </p:nvSpPr>
            <p:spPr>
              <a:xfrm>
                <a:off x="1598040" y="2286360"/>
                <a:ext cx="175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ебат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Займи позицію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Group 16"/>
            <p:cNvGrpSpPr/>
            <p:nvPr/>
          </p:nvGrpSpPr>
          <p:grpSpPr>
            <a:xfrm>
              <a:off x="3078000" y="2580480"/>
              <a:ext cx="3452040" cy="1963080"/>
              <a:chOff x="3078000" y="2580480"/>
              <a:chExt cx="3452040" cy="1963080"/>
            </a:xfrm>
          </p:grpSpPr>
          <p:grpSp>
            <p:nvGrpSpPr>
              <p:cNvPr id="196" name="Group 17"/>
              <p:cNvGrpSpPr/>
              <p:nvPr/>
            </p:nvGrpSpPr>
            <p:grpSpPr>
              <a:xfrm>
                <a:off x="3093120" y="2580480"/>
                <a:ext cx="3436920" cy="1915920"/>
                <a:chOff x="3093120" y="2580480"/>
                <a:chExt cx="3436920" cy="1915920"/>
              </a:xfrm>
            </p:grpSpPr>
            <p:sp>
              <p:nvSpPr>
                <p:cNvPr id="197" name="AutoShape 18"/>
                <p:cNvSpPr/>
                <p:nvPr/>
              </p:nvSpPr>
              <p:spPr>
                <a:xfrm>
                  <a:off x="3121560" y="2611440"/>
                  <a:ext cx="3355560" cy="1788120"/>
                </a:xfrm>
                <a:prstGeom prst="hexagon">
                  <a:avLst>
                    <a:gd name="adj" fmla="val 4691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AutoShape 19"/>
                <p:cNvSpPr/>
                <p:nvPr/>
              </p:nvSpPr>
              <p:spPr>
                <a:xfrm>
                  <a:off x="3093120" y="2580480"/>
                  <a:ext cx="3356280" cy="1788120"/>
                </a:xfrm>
                <a:prstGeom prst="hexagon">
                  <a:avLst>
                    <a:gd name="adj" fmla="val 4692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AutoShape 20"/>
                <p:cNvSpPr/>
                <p:nvPr/>
              </p:nvSpPr>
              <p:spPr>
                <a:xfrm>
                  <a:off x="3289680" y="2688120"/>
                  <a:ext cx="3240360" cy="1808280"/>
                </a:xfrm>
                <a:prstGeom prst="hexagon">
                  <a:avLst>
                    <a:gd name="adj" fmla="val 46889"/>
                    <a:gd name="vf" fmla="val 115470"/>
                  </a:avLst>
                </a:prstGeom>
                <a:gradFill rotWithShape="0">
                  <a:gsLst>
                    <a:gs pos="0">
                      <a:srgbClr val="182f5e"/>
                    </a:gs>
                    <a:gs pos="100000">
                      <a:srgbClr val="3366cc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Text Box 21"/>
              <p:cNvSpPr/>
              <p:nvPr/>
            </p:nvSpPr>
            <p:spPr>
              <a:xfrm>
                <a:off x="3078000" y="2986560"/>
                <a:ext cx="26463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Технологія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розвитку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ритичног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мислення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Group 22"/>
            <p:cNvGrpSpPr/>
            <p:nvPr/>
          </p:nvGrpSpPr>
          <p:grpSpPr>
            <a:xfrm>
              <a:off x="5559480" y="1599480"/>
              <a:ext cx="3394080" cy="1887120"/>
              <a:chOff x="5559480" y="1599480"/>
              <a:chExt cx="3394080" cy="1887120"/>
            </a:xfrm>
          </p:grpSpPr>
          <p:grpSp>
            <p:nvGrpSpPr>
              <p:cNvPr id="202" name="Group 23"/>
              <p:cNvGrpSpPr/>
              <p:nvPr/>
            </p:nvGrpSpPr>
            <p:grpSpPr>
              <a:xfrm>
                <a:off x="5559480" y="1599480"/>
                <a:ext cx="3394080" cy="1887120"/>
                <a:chOff x="5559480" y="1599480"/>
                <a:chExt cx="3394080" cy="1887120"/>
              </a:xfrm>
            </p:grpSpPr>
            <p:sp>
              <p:nvSpPr>
                <p:cNvPr id="203" name="AutoShape 24"/>
                <p:cNvSpPr/>
                <p:nvPr/>
              </p:nvSpPr>
              <p:spPr>
                <a:xfrm>
                  <a:off x="5587560" y="1699200"/>
                  <a:ext cx="3358800" cy="1787400"/>
                </a:xfrm>
                <a:prstGeom prst="hexagon">
                  <a:avLst>
                    <a:gd name="adj" fmla="val 4697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AutoShape 25"/>
                <p:cNvSpPr/>
                <p:nvPr/>
              </p:nvSpPr>
              <p:spPr>
                <a:xfrm>
                  <a:off x="5559480" y="1599480"/>
                  <a:ext cx="3394080" cy="1856160"/>
                </a:xfrm>
                <a:prstGeom prst="hexagon">
                  <a:avLst>
                    <a:gd name="adj" fmla="val 4698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AutoShape 26"/>
                <p:cNvSpPr/>
                <p:nvPr/>
              </p:nvSpPr>
              <p:spPr>
                <a:xfrm>
                  <a:off x="5756040" y="1775880"/>
                  <a:ext cx="2952360" cy="1572480"/>
                </a:xfrm>
                <a:prstGeom prst="hexagon">
                  <a:avLst>
                    <a:gd name="adj" fmla="val 46938"/>
                    <a:gd name="vf" fmla="val 115470"/>
                  </a:avLst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Text Box 27"/>
              <p:cNvSpPr/>
              <p:nvPr/>
            </p:nvSpPr>
            <p:spPr>
              <a:xfrm>
                <a:off x="6151320" y="2210040"/>
                <a:ext cx="195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ерево рішень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28"/>
            <p:cNvGrpSpPr/>
            <p:nvPr/>
          </p:nvGrpSpPr>
          <p:grpSpPr>
            <a:xfrm>
              <a:off x="5559480" y="3493080"/>
              <a:ext cx="3396960" cy="1841760"/>
              <a:chOff x="5559480" y="3493080"/>
              <a:chExt cx="3396960" cy="1841760"/>
            </a:xfrm>
          </p:grpSpPr>
          <p:grpSp>
            <p:nvGrpSpPr>
              <p:cNvPr id="208" name="Group 29"/>
              <p:cNvGrpSpPr/>
              <p:nvPr/>
            </p:nvGrpSpPr>
            <p:grpSpPr>
              <a:xfrm>
                <a:off x="5559480" y="3493080"/>
                <a:ext cx="3396960" cy="1841760"/>
                <a:chOff x="5559480" y="3493080"/>
                <a:chExt cx="3396960" cy="1841760"/>
              </a:xfrm>
            </p:grpSpPr>
            <p:sp>
              <p:nvSpPr>
                <p:cNvPr id="209" name="AutoShape 30"/>
                <p:cNvSpPr/>
                <p:nvPr/>
              </p:nvSpPr>
              <p:spPr>
                <a:xfrm>
                  <a:off x="5594400" y="3524040"/>
                  <a:ext cx="3362040" cy="1787760"/>
                </a:xfrm>
                <a:prstGeom prst="hexagon">
                  <a:avLst>
                    <a:gd name="adj" fmla="val 4701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AutoShape 31"/>
                <p:cNvSpPr/>
                <p:nvPr/>
              </p:nvSpPr>
              <p:spPr>
                <a:xfrm>
                  <a:off x="5559480" y="3493080"/>
                  <a:ext cx="3395520" cy="1841760"/>
                </a:xfrm>
                <a:prstGeom prst="hexagon">
                  <a:avLst>
                    <a:gd name="adj" fmla="val 47021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AutoShape 32"/>
                <p:cNvSpPr/>
                <p:nvPr/>
              </p:nvSpPr>
              <p:spPr>
                <a:xfrm>
                  <a:off x="5762880" y="3600720"/>
                  <a:ext cx="2954880" cy="1572480"/>
                </a:xfrm>
                <a:prstGeom prst="hexagon">
                  <a:avLst>
                    <a:gd name="adj" fmla="val 46978"/>
                    <a:gd name="vf" fmla="val 115470"/>
                  </a:avLst>
                </a:prstGeom>
                <a:gradFill rotWithShape="0">
                  <a:gsLst>
                    <a:gs pos="0">
                      <a:srgbClr val="216d4b"/>
                    </a:gs>
                    <a:gs pos="100000">
                      <a:srgbClr val="41d592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Text Box 33"/>
              <p:cNvSpPr/>
              <p:nvPr/>
            </p:nvSpPr>
            <p:spPr>
              <a:xfrm>
                <a:off x="5759640" y="4115520"/>
                <a:ext cx="2590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Твір-п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’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ятихвилинк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есе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Сторітеллін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34"/>
            <p:cNvGrpSpPr/>
            <p:nvPr/>
          </p:nvGrpSpPr>
          <p:grpSpPr>
            <a:xfrm>
              <a:off x="533520" y="3493080"/>
              <a:ext cx="3484800" cy="1841400"/>
              <a:chOff x="533520" y="3493080"/>
              <a:chExt cx="3484800" cy="1841400"/>
            </a:xfrm>
          </p:grpSpPr>
          <p:grpSp>
            <p:nvGrpSpPr>
              <p:cNvPr id="214" name="Group 35"/>
              <p:cNvGrpSpPr/>
              <p:nvPr/>
            </p:nvGrpSpPr>
            <p:grpSpPr>
              <a:xfrm>
                <a:off x="533520" y="3493080"/>
                <a:ext cx="3484800" cy="1841400"/>
                <a:chOff x="533520" y="3493080"/>
                <a:chExt cx="3484800" cy="1841400"/>
              </a:xfrm>
            </p:grpSpPr>
            <p:sp>
              <p:nvSpPr>
                <p:cNvPr id="215" name="AutoShape 36"/>
                <p:cNvSpPr/>
                <p:nvPr/>
              </p:nvSpPr>
              <p:spPr>
                <a:xfrm>
                  <a:off x="533520" y="3524040"/>
                  <a:ext cx="3484800" cy="1810440"/>
                </a:xfrm>
                <a:prstGeom prst="hexagon">
                  <a:avLst>
                    <a:gd name="adj" fmla="val 4698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AutoShape 37"/>
                <p:cNvSpPr/>
                <p:nvPr/>
              </p:nvSpPr>
              <p:spPr>
                <a:xfrm>
                  <a:off x="629640" y="3493080"/>
                  <a:ext cx="3360240" cy="1787760"/>
                </a:xfrm>
                <a:prstGeom prst="hexagon">
                  <a:avLst>
                    <a:gd name="adj" fmla="val 46990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AutoShape 38"/>
                <p:cNvSpPr/>
                <p:nvPr/>
              </p:nvSpPr>
              <p:spPr>
                <a:xfrm>
                  <a:off x="826560" y="3600720"/>
                  <a:ext cx="2953080" cy="1572480"/>
                </a:xfrm>
                <a:prstGeom prst="hexagon">
                  <a:avLst>
                    <a:gd name="adj" fmla="val 46949"/>
                    <a:gd name="vf" fmla="val 115470"/>
                  </a:avLst>
                </a:prstGeom>
                <a:gradFill rotWithShape="0">
                  <a:gsLst>
                    <a:gs pos="0">
                      <a:srgbClr val="0082ad"/>
                    </a:gs>
                    <a:gs pos="100000">
                      <a:srgbClr val="0099cc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Text Box 39"/>
              <p:cNvSpPr/>
              <p:nvPr/>
            </p:nvSpPr>
            <p:spPr>
              <a:xfrm>
                <a:off x="1114200" y="4039200"/>
                <a:ext cx="2081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ола Вен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Шість капелюшків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Group 40"/>
            <p:cNvGrpSpPr/>
            <p:nvPr/>
          </p:nvGrpSpPr>
          <p:grpSpPr>
            <a:xfrm>
              <a:off x="3093120" y="4405680"/>
              <a:ext cx="3436920" cy="1919520"/>
              <a:chOff x="3093120" y="4405680"/>
              <a:chExt cx="3436920" cy="1919520"/>
            </a:xfrm>
          </p:grpSpPr>
          <p:grpSp>
            <p:nvGrpSpPr>
              <p:cNvPr id="220" name="Group 41"/>
              <p:cNvGrpSpPr/>
              <p:nvPr/>
            </p:nvGrpSpPr>
            <p:grpSpPr>
              <a:xfrm>
                <a:off x="3093120" y="4405680"/>
                <a:ext cx="3436920" cy="1919520"/>
                <a:chOff x="3093120" y="4405680"/>
                <a:chExt cx="3436920" cy="1919520"/>
              </a:xfrm>
            </p:grpSpPr>
            <p:sp>
              <p:nvSpPr>
                <p:cNvPr id="221" name="AutoShape 42"/>
                <p:cNvSpPr/>
                <p:nvPr/>
              </p:nvSpPr>
              <p:spPr>
                <a:xfrm>
                  <a:off x="3121560" y="4436640"/>
                  <a:ext cx="3408480" cy="1888560"/>
                </a:xfrm>
                <a:prstGeom prst="hexagon">
                  <a:avLst>
                    <a:gd name="adj" fmla="val 469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AutoShape 43"/>
                <p:cNvSpPr/>
                <p:nvPr/>
              </p:nvSpPr>
              <p:spPr>
                <a:xfrm>
                  <a:off x="3093120" y="4405680"/>
                  <a:ext cx="3356640" cy="1787760"/>
                </a:xfrm>
                <a:prstGeom prst="hexagon">
                  <a:avLst>
                    <a:gd name="adj" fmla="val 4693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AutoShape 44"/>
                <p:cNvSpPr/>
                <p:nvPr/>
              </p:nvSpPr>
              <p:spPr>
                <a:xfrm>
                  <a:off x="3289680" y="4513320"/>
                  <a:ext cx="2949840" cy="1572480"/>
                </a:xfrm>
                <a:prstGeom prst="hexagon">
                  <a:avLst>
                    <a:gd name="adj" fmla="val 46898"/>
                    <a:gd name="vf" fmla="val 11547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РАФТ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роль,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аудиторія,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форма, тема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Text Box 45"/>
              <p:cNvSpPr/>
              <p:nvPr/>
            </p:nvSpPr>
            <p:spPr>
              <a:xfrm>
                <a:off x="4695120" y="4878000"/>
                <a:ext cx="18468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Group 3"/>
          <p:cNvGrpSpPr/>
          <p:nvPr/>
        </p:nvGrpSpPr>
        <p:grpSpPr>
          <a:xfrm>
            <a:off x="533520" y="609480"/>
            <a:ext cx="8422920" cy="5715720"/>
            <a:chOff x="533520" y="609480"/>
            <a:chExt cx="8422920" cy="5715720"/>
          </a:xfrm>
        </p:grpSpPr>
        <p:grpSp>
          <p:nvGrpSpPr>
            <p:cNvPr id="226" name="Group 4"/>
            <p:cNvGrpSpPr/>
            <p:nvPr/>
          </p:nvGrpSpPr>
          <p:grpSpPr>
            <a:xfrm>
              <a:off x="2394720" y="609480"/>
              <a:ext cx="4134960" cy="1970280"/>
              <a:chOff x="2394720" y="609480"/>
              <a:chExt cx="4134960" cy="1970280"/>
            </a:xfrm>
          </p:grpSpPr>
          <p:grpSp>
            <p:nvGrpSpPr>
              <p:cNvPr id="227" name="Group 5"/>
              <p:cNvGrpSpPr/>
              <p:nvPr/>
            </p:nvGrpSpPr>
            <p:grpSpPr>
              <a:xfrm>
                <a:off x="3092760" y="609480"/>
                <a:ext cx="3436920" cy="1970280"/>
                <a:chOff x="3092760" y="609480"/>
                <a:chExt cx="3436920" cy="1970280"/>
              </a:xfrm>
            </p:grpSpPr>
            <p:sp>
              <p:nvSpPr>
                <p:cNvPr id="228" name="AutoShape 6"/>
                <p:cNvSpPr/>
                <p:nvPr/>
              </p:nvSpPr>
              <p:spPr>
                <a:xfrm>
                  <a:off x="3120840" y="792360"/>
                  <a:ext cx="3356280" cy="1787400"/>
                </a:xfrm>
                <a:prstGeom prst="hexagon">
                  <a:avLst>
                    <a:gd name="adj" fmla="val 46944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AutoShape 7"/>
                <p:cNvSpPr/>
                <p:nvPr/>
              </p:nvSpPr>
              <p:spPr>
                <a:xfrm>
                  <a:off x="3092760" y="609480"/>
                  <a:ext cx="3436920" cy="1939320"/>
                </a:xfrm>
                <a:prstGeom prst="hexagon">
                  <a:avLst>
                    <a:gd name="adj" fmla="val 46947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AutoShape 8"/>
                <p:cNvSpPr/>
                <p:nvPr/>
              </p:nvSpPr>
              <p:spPr>
                <a:xfrm>
                  <a:off x="3289320" y="869040"/>
                  <a:ext cx="2949840" cy="1572120"/>
                </a:xfrm>
                <a:prstGeom prst="hexagon">
                  <a:avLst>
                    <a:gd name="adj" fmla="val 46909"/>
                    <a:gd name="vf" fmla="val 115470"/>
                  </a:avLst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Text Box 9"/>
              <p:cNvSpPr/>
              <p:nvPr/>
            </p:nvSpPr>
            <p:spPr>
              <a:xfrm>
                <a:off x="2394720" y="1142280"/>
                <a:ext cx="34358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Павутинка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искусії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искусійна сітка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Алверманн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10"/>
            <p:cNvGrpSpPr/>
            <p:nvPr/>
          </p:nvGrpSpPr>
          <p:grpSpPr>
            <a:xfrm>
              <a:off x="533520" y="1597680"/>
              <a:ext cx="3484440" cy="1887120"/>
              <a:chOff x="533520" y="1597680"/>
              <a:chExt cx="3484440" cy="1887120"/>
            </a:xfrm>
          </p:grpSpPr>
          <p:grpSp>
            <p:nvGrpSpPr>
              <p:cNvPr id="233" name="Group 11"/>
              <p:cNvGrpSpPr/>
              <p:nvPr/>
            </p:nvGrpSpPr>
            <p:grpSpPr>
              <a:xfrm>
                <a:off x="533520" y="1597680"/>
                <a:ext cx="3484440" cy="1887120"/>
                <a:chOff x="533520" y="1597680"/>
                <a:chExt cx="3484440" cy="1887120"/>
              </a:xfrm>
            </p:grpSpPr>
            <p:sp>
              <p:nvSpPr>
                <p:cNvPr id="234" name="AutoShape 12"/>
                <p:cNvSpPr/>
                <p:nvPr/>
              </p:nvSpPr>
              <p:spPr>
                <a:xfrm>
                  <a:off x="657720" y="1697400"/>
                  <a:ext cx="3360240" cy="1787400"/>
                </a:xfrm>
                <a:prstGeom prst="hexagon">
                  <a:avLst>
                    <a:gd name="adj" fmla="val 4699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AutoShape 13"/>
                <p:cNvSpPr/>
                <p:nvPr/>
              </p:nvSpPr>
              <p:spPr>
                <a:xfrm>
                  <a:off x="533520" y="1597680"/>
                  <a:ext cx="3456720" cy="1856160"/>
                </a:xfrm>
                <a:prstGeom prst="hexagon">
                  <a:avLst>
                    <a:gd name="adj" fmla="val 46997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AutoShape 14"/>
                <p:cNvSpPr/>
                <p:nvPr/>
              </p:nvSpPr>
              <p:spPr>
                <a:xfrm>
                  <a:off x="826560" y="1774080"/>
                  <a:ext cx="2953440" cy="1572480"/>
                </a:xfrm>
                <a:prstGeom prst="hexagon">
                  <a:avLst>
                    <a:gd name="adj" fmla="val 46955"/>
                    <a:gd name="vf" fmla="val 115470"/>
                  </a:avLst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Text Box 15"/>
              <p:cNvSpPr/>
              <p:nvPr/>
            </p:nvSpPr>
            <p:spPr>
              <a:xfrm>
                <a:off x="1598040" y="2286360"/>
                <a:ext cx="175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ебат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Займи позицію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16"/>
            <p:cNvGrpSpPr/>
            <p:nvPr/>
          </p:nvGrpSpPr>
          <p:grpSpPr>
            <a:xfrm>
              <a:off x="3078000" y="2580480"/>
              <a:ext cx="3452040" cy="1963080"/>
              <a:chOff x="3078000" y="2580480"/>
              <a:chExt cx="3452040" cy="1963080"/>
            </a:xfrm>
          </p:grpSpPr>
          <p:grpSp>
            <p:nvGrpSpPr>
              <p:cNvPr id="239" name="Group 17"/>
              <p:cNvGrpSpPr/>
              <p:nvPr/>
            </p:nvGrpSpPr>
            <p:grpSpPr>
              <a:xfrm>
                <a:off x="3093120" y="2580480"/>
                <a:ext cx="3436920" cy="1915920"/>
                <a:chOff x="3093120" y="2580480"/>
                <a:chExt cx="3436920" cy="1915920"/>
              </a:xfrm>
            </p:grpSpPr>
            <p:sp>
              <p:nvSpPr>
                <p:cNvPr id="240" name="AutoShape 18"/>
                <p:cNvSpPr/>
                <p:nvPr/>
              </p:nvSpPr>
              <p:spPr>
                <a:xfrm>
                  <a:off x="3121560" y="2611440"/>
                  <a:ext cx="3355560" cy="1788120"/>
                </a:xfrm>
                <a:prstGeom prst="hexagon">
                  <a:avLst>
                    <a:gd name="adj" fmla="val 4691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AutoShape 19"/>
                <p:cNvSpPr/>
                <p:nvPr/>
              </p:nvSpPr>
              <p:spPr>
                <a:xfrm>
                  <a:off x="3093120" y="2580480"/>
                  <a:ext cx="3356280" cy="1788120"/>
                </a:xfrm>
                <a:prstGeom prst="hexagon">
                  <a:avLst>
                    <a:gd name="adj" fmla="val 4692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AutoShape 20"/>
                <p:cNvSpPr/>
                <p:nvPr/>
              </p:nvSpPr>
              <p:spPr>
                <a:xfrm>
                  <a:off x="3289680" y="2688120"/>
                  <a:ext cx="3240360" cy="1808280"/>
                </a:xfrm>
                <a:prstGeom prst="hexagon">
                  <a:avLst>
                    <a:gd name="adj" fmla="val 46889"/>
                    <a:gd name="vf" fmla="val 115470"/>
                  </a:avLst>
                </a:prstGeom>
                <a:gradFill rotWithShape="0">
                  <a:gsLst>
                    <a:gs pos="0">
                      <a:srgbClr val="182f5e"/>
                    </a:gs>
                    <a:gs pos="100000">
                      <a:srgbClr val="3366cc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" name="Text Box 21"/>
              <p:cNvSpPr/>
              <p:nvPr/>
            </p:nvSpPr>
            <p:spPr>
              <a:xfrm>
                <a:off x="3078000" y="2986560"/>
                <a:ext cx="26463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Технологія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розвитку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ритичног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</a:t>
                </a:r>
                <a:r>
                  <a:rPr b="1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мислення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22"/>
            <p:cNvGrpSpPr/>
            <p:nvPr/>
          </p:nvGrpSpPr>
          <p:grpSpPr>
            <a:xfrm>
              <a:off x="5559480" y="1599480"/>
              <a:ext cx="3394080" cy="1887120"/>
              <a:chOff x="5559480" y="1599480"/>
              <a:chExt cx="3394080" cy="1887120"/>
            </a:xfrm>
          </p:grpSpPr>
          <p:grpSp>
            <p:nvGrpSpPr>
              <p:cNvPr id="245" name="Group 23"/>
              <p:cNvGrpSpPr/>
              <p:nvPr/>
            </p:nvGrpSpPr>
            <p:grpSpPr>
              <a:xfrm>
                <a:off x="5559480" y="1599480"/>
                <a:ext cx="3394080" cy="1887120"/>
                <a:chOff x="5559480" y="1599480"/>
                <a:chExt cx="3394080" cy="1887120"/>
              </a:xfrm>
            </p:grpSpPr>
            <p:sp>
              <p:nvSpPr>
                <p:cNvPr id="246" name="AutoShape 24"/>
                <p:cNvSpPr/>
                <p:nvPr/>
              </p:nvSpPr>
              <p:spPr>
                <a:xfrm>
                  <a:off x="5587560" y="1699200"/>
                  <a:ext cx="3358800" cy="1787400"/>
                </a:xfrm>
                <a:prstGeom prst="hexagon">
                  <a:avLst>
                    <a:gd name="adj" fmla="val 4697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AutoShape 25"/>
                <p:cNvSpPr/>
                <p:nvPr/>
              </p:nvSpPr>
              <p:spPr>
                <a:xfrm>
                  <a:off x="5559480" y="1599480"/>
                  <a:ext cx="3394080" cy="1856160"/>
                </a:xfrm>
                <a:prstGeom prst="hexagon">
                  <a:avLst>
                    <a:gd name="adj" fmla="val 4698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AutoShape 26"/>
                <p:cNvSpPr/>
                <p:nvPr/>
              </p:nvSpPr>
              <p:spPr>
                <a:xfrm>
                  <a:off x="5756040" y="1775880"/>
                  <a:ext cx="2952360" cy="1572480"/>
                </a:xfrm>
                <a:prstGeom prst="hexagon">
                  <a:avLst>
                    <a:gd name="adj" fmla="val 46938"/>
                    <a:gd name="vf" fmla="val 115470"/>
                  </a:avLst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Text Box 27"/>
              <p:cNvSpPr/>
              <p:nvPr/>
            </p:nvSpPr>
            <p:spPr>
              <a:xfrm>
                <a:off x="6151320" y="2210040"/>
                <a:ext cx="195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ерево рішень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28"/>
            <p:cNvGrpSpPr/>
            <p:nvPr/>
          </p:nvGrpSpPr>
          <p:grpSpPr>
            <a:xfrm>
              <a:off x="5559480" y="3493080"/>
              <a:ext cx="3396960" cy="1841760"/>
              <a:chOff x="5559480" y="3493080"/>
              <a:chExt cx="3396960" cy="1841760"/>
            </a:xfrm>
          </p:grpSpPr>
          <p:grpSp>
            <p:nvGrpSpPr>
              <p:cNvPr id="251" name="Group 29"/>
              <p:cNvGrpSpPr/>
              <p:nvPr/>
            </p:nvGrpSpPr>
            <p:grpSpPr>
              <a:xfrm>
                <a:off x="5559480" y="3493080"/>
                <a:ext cx="3396960" cy="1841760"/>
                <a:chOff x="5559480" y="3493080"/>
                <a:chExt cx="3396960" cy="1841760"/>
              </a:xfrm>
            </p:grpSpPr>
            <p:sp>
              <p:nvSpPr>
                <p:cNvPr id="252" name="AutoShape 30"/>
                <p:cNvSpPr/>
                <p:nvPr/>
              </p:nvSpPr>
              <p:spPr>
                <a:xfrm>
                  <a:off x="5594400" y="3524040"/>
                  <a:ext cx="3362040" cy="1787760"/>
                </a:xfrm>
                <a:prstGeom prst="hexagon">
                  <a:avLst>
                    <a:gd name="adj" fmla="val 4701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AutoShape 31"/>
                <p:cNvSpPr/>
                <p:nvPr/>
              </p:nvSpPr>
              <p:spPr>
                <a:xfrm>
                  <a:off x="5559480" y="3493080"/>
                  <a:ext cx="3395520" cy="1841760"/>
                </a:xfrm>
                <a:prstGeom prst="hexagon">
                  <a:avLst>
                    <a:gd name="adj" fmla="val 47021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AutoShape 32"/>
                <p:cNvSpPr/>
                <p:nvPr/>
              </p:nvSpPr>
              <p:spPr>
                <a:xfrm>
                  <a:off x="5762880" y="3600720"/>
                  <a:ext cx="2954880" cy="1572480"/>
                </a:xfrm>
                <a:prstGeom prst="hexagon">
                  <a:avLst>
                    <a:gd name="adj" fmla="val 46978"/>
                    <a:gd name="vf" fmla="val 115470"/>
                  </a:avLst>
                </a:prstGeom>
                <a:gradFill rotWithShape="0">
                  <a:gsLst>
                    <a:gs pos="0">
                      <a:srgbClr val="216d4b"/>
                    </a:gs>
                    <a:gs pos="100000">
                      <a:srgbClr val="41d592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" name="Text Box 33"/>
              <p:cNvSpPr/>
              <p:nvPr/>
            </p:nvSpPr>
            <p:spPr>
              <a:xfrm>
                <a:off x="5759640" y="4115520"/>
                <a:ext cx="2590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Твір-п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’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ятихвилинк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есе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Сторітеллін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34"/>
            <p:cNvGrpSpPr/>
            <p:nvPr/>
          </p:nvGrpSpPr>
          <p:grpSpPr>
            <a:xfrm>
              <a:off x="533520" y="3493080"/>
              <a:ext cx="3484800" cy="1841400"/>
              <a:chOff x="533520" y="3493080"/>
              <a:chExt cx="3484800" cy="1841400"/>
            </a:xfrm>
          </p:grpSpPr>
          <p:grpSp>
            <p:nvGrpSpPr>
              <p:cNvPr id="257" name="Group 35"/>
              <p:cNvGrpSpPr/>
              <p:nvPr/>
            </p:nvGrpSpPr>
            <p:grpSpPr>
              <a:xfrm>
                <a:off x="533520" y="3493080"/>
                <a:ext cx="3484800" cy="1841400"/>
                <a:chOff x="533520" y="3493080"/>
                <a:chExt cx="3484800" cy="1841400"/>
              </a:xfrm>
            </p:grpSpPr>
            <p:sp>
              <p:nvSpPr>
                <p:cNvPr id="258" name="AutoShape 36"/>
                <p:cNvSpPr/>
                <p:nvPr/>
              </p:nvSpPr>
              <p:spPr>
                <a:xfrm>
                  <a:off x="533520" y="3524040"/>
                  <a:ext cx="3484800" cy="1810440"/>
                </a:xfrm>
                <a:prstGeom prst="hexagon">
                  <a:avLst>
                    <a:gd name="adj" fmla="val 4698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AutoShape 37"/>
                <p:cNvSpPr/>
                <p:nvPr/>
              </p:nvSpPr>
              <p:spPr>
                <a:xfrm>
                  <a:off x="629640" y="3493080"/>
                  <a:ext cx="3360240" cy="1787760"/>
                </a:xfrm>
                <a:prstGeom prst="hexagon">
                  <a:avLst>
                    <a:gd name="adj" fmla="val 46990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AutoShape 38"/>
                <p:cNvSpPr/>
                <p:nvPr/>
              </p:nvSpPr>
              <p:spPr>
                <a:xfrm>
                  <a:off x="826560" y="3600720"/>
                  <a:ext cx="2953080" cy="1572480"/>
                </a:xfrm>
                <a:prstGeom prst="hexagon">
                  <a:avLst>
                    <a:gd name="adj" fmla="val 46949"/>
                    <a:gd name="vf" fmla="val 115470"/>
                  </a:avLst>
                </a:prstGeom>
                <a:gradFill rotWithShape="0">
                  <a:gsLst>
                    <a:gs pos="0">
                      <a:srgbClr val="0082ad"/>
                    </a:gs>
                    <a:gs pos="100000">
                      <a:srgbClr val="0099cc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Text Box 39"/>
              <p:cNvSpPr/>
              <p:nvPr/>
            </p:nvSpPr>
            <p:spPr>
              <a:xfrm>
                <a:off x="1114200" y="4039200"/>
                <a:ext cx="2081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ола Вен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Шість капелюшків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Group 40"/>
            <p:cNvGrpSpPr/>
            <p:nvPr/>
          </p:nvGrpSpPr>
          <p:grpSpPr>
            <a:xfrm>
              <a:off x="3093120" y="4405680"/>
              <a:ext cx="3436920" cy="1919520"/>
              <a:chOff x="3093120" y="4405680"/>
              <a:chExt cx="3436920" cy="1919520"/>
            </a:xfrm>
          </p:grpSpPr>
          <p:grpSp>
            <p:nvGrpSpPr>
              <p:cNvPr id="263" name="Group 41"/>
              <p:cNvGrpSpPr/>
              <p:nvPr/>
            </p:nvGrpSpPr>
            <p:grpSpPr>
              <a:xfrm>
                <a:off x="3093120" y="4405680"/>
                <a:ext cx="3436920" cy="1919520"/>
                <a:chOff x="3093120" y="4405680"/>
                <a:chExt cx="3436920" cy="1919520"/>
              </a:xfrm>
            </p:grpSpPr>
            <p:sp>
              <p:nvSpPr>
                <p:cNvPr id="264" name="AutoShape 42"/>
                <p:cNvSpPr/>
                <p:nvPr/>
              </p:nvSpPr>
              <p:spPr>
                <a:xfrm>
                  <a:off x="3121560" y="4436640"/>
                  <a:ext cx="3408480" cy="1888560"/>
                </a:xfrm>
                <a:prstGeom prst="hexagon">
                  <a:avLst>
                    <a:gd name="adj" fmla="val 469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AutoShape 43"/>
                <p:cNvSpPr/>
                <p:nvPr/>
              </p:nvSpPr>
              <p:spPr>
                <a:xfrm>
                  <a:off x="3093120" y="4405680"/>
                  <a:ext cx="3356640" cy="1787760"/>
                </a:xfrm>
                <a:prstGeom prst="hexagon">
                  <a:avLst>
                    <a:gd name="adj" fmla="val 4693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AutoShape 44"/>
                <p:cNvSpPr/>
                <p:nvPr/>
              </p:nvSpPr>
              <p:spPr>
                <a:xfrm>
                  <a:off x="3289680" y="4513320"/>
                  <a:ext cx="2949840" cy="1572480"/>
                </a:xfrm>
                <a:prstGeom prst="hexagon">
                  <a:avLst>
                    <a:gd name="adj" fmla="val 46898"/>
                    <a:gd name="vf" fmla="val 11547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РАФТ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роль,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аудиторія,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форма, тема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Text Box 45"/>
              <p:cNvSpPr/>
              <p:nvPr/>
            </p:nvSpPr>
            <p:spPr>
              <a:xfrm>
                <a:off x="4695120" y="4878000"/>
                <a:ext cx="18468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755640" y="214200"/>
            <a:ext cx="74674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ехнологія проекті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ИПИ   ПРОЕКТІ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-152280" y="1066680"/>
            <a:ext cx="4038480" cy="228600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Інформаційні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0" y="4114800"/>
            <a:ext cx="3581280" cy="297180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актичн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рганізаційн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3048120" y="2362320"/>
            <a:ext cx="3429000" cy="28191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годницько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гров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5562720" y="990720"/>
            <a:ext cx="3809880" cy="228600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слідницьк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5562720" y="3809880"/>
            <a:ext cx="3962160" cy="304812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ворч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990720" y="380880"/>
            <a:ext cx="70866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ФОРМАЦІЙНО-КОМП‘ЮТЕРНА  ТЕХНОЛОГІ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457200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6"/>
          <p:cNvSpPr/>
          <p:nvPr/>
        </p:nvSpPr>
        <p:spPr>
          <a:xfrm flipH="1">
            <a:off x="1752480" y="18288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7"/>
          <p:cNvSpPr/>
          <p:nvPr/>
        </p:nvSpPr>
        <p:spPr>
          <a:xfrm>
            <a:off x="4572000" y="18288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380880" y="2057400"/>
            <a:ext cx="3353040" cy="4191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ехніко-демонстраційн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ехнологі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урізноманітне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жерел інформації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наочненн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5105520" y="2057400"/>
            <a:ext cx="3504960" cy="4191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идактичні технолог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ком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ютер-тренажер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петитор, асистен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сіб контролю зна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чнів,і 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0"/>
          <p:cNvSpPr/>
          <p:nvPr/>
        </p:nvSpPr>
        <p:spPr>
          <a:xfrm>
            <a:off x="17524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72388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Технологія розвивального навчанн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762120" y="1676520"/>
            <a:ext cx="7543800" cy="40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Проект уроку-майстерні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дукція (створення емоційного настрою, особистого ставленн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амоконструкція (індивідуальне створення гіпотез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оціалізація (обговорення всіх гіпотез, іде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фішування (представники гіпотез у вигляді малюнків, схем, проектів тощ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ив (усвідомлення учасниками майстерні необхідності пошуку нових іде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флексія (вираження почуттів, емоцій, що виникли на уроці-майстерні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Технологія цілепокладання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99"/>
                </a:solidFill>
                <a:latin typeface="Arial"/>
              </a:rPr>
              <a:t>ДІАГНОСТИКА ЦІЛЕУТВОРЕН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cc0099"/>
                </a:solidFill>
                <a:latin typeface="Arial"/>
              </a:rPr>
              <a:t>ОБ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cc0099"/>
                </a:solidFill>
                <a:latin typeface="Arial"/>
              </a:rPr>
              <a:t>ЄКТИВНИЙ КОНТРОЛЬ ЯКОСТІ ЗАСВОЄНОГО УЧНЕМ НАВЧАЛЬНОГО МАТЕРІА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РОЗВИТОК ОСОБИСТОСТІ В ЦІЛО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Технологія особистісно орієнтованого навчанн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900000" y="1916280"/>
            <a:ext cx="79455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Arial"/>
              </a:rPr>
              <a:t>Головні етап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рієнтаці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значення ме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ектуван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рганізація й виконання плану діяльност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нтроль – корекція – оці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Ігрові технології навчанн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838080" y="1905120"/>
            <a:ext cx="798192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Моделі навчальної г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ІМІТАЦІЙН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ОПЕРАЦІЙН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РОЛЬОВ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СЮЖЕТН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ІГРИ-ЗМАГА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Структура навчальної гр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Ігрова задумка, правила, ігрові дії, дидактичні завдання (пізнавальний зміст), обладнання, результат гр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Система модульного навчанн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Міні-модулі – складові функціонального циклу навчального моду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ЧУТТЄВО-ЕСТЕТИЧ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УСТАНОВЧО-МОТИВАЦІЙ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ЗМІСТОВНО-ПОШУКО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КОНТРОЛЬНО-ЗМІСТО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АДАПТИВНО-ПЕРЕТВОРЮВАЛЬ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СИСТЕМНО-УЗАГАЛЬНЮЮЧ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КОНТРОЛЬНО-РЕФЛЕКСИВ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d4500"/>
                </a:solidFill>
                <a:latin typeface="Arial"/>
              </a:rPr>
              <a:t>ДУХОВНО-ЕСТЕТИЧ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a26d18"/>
                </a:solidFill>
                <a:latin typeface="Times New Roman"/>
              </a:rPr>
              <a:t>«Те, що я чую, я забуваю. Те, що я бачу й чую, я трохи пам’ятаю. Те, що я чую, бачу й обговорюю - я розумію. Коли я передаю знання іншим, я стаю майстром»</a:t>
            </a:r>
            <a:br>
              <a:rPr sz="4400"/>
            </a:b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1337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Конфуці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Технологія </a:t>
            </a:r>
            <a:br>
              <a:rPr sz="4400"/>
            </a:b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евристичного навчання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826920" y="187308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ЦИКЛ ЕВРИСТИЧНОЇ ОСВІТНЬОЇ СИТУАЦІЇ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МОТИВАЦІЯ ДІЯЛЬНОСТІ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ПОСТАНОВКА ПРОБЛЕМИ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ОСОБИСТЕ РОЗВ</a:t>
            </a:r>
            <a:r>
              <a:rPr b="1" lang="en-US" sz="2800" spc="-1" strike="noStrike">
                <a:solidFill>
                  <a:srgbClr val="6d4500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6d4500"/>
                </a:solidFill>
                <a:latin typeface="Arial"/>
              </a:rPr>
              <a:t>ЯЗУВАННЯ ПРОБЛЕМИ УЧАСНИКАМИ СИТУАЦІЇ    ДЕМОНСТРАЦІЯ ОСВІТНІХ ПРОДУКТІВ    ЇХ ПОРІВНЯННЯ З КУЛЬТУРНО-ІСТОРИЧНИМИ АНАЛОГАМИ    РЕФЛЕКСІЯ РЕЗУЛЬТАТІ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Стрелка вправо 4"/>
          <p:cNvSpPr/>
          <p:nvPr/>
        </p:nvSpPr>
        <p:spPr>
          <a:xfrm>
            <a:off x="5997600" y="2438280"/>
            <a:ext cx="750960" cy="40824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ffd05b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5997600" y="2859120"/>
            <a:ext cx="781200" cy="469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2"/>
          <a:stretch/>
        </p:blipFill>
        <p:spPr>
          <a:xfrm>
            <a:off x="5791320" y="3932280"/>
            <a:ext cx="780840" cy="469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3"/>
          <a:stretch/>
        </p:blipFill>
        <p:spPr>
          <a:xfrm>
            <a:off x="6572160" y="5257800"/>
            <a:ext cx="7812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Технологія</a:t>
            </a:r>
            <a:br>
              <a:rPr sz="4400"/>
            </a:b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 проблемного навчанн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ЕТАПИ ДІЯЛЬНОСТ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d4500"/>
                </a:solidFill>
                <a:latin typeface="Arial"/>
              </a:rPr>
              <a:t>Створення проблемних ситуаці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Arial"/>
              </a:rPr>
              <a:t>Збирання й аналіз даних, необхідних для роз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000099"/>
                </a:solidFill>
                <a:latin typeface="Arial"/>
              </a:rPr>
              <a:t>язання проблеми, актуалізація життєвого досві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99"/>
                </a:solidFill>
                <a:latin typeface="Arial"/>
              </a:rPr>
              <a:t>Визначення причинно-наслідкових зв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cc0099"/>
                </a:solidFill>
                <a:latin typeface="Arial"/>
              </a:rPr>
              <a:t>язків, формулювання гіпоте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d4500"/>
                </a:solidFill>
                <a:latin typeface="Arial"/>
              </a:rPr>
              <a:t>Формулювання висновкі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Технологія</a:t>
            </a:r>
            <a:br>
              <a:rPr sz="4400"/>
            </a:b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 сугестивного навчанн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826920" y="1916280"/>
            <a:ext cx="80186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СТРУКТУРА РЕЛАКСОПЕДИЧНОГО УРО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d4500"/>
                </a:solidFill>
                <a:latin typeface="Arial"/>
              </a:rPr>
              <a:t>Попереднє ознайомлення з новим матеріалом, усвідомлення його учнями, формування зорових і слухових зв'язків (5-7 хв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d4500"/>
                </a:solidFill>
                <a:latin typeface="Arial"/>
              </a:rPr>
              <a:t>Уведення учнів у стан релаксації (7-10 хв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d4500"/>
                </a:solidFill>
                <a:latin typeface="Arial"/>
              </a:rPr>
              <a:t>Релаксопедичне засвоєння нової інформації. Створення стійких звукомоторних образів (20-25 хв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d4500"/>
                </a:solidFill>
                <a:latin typeface="Arial"/>
              </a:rPr>
              <a:t>Завершення релаксопедичного  сеансу (“Я вірю в себе!”, “Я гарно запам'ятав матеріал!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d4500"/>
                </a:solidFill>
                <a:latin typeface="Arial"/>
              </a:rPr>
              <a:t>Виведення зі стану релаксації. Виконання письмових завдань для перевірки якості засвоєння матеріалу й творчих завда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605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26d18"/>
                </a:solidFill>
                <a:latin typeface="Times New Roman"/>
              </a:rPr>
              <a:t>Кожен, хто вміє згуртувати навколо себе людей із різними характерами, різними інтересами, може привести їх до успіху і є справжній Майстер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Diagram 2"/>
          <p:cNvGrpSpPr/>
          <p:nvPr/>
        </p:nvGrpSpPr>
        <p:grpSpPr>
          <a:xfrm>
            <a:off x="228600" y="398520"/>
            <a:ext cx="8686440" cy="5828760"/>
            <a:chOff x="228600" y="398520"/>
            <a:chExt cx="8686440" cy="5828760"/>
          </a:xfrm>
        </p:grpSpPr>
        <p:sp>
          <p:nvSpPr>
            <p:cNvPr id="124" name="_s1028"/>
            <p:cNvSpPr/>
            <p:nvPr/>
          </p:nvSpPr>
          <p:spPr>
            <a:xfrm flipV="1">
              <a:off x="3952440" y="398160"/>
              <a:ext cx="1238040" cy="831600"/>
            </a:xfrm>
            <a:custGeom>
              <a:avLst/>
              <a:gdLst>
                <a:gd name="textAreaLeft" fmla="*/ 444240 w 1238040"/>
                <a:gd name="textAreaRight" fmla="*/ 793800 w 1238040"/>
                <a:gd name="textAreaTop" fmla="*/ 298440 h 831600"/>
                <a:gd name="textAreaBottom" fmla="*/ 533160 h 83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5 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лекці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1029"/>
            <p:cNvSpPr/>
            <p:nvPr/>
          </p:nvSpPr>
          <p:spPr>
            <a:xfrm flipV="1">
              <a:off x="3330360" y="1229400"/>
              <a:ext cx="2482200" cy="834120"/>
            </a:xfrm>
            <a:custGeom>
              <a:avLst/>
              <a:gdLst>
                <a:gd name="textAreaLeft" fmla="*/ 545760 w 2482200"/>
                <a:gd name="textAreaRight" fmla="*/ 1936440 w 2482200"/>
                <a:gd name="textAreaTop" fmla="*/ 183240 h 834120"/>
                <a:gd name="textAreaBottom" fmla="*/ 650880 h 8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10 %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читанн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1030"/>
            <p:cNvSpPr/>
            <p:nvPr/>
          </p:nvSpPr>
          <p:spPr>
            <a:xfrm flipV="1">
              <a:off x="2711160" y="2063520"/>
              <a:ext cx="3720600" cy="831240"/>
            </a:xfrm>
            <a:custGeom>
              <a:avLst/>
              <a:gdLst>
                <a:gd name="textAreaLeft" fmla="*/ 645840 w 3720600"/>
                <a:gd name="textAreaRight" fmla="*/ 3074760 w 3720600"/>
                <a:gd name="textAreaTop" fmla="*/ 144360 h 831240"/>
                <a:gd name="textAreaBottom" fmla="*/ 68688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20 %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аудіо-візуальні метод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1031"/>
            <p:cNvSpPr/>
            <p:nvPr/>
          </p:nvSpPr>
          <p:spPr>
            <a:xfrm flipV="1">
              <a:off x="2089080" y="2894760"/>
              <a:ext cx="4964760" cy="834120"/>
            </a:xfrm>
            <a:custGeom>
              <a:avLst/>
              <a:gdLst>
                <a:gd name="textAreaLeft" fmla="*/ 747000 w 4964760"/>
                <a:gd name="textAreaRight" fmla="*/ 4217760 w 4964760"/>
                <a:gd name="textAreaTop" fmla="*/ 125280 h 834120"/>
                <a:gd name="textAreaBottom" fmla="*/ 708840 h 8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30 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демонстрування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1032"/>
            <p:cNvSpPr/>
            <p:nvPr/>
          </p:nvSpPr>
          <p:spPr>
            <a:xfrm flipV="1">
              <a:off x="1469880" y="3729600"/>
              <a:ext cx="6203160" cy="831600"/>
            </a:xfrm>
            <a:custGeom>
              <a:avLst/>
              <a:gdLst>
                <a:gd name="textAreaLeft" fmla="*/ 847080 w 6203160"/>
                <a:gd name="textAreaRight" fmla="*/ 5356080 w 6203160"/>
                <a:gd name="textAreaTop" fmla="*/ 113400 h 831600"/>
                <a:gd name="textAreaBottom" fmla="*/ 718200 h 83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50 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гупові дискусії та обговоренн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1033"/>
            <p:cNvSpPr/>
            <p:nvPr/>
          </p:nvSpPr>
          <p:spPr>
            <a:xfrm flipV="1">
              <a:off x="847080" y="4560840"/>
              <a:ext cx="7448760" cy="834120"/>
            </a:xfrm>
            <a:custGeom>
              <a:avLst/>
              <a:gdLst>
                <a:gd name="textAreaLeft" fmla="*/ 948240 w 7448760"/>
                <a:gd name="textAreaRight" fmla="*/ 6500520 w 7448760"/>
                <a:gd name="textAreaTop" fmla="*/ 106200 h 834120"/>
                <a:gd name="textAreaBottom" fmla="*/ 727920 h 8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00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70 %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дидактичні ігри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_s1034"/>
            <p:cNvSpPr/>
            <p:nvPr/>
          </p:nvSpPr>
          <p:spPr>
            <a:xfrm flipV="1">
              <a:off x="228600" y="5395320"/>
              <a:ext cx="8686440" cy="831240"/>
            </a:xfrm>
            <a:custGeom>
              <a:avLst/>
              <a:gdLst>
                <a:gd name="textAreaLeft" fmla="*/ 1048320 w 8686440"/>
                <a:gd name="textAreaRight" fmla="*/ 7638120 w 8686440"/>
                <a:gd name="textAreaTop" fmla="*/ 100080 h 831240"/>
                <a:gd name="textAreaBottom" fmla="*/ 73116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90 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навчання інши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Rectangle 11"/>
          <p:cNvSpPr/>
          <p:nvPr/>
        </p:nvSpPr>
        <p:spPr>
          <a:xfrm>
            <a:off x="152280" y="914400"/>
            <a:ext cx="3200400" cy="91440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ІРАМІДА  СТУПЕНІ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5791320" y="914400"/>
            <a:ext cx="3200400" cy="83808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СВОЄННЯ  ІНФОРМАЦІ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“</a:t>
            </a: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ТЕХНОЛОГІЯ”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598760"/>
            <a:ext cx="89917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лово грецького походження, означає “знання про майстерність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укупність знань, відомостей про послідовність окремих виробничих операцій у процесі виробництва чого-небуд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укупність способів обробки чи переробки матеріалів, інформації, виготовлення виробів, проведення різних виробничих операцій, надання послуг тощ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Чіткість, конкретні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іагностичність ме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лгоритмізованість та керованість процес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езалежність від су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єктивних чинникі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Гарантованість досягнення поставленої ме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Поняття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“педагогічна технологія”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430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Його варіанти: “освітня технологія”, “технологія навчання (виховання, управління)”, “технологія в навчанні”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 Black"/>
              </a:rPr>
              <a:t>Педагогічна технологія розглядається:</a:t>
            </a:r>
            <a:endParaRPr b="1" lang="en-US" sz="35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09480" y="21333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 сукупність дидактичних прийомів або психолого-педагогічних настанов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а щодо відбору змісту та форм організації навчального процесу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 процесуальна частина дидактичної систем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 модель спільної діяльності учителя та учн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 «систематичний метод планування, застосування, оцінювання всього процесу навчання й засвоєння знань шляхом обліку людських і технічних ресурсів і взаємодії між ними для досягнення найефективнішої форми освіти» (ЮНЕСКО, 1986 р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 системна сукупність і порядок функціонування всіх особистісних, інструментальних, методологічних засобів, використовуваних для досягнення педагогічної мети (М. Кларі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26d18"/>
                </a:solidFill>
                <a:latin typeface="Times New Roman"/>
              </a:rPr>
              <a:t>“</a:t>
            </a:r>
            <a:r>
              <a:rPr b="1" lang="uk-UA" sz="4000" spc="-1" strike="noStrike">
                <a:solidFill>
                  <a:srgbClr val="a26d18"/>
                </a:solidFill>
                <a:latin typeface="Times New Roman"/>
              </a:rPr>
              <a:t>ІННОВАЦІЯ” (від гр. “оновлення”)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Times New Roman"/>
              </a:rPr>
              <a:t>Цілеспрямований процес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Times New Roman"/>
              </a:rPr>
              <a:t>Нововведення, новий підхід до процесу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24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Times New Roman"/>
              </a:rPr>
              <a:t>Результат творчого пошуку оригінальних, нестандартних рішень різноманітних проблем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Інноваційні освітні технології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1598760"/>
            <a:ext cx="852984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інтерактивного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розвитку критичного мисле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оектна технологі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нформаційно-комунікативні технологі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розвивального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цілепоклад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особистісно орієнтованого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грові технології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истема модульного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евристичного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проблемного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хнологія сугестивного навчан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1066680" y="380880"/>
            <a:ext cx="70866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СТАНДАРТНІ   УРО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64832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"/>
          <p:cNvSpPr/>
          <p:nvPr/>
        </p:nvSpPr>
        <p:spPr>
          <a:xfrm flipH="1">
            <a:off x="1599840" y="12952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4648320" y="1295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28600" y="1447920"/>
            <a:ext cx="335268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 із зміненим способ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рганізації (лекції, захист іде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334120" y="1447920"/>
            <a:ext cx="35812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и із трансформаціє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ндартних способі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рганізації (семінар, залі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152280" y="2895480"/>
            <a:ext cx="342900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и п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зані із фантазіє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урок-каз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5410080" y="2895480"/>
            <a:ext cx="35053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и із оригінально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рганізаціє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урок-взаємонавчанн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228600" y="4419720"/>
            <a:ext cx="3581280" cy="99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и, що імітують певний ви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іяльності ( урок-екскурсі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5486400" y="4343400"/>
            <a:ext cx="342900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и-аналогії певних ді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урок-суд, урок-аукціо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152280" y="5715000"/>
            <a:ext cx="358164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и із ігровою змагально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сновою (КВК, брейн-ринг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5562720" y="5715000"/>
            <a:ext cx="335268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и-аналогії з відоми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ормами діяльності (урок-диспут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-прес-конференці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7"/>
          <p:cNvSpPr/>
          <p:nvPr/>
        </p:nvSpPr>
        <p:spPr>
          <a:xfrm>
            <a:off x="160020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9"/>
          <p:cNvSpPr/>
          <p:nvPr/>
        </p:nvSpPr>
        <p:spPr>
          <a:xfrm>
            <a:off x="762012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0"/>
          <p:cNvSpPr/>
          <p:nvPr/>
        </p:nvSpPr>
        <p:spPr>
          <a:xfrm>
            <a:off x="160020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1"/>
          <p:cNvSpPr/>
          <p:nvPr/>
        </p:nvSpPr>
        <p:spPr>
          <a:xfrm>
            <a:off x="160020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2"/>
          <p:cNvSpPr/>
          <p:nvPr/>
        </p:nvSpPr>
        <p:spPr>
          <a:xfrm>
            <a:off x="160020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3"/>
          <p:cNvSpPr/>
          <p:nvPr/>
        </p:nvSpPr>
        <p:spPr>
          <a:xfrm>
            <a:off x="76201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4"/>
          <p:cNvSpPr/>
          <p:nvPr/>
        </p:nvSpPr>
        <p:spPr>
          <a:xfrm>
            <a:off x="76201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762012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228600" y="1447920"/>
            <a:ext cx="335268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рок із зміненим способ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рганізації (лекції, захист іде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9-03-12T18:11:2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