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B5E-4EFE-493E-AD84-24B2B052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789-AB42-4359-93D3-8004512F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A0F-8564-48A4-BBA4-851BB1B6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FD5-863B-4860-98E6-38EDBB97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50C3-0CF0-4EEF-80FD-503CB8A3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EB24-F481-42A6-90D0-C8FBFEC7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4842-8914-46D4-B946-87CCC4C4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D03B-224D-4435-AE07-E0E410EC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33CE-0C7D-4DFD-981F-E9F7E393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A5BC-0C27-4B2B-BB53-E4B2D029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F7E5-A8B9-4E48-B1CD-12E50440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09D-7183-4DBF-AAA4-A1E78F4A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D71B-4A60-4251-947C-9EF660C1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16C5-22E8-4516-A430-FE34C753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3869-1127-4874-8DE8-71C4DB4F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CC4D-5059-4CA6-B0C1-4FDB8EB1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3634-16F6-4295-A9F7-C00223C6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1F540-4537-47DD-8359-9B433E0C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D6348-20CA-423E-A4D0-B1BAF149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03E5E-83E9-48F4-B3CE-0F785360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4F9AB-36B0-4A5C-93B1-E4F95E00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F7A36-F66C-4A76-8450-E6C46DD1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D62D-702A-4E2D-9C26-D16728D3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EDD3E-4F5B-42F4-83F5-9B8C5F56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77B0B-9102-43CB-8058-E8613CE7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2818C-478D-4EDB-B01A-F2CD6826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97CB9-6B67-4275-B251-EF3D58E8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534F1-9F91-4DD1-8379-650226E3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BB96-AB2F-46BC-A641-34DBD6A8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A4F8A-C046-4CDA-BA95-512CF140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8BC77-0027-4FA7-9DA6-A1FDA9F1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83441-0D68-4605-B8E0-319424E5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77415-9B28-40B2-BEEF-A9D46088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3BF-6D94-462B-930E-01B2389C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A45A2-D7F5-41F4-8E4E-7AA362B2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49553-CBB3-44EE-BB0C-01C9126F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75070-3E84-4CF7-85F5-EEC81A6E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CA859-17A7-4619-96CA-69CE6162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5721C-1511-43E6-A32F-9056A945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3B859-0242-4E0A-8BB1-9B895793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AA419-8BBB-4E7A-8055-8CA354BC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7808F-BC76-4025-82AA-AF52895A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9D42A-A919-4D5E-9B83-A8F16F93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7821B-8596-4D1A-9704-B596C0C8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8EEB-E116-44B5-93C8-A9680C1B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87CBF-3F4A-46A7-BAF5-F63FBAAB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5C21B-25C1-414D-AEEE-A5ECCACD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B65BA-E473-4C03-9B87-69952A79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0902F-1FCF-42C6-9A08-D7973C2A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AEAF3-7AE8-428C-97D9-F7B08752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9D95A-71DA-4EF5-84AB-FE053310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E0D63-94F4-440A-B95B-99F23E87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659CE-2F88-475A-AD8F-6167AD23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34186-CC98-4B18-A4BB-839101E6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104BB-BFC0-42BE-9E04-F2883F60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139-3F48-4D61-BDC5-5CA36C40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C8202-4617-465D-A3AD-833FCDCB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DF576-55C9-4FD7-96DC-82BDA6C2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1456F-1D96-4B45-B2E8-A5672F83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0A11A-BA2D-45B1-9D8F-4226AA22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47637-99FD-4E0C-B3FC-ACBA1D4D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EAF4D-F06F-4759-AA86-E4E8F26A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295F8-0AF2-4B4F-B522-7C865671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B9F42-4B60-4E0E-AC9B-8352C7EF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7DDAF-765F-4F38-AF75-4B0DBE01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5E6BD-A948-4125-83DC-7B174B33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339-02F2-430E-9493-09FF5FBE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1DAF5-A861-4F37-8D2D-4F6F299D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B1CE6-6414-4B28-A670-3DCC5AEC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F4791-C638-43A5-A52C-5220AEFD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4076E-95A0-44B0-962E-4785C845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725E7-32BB-455F-B664-09866D5F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AB336-0475-4617-8138-373F4ADF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42529-FAEA-4BBB-90C4-3D434324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F6DA1-A643-4B2B-B2D7-4B0C0CD5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C5FA7-8656-419E-984A-CDC502AD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E1372-CAB3-46A3-B6A1-C5F755FF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4ED-A352-4F10-AFE1-636B198D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545AF-EFD9-4078-A013-7418EA41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86B7E-0588-4775-9A25-1EFC598A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E4477-215A-4920-BBCC-F23F3443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9F1D9-7ACE-44F8-A1F5-A1DF3343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46946-DE02-4B47-8C37-07CD31DF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439F0-BE96-473A-A5C9-9C622296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CDE50-951F-4519-9B90-3420138B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1A318-BD26-416B-A350-F06C4EF0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857F4-FDBE-4493-A58D-8C980A22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75DCF-E448-4B28-BFC6-EC081311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251D-5BB0-4F63-B87A-B27C023A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750D7-0357-41F9-AF41-D62D8020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14831-F100-4AD0-9A2E-8AC80336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D3024-BCDD-4B91-8B2C-35A4BD2F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303F6-87E1-47DA-899A-0C5EC10A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3FD1A-8D88-410E-89B1-89885C33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C8A1E-A105-4DE0-81F6-5494BD8D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FE8F2-48F6-4251-A8AC-685B7B6D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5073-A9CE-4ACF-86AD-126F586EDB44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1206360" y="3648240"/>
            <a:ext cx="975384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1219320" y="5048280"/>
            <a:ext cx="975348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1206360" y="3648240"/>
            <a:ext cx="30492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1219320" y="5048280"/>
            <a:ext cx="30456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8534520" y="6354360"/>
            <a:ext cx="3047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865320" y="6354360"/>
            <a:ext cx="4632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620720" y="6354360"/>
            <a:ext cx="1625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5620-AC0E-496A-8826-F3B760653733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1219320" y="2819520"/>
            <a:ext cx="975348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219320" y="2819520"/>
            <a:ext cx="30456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534520" y="6354360"/>
            <a:ext cx="3047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865320" y="6354360"/>
            <a:ext cx="4632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427040" y="6354360"/>
            <a:ext cx="2027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4D93-C02B-420F-8F26-C22F5537E522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1890-D91B-4B31-96D5-D172BC1F39B8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71F2-C691-4A0E-B5A4-A1914D722DE5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823752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FC3D-2A9E-4CED-8CCD-8CFFECF098B2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609480" y="500040"/>
            <a:ext cx="24444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729D-0495-44B8-8150-ED162AFB01BF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874080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10B4-562F-42A1-8FF3-945FA9C7C84C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69520" y="1128600"/>
            <a:ext cx="10890360" cy="556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464653"/>
                </a:solidFill>
                <a:latin typeface="Cambria"/>
              </a:rPr>
              <a:t>                              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464653"/>
                </a:solidFill>
                <a:latin typeface="Cambria"/>
              </a:rPr>
              <a:t>                                           </a:t>
            </a:r>
            <a:r>
              <a:rPr b="1" lang="uk-UA" sz="1600" spc="-1" strike="noStrike">
                <a:solidFill>
                  <a:srgbClr val="ff3399"/>
                </a:solidFill>
                <a:latin typeface="Cambria"/>
              </a:rPr>
              <a:t>КОРИСНА  ІНФОРМАЦІЯ ДЛЯ УЧАСНИКА ЗНО-2018</a:t>
            </a:r>
            <a:br>
              <a:rPr sz="1600"/>
            </a:br>
            <a:r>
              <a:rPr b="1" lang="uk-UA" sz="1600" spc="-1" strike="noStrike">
                <a:solidFill>
                  <a:srgbClr val="ff3399"/>
                </a:solidFill>
                <a:latin typeface="Cambria"/>
              </a:rPr>
              <a:t> </a:t>
            </a:r>
            <a:br>
              <a:rPr sz="1600"/>
            </a:b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ПРО ТЕРМІН ДІЇ СЕРТИФІКАТІВ ЗОВНІШНЬОГО НЕЗАЛЕЖНОГО ОЦІНЮВАННЯ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Відповідно до Умов прийому на навчання до закладів вищої освіти України в 2018 році приймаються сертифікати зовнішнього незалежного оцінювання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2016, 2017 та 2018</a:t>
            </a: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 років, крім оцінок з англійської, французької, німецької та іспанської мов.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Оцінка з англійської, французької, німецької та іспанської мов приймаються лише з сертифікатів зовнішнього незалежного оцінювання 2018 року.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Вступники можуть подати до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семи заяв</a:t>
            </a: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 на місця державного та регіонального замовлення  не більше ніж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на чотири</a:t>
            </a: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 спеціальності.</a:t>
            </a:r>
            <a:br>
              <a:rPr sz="2000"/>
            </a:b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ПРО МЕДИЧНИЙ НАПРЯМ НАВЧАННЯ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Мінімальні значення кількості балів з вступних випробувань для вступу на основі повної загальної середньої освіти для спеціальностей «Стоматологія», «Медицина», «Педіатрія» галузі знань «Охорона здоров’я» не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менше 150 балів.</a:t>
            </a:r>
            <a:br>
              <a:rPr sz="2000"/>
            </a:b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 ПРО ВИБІР ПРЕДМЕТІВ ДЛЯ РЕЄСТРАЦІЇ НА ЗНО (ДЛЯ ВСТУПУ НА НАВЧАННЯ ДО ВНЗ)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Особливістю вибору предметів на ЗНО-2018 для будь-якої спеціальності є те, що уніфікований Перелік конкурсних предметів вже відомий (Умови прийому на навчання до закладів вищої освіти України в 2018 році, наказ МОНУ від 13.10.2017 року № 1378  Додаток 4). 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Окрім першого обов’язкового конкурсного предмету для усіх спеціальностей та галузей знань – української мови і літератури, у додатку зазначені другий та третій конкурсні предмети з усіх спеціальностей.</a:t>
            </a:r>
            <a:br>
              <a:rPr sz="2000"/>
            </a:b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2"/>
          <p:cNvSpPr/>
          <p:nvPr/>
        </p:nvSpPr>
        <p:spPr>
          <a:xfrm>
            <a:off x="3048120" y="415800"/>
            <a:ext cx="69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ff"/>
                </a:solidFill>
                <a:latin typeface="Arial"/>
              </a:rPr>
              <a:t>КОРИСНА  ІНФОРМАЦІЯ ДЛЯ УЧАСНИКА ЗНО-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3"/>
          <p:cNvSpPr/>
          <p:nvPr/>
        </p:nvSpPr>
        <p:spPr>
          <a:xfrm>
            <a:off x="617400" y="1068480"/>
            <a:ext cx="11020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РО ЗМІСТ СЕРТИФІКАЦІЙНИХ РОБІТ ЗНО-2018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 сайті Українського ЦОЯО оприлюднено характеристики сертифікаційних робіт ЗНО 2018 року.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інено порівняно з 2017 роком кількість завдань в предметах: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збільшен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кількість завдань у тестах фізики (38) й хімії (52);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зменшен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 біології (48), географії (56);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йсуттєвіші зміни відбулися у структурі сертифікаційних робіт з іноземних мов: додано нову частину «Розуміння мови на слух (аудіювання)», суттєво збільшено кількість завдань – 59 (було 43)  і час виконання - 150 хвилин (було 120 хв.), визначено порядок зарахування результатів для визначення оцінки державної підсумкової атестації випускників 2018 року, які вивчали мову на рівні стандарту або академічному та профільному рівні.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іст і складність тестів з усіх предметів ЗНО відповідатиме Програмам зовнішнього незалежного оцінювання (наказ МОНУ від 03.02.2016 № 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4T07:05:18Z</dcterms:created>
  <dc:creator>Валерия А. Ханикова</dc:creator>
  <dc:description/>
  <dc:language>en-US</dc:language>
  <cp:lastModifiedBy>user</cp:lastModifiedBy>
  <dcterms:modified xsi:type="dcterms:W3CDTF">2018-02-27T06:36:36Z</dcterms:modified>
  <cp:revision>106</cp:revision>
  <dc:subject/>
  <dc:title>Особливості ЗНО-2018</dc:title>
</cp:coreProperties>
</file>