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D56E-1053-44CC-9AA7-41F0A1444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D526-8F5A-459F-8D0F-094338DE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AC9B-8589-480B-BD51-24F0A15D0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A49F-4955-47AE-BE91-46622F6EA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B7AF-2EC2-4B71-9A09-868E74CBF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EE6D-0A92-4A86-8E61-DB36DB23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F688-EC05-44EC-8D54-05900B61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F917-9730-4303-BF17-BEF351F9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22CB-720E-43F1-BE3B-E89D5E2D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C2E5-9925-42E6-8EAD-B0E9F401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F781-33F7-4902-BA29-FE04E6D9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43C0-DE60-4029-B4CA-6BB074DC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2FC2-0EAE-4E2E-BAEC-AD5412CE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BA94-D113-41CA-8D56-488ACC67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629F-D31B-467D-9625-7544EBBC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CD2B-63FC-428D-B4A5-90913F13D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EE7D-ED7F-4B5A-9A18-267FE2C98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9B169-1FD8-4C4A-B66E-08BAD34C7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D362E-57C4-4167-80BA-BD92946E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2448B-EB4B-4A13-A446-B09D2EA7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2AF09-547B-4CA1-8D11-2C44AB4C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0827E-477E-4F78-82E4-72C52316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703C-B749-4073-8E50-D6B9A548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BF735-82E7-4DAA-AA97-D7294BF8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1A65C-AC3B-46F6-8745-9F3CC8E6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D14B7-9E28-4C9F-883C-04B215AA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EE3CC-13E5-4741-9354-610B168B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CD93C-F952-4014-A1EE-BECDBCF3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E1CE0-CF3F-422E-8E37-9146F7387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74F12-93F1-4918-97ED-423DD4923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95387-EBEF-4D27-8390-F4D37D433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203D2-F7EE-43D6-B47C-D2001664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4BE2E-2D37-4ACF-9EC6-3C604FCC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65DF-EFCA-431D-8FAA-2DBC92CC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01F1E-72F4-4247-9412-5589108C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89EA9-4334-42C7-B7A3-F0B3E12A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EEEB8-9842-4F97-AC3D-466DBB06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0E2FB-1664-488F-8BE1-DCD5B5F0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A5E2D-57E3-4F38-A045-F0C8DB24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FA8A1-0968-49AB-8BFC-0497D26F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1631B-878C-41C7-8937-BE0238A2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8E756-B26E-4683-8ADE-33E6CE042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8268C-AB7B-40BB-8980-F925971FE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A4666-B1EF-441E-883E-A28E1690C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CBAE-85CE-4D6D-8AEC-E7D3E3D1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E1383-C03D-4826-9E0D-CD9E8B92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9390C-3B8A-4BC5-B8BD-B5861A51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BFD03-9D84-4DC7-B945-09E396AD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AA114-CC5A-4496-B412-A301A6B5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6DB6C-A335-4B57-80B4-9570DF0E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D11BA-51B6-468A-8918-4F6174BB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488AA-4E15-4A52-8C8C-06BBF9CA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9E76E-5F03-4F82-9357-9A07662F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E914D-E8DD-4ACB-BA50-9558100A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6325B-18DB-4AF3-8C04-01A88CB97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6EBB-FAA8-43D3-A7BC-40AF3351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CCC4D-C404-4C4D-A311-1C538BE4D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4CB9A-878F-4BBE-92BE-94F4D520D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D48CE-B1B6-4E5A-B5D1-F617AF93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6D3FE-5DE5-44A2-A05A-509DDD3B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1A852-C538-4BF2-A362-46337FF3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3978C-C73B-4AB3-9916-2436071E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C5DC6-0807-4359-A2D1-C05A6A9D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D7568-8936-4B35-8281-433EE464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A708E-0C59-4D35-85F8-91261EEB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0CB29-EEAA-46E3-8516-A76264FC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49F4-41C6-4C65-8C93-7A6095F9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87010-0B69-4AE1-BA47-E26F7D38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FA114-4717-4901-B715-EF5D14CE3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51BB8-ADD6-423C-8A0A-94CE6FC17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32CE0-98FA-4B41-B565-43B2B2CB9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E695A-EFE9-41BB-85B5-E3956183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4EC25-3FE1-4168-927E-35B412BD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06F8C-1E67-4664-A448-E670F209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4C9C1-94E2-4C5B-84D9-4A312795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78B56-10A3-4DAB-A8DD-67D34F90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DB102-9A8E-4B01-8742-BB4A7E00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E8E4-1533-4435-AA27-BF60FBEE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61BA3-8CF5-4E7B-A89E-45FDEF14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D750C-1670-4031-B964-E6D8F35E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9C16F-5EB3-4F6C-B50A-70BADDF4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38323-57EB-4B7B-965B-C45BA44C9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3663B-C0E8-4B1A-A4C6-3FA579E8E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64FFE-557A-478E-96FE-85EC44612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AD40F-1481-4424-9DFA-07391875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BF580-4FF7-48E7-9817-84073A40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8EE50-299C-40B5-A56A-6DDF14F2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E26C5-67AD-4956-91BF-C00005B6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599D-B618-4888-8369-66F9DD6F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EC761-6C5C-482A-9D84-6974F477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5DDD7-E626-43C4-BE31-7C03A89A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36C48-AB32-4FAC-BBC8-1D65A9E8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7234C-66FB-4519-A89F-C8C25A18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DA079-6C9B-4FC9-ACA4-C8D22232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7F490-16AA-4921-9305-777BACB86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1AF76-79EA-493B-88D0-D04EF27D6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126A-F5D3-41B5-86BC-E5673F1D40BE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609480" y="114300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591120" y="6447600"/>
            <a:ext cx="190440" cy="1602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1206360" y="3648240"/>
            <a:ext cx="975384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1219320" y="5048280"/>
            <a:ext cx="975348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1206360" y="3648240"/>
            <a:ext cx="30492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1219320" y="5048280"/>
            <a:ext cx="30456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8534520" y="6354360"/>
            <a:ext cx="3047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865320" y="6354360"/>
            <a:ext cx="4632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620720" y="6354360"/>
            <a:ext cx="1625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7E78-A9C6-4EE6-828A-CE87149ECBE8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1219320" y="2819520"/>
            <a:ext cx="975348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219320" y="2819520"/>
            <a:ext cx="30456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534520" y="6354360"/>
            <a:ext cx="3047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865320" y="6354360"/>
            <a:ext cx="4632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427040" y="6354360"/>
            <a:ext cx="2027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A825-4342-4A3C-9767-236CBA7BADDB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609480" y="114300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591120" y="6447600"/>
            <a:ext cx="190440" cy="1602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591120" y="6447600"/>
            <a:ext cx="190440" cy="1602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56C8-2EFB-438D-A26E-A7E9AA598797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591120" y="6447600"/>
            <a:ext cx="190440" cy="1602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4F4B-D43D-4BC6-8273-CD549D481BE4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823752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591120" y="6447600"/>
            <a:ext cx="190440" cy="1602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5557-F2EB-4341-B008-C26C80FD51E4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591120" y="6447600"/>
            <a:ext cx="190440" cy="1602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609480" y="500040"/>
            <a:ext cx="24444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473E-EE29-4E50-866F-A84CD811F760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591120" y="6447600"/>
            <a:ext cx="190440" cy="1602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874080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9D29-0C1D-422D-BDDB-DFE812EED753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69520" y="1128600"/>
            <a:ext cx="10890360" cy="556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uk-UA" sz="1600" spc="-1" strike="noStrike">
                <a:solidFill>
                  <a:srgbClr val="464653"/>
                </a:solidFill>
                <a:latin typeface="Cambria"/>
              </a:rPr>
              <a:t>                              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uk-UA" sz="1600" spc="-1" strike="noStrike">
                <a:solidFill>
                  <a:srgbClr val="464653"/>
                </a:solidFill>
                <a:latin typeface="Cambria"/>
              </a:rPr>
              <a:t>                                           </a:t>
            </a:r>
            <a:r>
              <a:rPr b="1" lang="uk-UA" sz="1600" spc="-1" strike="noStrike">
                <a:solidFill>
                  <a:srgbClr val="ff3399"/>
                </a:solidFill>
                <a:latin typeface="Cambria"/>
              </a:rPr>
              <a:t>КОРИСНА  ІНФОРМАЦІЯ ДЛЯ УЧАСНИКА ЗНО-2018</a:t>
            </a:r>
            <a:br>
              <a:rPr sz="1600"/>
            </a:br>
            <a:r>
              <a:rPr b="1" lang="uk-UA" sz="1600" spc="-1" strike="noStrike">
                <a:solidFill>
                  <a:srgbClr val="ff3399"/>
                </a:solidFill>
                <a:latin typeface="Cambria"/>
              </a:rPr>
              <a:t> </a:t>
            </a:r>
            <a:br>
              <a:rPr sz="1600"/>
            </a:br>
            <a:r>
              <a:rPr b="1" lang="uk-UA" sz="2000" spc="-1" strike="noStrike">
                <a:solidFill>
                  <a:srgbClr val="464653"/>
                </a:solidFill>
                <a:latin typeface="Arial Narrow"/>
              </a:rPr>
              <a:t>ПРО ТЕРМІН ДІЇ СЕРТИФІКАТІВ ЗОВНІШНЬОГО НЕЗАЛЕЖНОГО ОЦІНЮВАННЯ</a:t>
            </a:r>
            <a:br>
              <a:rPr sz="2000"/>
            </a:b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Відповідно до Умов прийому на навчання до закладів вищої освіти України в 2018 році приймаються сертифікати зовнішнього незалежного оцінювання </a:t>
            </a:r>
            <a:r>
              <a:rPr b="1" lang="uk-UA" sz="2000" spc="-1" strike="noStrike">
                <a:solidFill>
                  <a:srgbClr val="464653"/>
                </a:solidFill>
                <a:latin typeface="Arial Narrow"/>
              </a:rPr>
              <a:t>2016, 2017 та 2018</a:t>
            </a: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 років, крім оцінок з англійської, французької, німецької та іспанської мов.</a:t>
            </a:r>
            <a:br>
              <a:rPr sz="2000"/>
            </a:b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Оцінка з англійської, французької, німецької та іспанської мов приймаються лише з сертифікатів зовнішнього незалежного оцінювання 2018 року.</a:t>
            </a:r>
            <a:br>
              <a:rPr sz="2000"/>
            </a:b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Вступники можуть подати до </a:t>
            </a:r>
            <a:r>
              <a:rPr b="1" lang="uk-UA" sz="2000" spc="-1" strike="noStrike">
                <a:solidFill>
                  <a:srgbClr val="464653"/>
                </a:solidFill>
                <a:latin typeface="Arial Narrow"/>
              </a:rPr>
              <a:t>семи заяв</a:t>
            </a: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 на місця державного та регіонального замовлення  не більше ніж </a:t>
            </a:r>
            <a:r>
              <a:rPr b="1" lang="uk-UA" sz="2000" spc="-1" strike="noStrike">
                <a:solidFill>
                  <a:srgbClr val="464653"/>
                </a:solidFill>
                <a:latin typeface="Arial Narrow"/>
              </a:rPr>
              <a:t>на чотири</a:t>
            </a: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 спеціальності.</a:t>
            </a:r>
            <a:br>
              <a:rPr sz="2000"/>
            </a:br>
            <a:r>
              <a:rPr b="1" lang="uk-UA" sz="2000" spc="-1" strike="noStrike">
                <a:solidFill>
                  <a:srgbClr val="464653"/>
                </a:solidFill>
                <a:latin typeface="Arial Narrow"/>
              </a:rPr>
              <a:t>ПРО МЕДИЧНИЙ НАПРЯМ НАВЧАННЯ</a:t>
            </a:r>
            <a:br>
              <a:rPr sz="2000"/>
            </a:b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Мінімальні значення кількості балів з вступних випробувань для вступу на основі повної загальної середньої освіти для спеціальностей «Стоматологія», «Медицина», «Педіатрія» галузі знань «Охорона здоров’я» не </a:t>
            </a:r>
            <a:r>
              <a:rPr b="1" lang="uk-UA" sz="2000" spc="-1" strike="noStrike">
                <a:solidFill>
                  <a:srgbClr val="464653"/>
                </a:solidFill>
                <a:latin typeface="Arial Narrow"/>
              </a:rPr>
              <a:t>менше 150 балів.</a:t>
            </a:r>
            <a:br>
              <a:rPr sz="2000"/>
            </a:br>
            <a:r>
              <a:rPr b="1" lang="uk-UA" sz="2000" spc="-1" strike="noStrike">
                <a:solidFill>
                  <a:srgbClr val="464653"/>
                </a:solidFill>
                <a:latin typeface="Arial Narrow"/>
              </a:rPr>
              <a:t> ПРО ВИБІР ПРЕДМЕТІВ ДЛЯ РЕЄСТРАЦІЇ НА ЗНО (ДЛЯ ВСТУПУ НА НАВЧАННЯ ДО ВНЗ)</a:t>
            </a:r>
            <a:br>
              <a:rPr sz="2000"/>
            </a:b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Особливістю вибору предметів на ЗНО-2018 для будь-якої спеціальності є те, що уніфікований Перелік конкурсних предметів вже відомий (Умови прийому на навчання до закладів вищої освіти України в 2018 році, наказ МОНУ від 13.10.2017 року № 1378  Додаток 4). </a:t>
            </a:r>
            <a:br>
              <a:rPr sz="2000"/>
            </a:b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Окрім першого обов’язкового конкурсного предмету для усіх спеціальностей та галузей знань – української мови і літератури, у додатку зазначені другий та третій конкурсні предмети з усіх спеціальностей.</a:t>
            </a:r>
            <a:br>
              <a:rPr sz="2000"/>
            </a:br>
            <a:endParaRPr b="0" lang="en-US" sz="2000" spc="-1" strike="noStrike">
              <a:solidFill>
                <a:srgbClr val="464653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оугольник 2"/>
          <p:cNvSpPr/>
          <p:nvPr/>
        </p:nvSpPr>
        <p:spPr>
          <a:xfrm>
            <a:off x="3048120" y="415800"/>
            <a:ext cx="69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ff"/>
                </a:solidFill>
                <a:latin typeface="Arial"/>
              </a:rPr>
              <a:t>КОРИСНА  ІНФОРМАЦІЯ ДЛЯ УЧАСНИКА ЗНО-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3"/>
          <p:cNvSpPr/>
          <p:nvPr/>
        </p:nvSpPr>
        <p:spPr>
          <a:xfrm>
            <a:off x="617400" y="1068480"/>
            <a:ext cx="11020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РО ЗМІСТ СЕРТИФІКАЦІЙНИХ РОБІТ ЗНО-2018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 сайті Українського ЦОЯО оприлюднено характеристики сертифікаційних робіт ЗНО 2018 року.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мінено порівняно з 2017 роком кількість завдань в предметах: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збільшено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кількість завдань у тестах фізики (38) й хімії (52);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зменшено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-  біології (48), географії (56);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йсуттєвіші зміни відбулися у структурі сертифікаційних робіт з іноземних мов: додано нову частину «Розуміння мови на слух (аудіювання)», суттєво збільшено кількість завдань – 59 (було 43)  і час виконання - 150 хвилин (було 120 хв.), визначено порядок зарахування результатів для визначення оцінки державної підсумкової атестації випускників 2018 року, які вивчали мову на рівні стандарту або академічному та профільному рівні.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міст і складність тестів з усіх предметів ЗНО відповідатиме Програмам зовнішнього незалежного оцінювання (наказ МОНУ від 03.02.2016 № 7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4T07:05:18Z</dcterms:created>
  <dc:creator>Валерия А. Ханикова</dc:creator>
  <dc:description/>
  <dc:language>en-US</dc:language>
  <cp:lastModifiedBy>user</cp:lastModifiedBy>
  <dcterms:modified xsi:type="dcterms:W3CDTF">2018-02-27T06:36:36Z</dcterms:modified>
  <cp:revision>106</cp:revision>
  <dc:subject/>
  <dc:title>Особливості ЗНО-2018</dc:title>
</cp:coreProperties>
</file>