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846-B06F-4F29-8DBA-1D65F653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572-0ACC-4C06-87BA-C1D2897E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C60-5323-44C8-9508-BAE80480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6AD-D7B7-450B-98DB-02DD7AF0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EC9B-065F-48F0-9904-4FB95FB1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2FB-BEEA-4C35-A292-5E1D00C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DBF0-5CAE-4563-8D41-C90A3729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114-9007-4344-8A33-459D60B5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5723-03FD-46F0-BEDA-D4023C20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9CF9-A718-4D20-AF0E-3CF3F02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CD8D-4E7C-4F0D-BC1E-8B5C370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A31-CD65-498B-BCC3-B282A02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898-207C-4924-B161-AB43FA4B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B652-A8B9-4907-A4A2-78972B3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4AD5-D012-4928-87A8-36BAA91C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759-D119-4F8C-B026-59D26A61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2A44-358F-40CB-94FA-72FF7DA3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1266-21DF-46E3-A642-53F2FBC8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9325-22AF-4EEE-AF81-FC42283F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1737-1435-4E57-9985-9D2C3327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F18B-9013-4F83-B587-EAB76FB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0759-17FF-4EB0-BEEA-1DBF973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C0E-EAC0-4B3E-98F0-810038EB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31A4-A777-4A3D-91F1-24596E0F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2E0A-2B9A-440E-8A54-89B62AA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108B-4A96-40B6-832A-67FA7ED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9BA7-6606-4BE0-A34D-B60F8FC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DFC8-599A-4082-B43E-E584D072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1B6C-9392-4D71-BD2A-BA535C89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628A-23FA-4694-9601-D6F2DA74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0F915-884B-4D90-8E1E-2B37BDBE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EDE3-DE48-4F38-BC19-933A0773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CC1E-B732-4D5C-A18E-F3B75B7E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698-4B46-4537-AD15-0FDCCAA9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070E-911A-4C65-AA2B-F674D7F1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BEC0-701F-419E-84F8-237C75C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5B159-B3C0-482A-87D5-40DAB5F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947F-2AFC-4935-8361-4D86AE5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9E93-7CE6-4A9D-9E18-3BF4F40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938E-A5B8-4940-9498-14B2B51A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E006-824C-4F74-A3AB-3024CFD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E040-4A0D-42E8-A8E9-648C0D05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031B-9B18-4E4E-95CB-DFA6BF23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780E-7C36-4C03-A517-02D78471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ED6-8646-4A7C-87CF-AD2F695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F757-CB61-4BEF-AF8F-FDD40B64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9F9E-C056-4CA5-A63E-1B43658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2C81-06CA-4299-8023-17E4AAD4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0B5F-2C7A-4C56-B6BF-C5C4526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8DBB-0FA5-4372-9D16-549F91CE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3227-1768-428E-BE48-AB88147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9CDD-AB06-424A-9254-0A8FC83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D7B7-5267-4740-8C54-95EBD65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D8B1-46A9-428F-BF89-DCC52E5E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7D54-A7DA-45A8-96CA-47D8D844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845-3575-401C-BA91-1028EDA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4EB0-9BB5-4167-98C2-6A37340D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87FD-DEA8-4F57-82A8-84E64F06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DF147-D0F6-4719-A356-E148DABC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C584-2A2D-4552-A307-5D817E1D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9DC8-555F-41BB-86C4-D57F9E7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BF107-12AB-47E3-8736-4D3F63B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2163-49A4-4D80-A758-F469D9D5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31E4-F80A-4B59-B8EB-DD6F9823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24F2-C74B-4C90-B86A-7EB78AF0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9F93-57F2-47E5-8D84-6A5394A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10B-ED40-4163-A618-451BCFC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B6285-764B-4DC2-B209-1808ED2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12482-E2C0-4366-A641-E1F40558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1DB0-E5A9-4CFD-9700-25D8272D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599AB-2385-47D8-AFBE-144FBA17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D388-FFCB-4050-8838-9FE9EC2A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20D6-3E2A-4528-BE0E-CED76D2B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0E9A-687E-4A1A-8730-827325A4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903FC-21C2-40B5-BE0B-2A729A0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6ABB4-AF78-4A76-ADA1-9AD4F05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A501-D247-4198-A2B8-0A5255B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D71-DC8C-44CC-90C6-6C20237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2F72-5122-4398-A683-EF0E16BC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D1C0-79EA-464D-A29E-D4E32CD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C9EAB-B544-41B2-9797-6B3E8EBC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6890-EA4F-459D-8ABD-A1CF53DD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AEA4-365A-418C-BF97-E5344D3D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8AC07-F931-4F8A-8121-8B11549F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8F7C-5A22-4DEA-A131-F111548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62EC-220B-4370-AF8C-7B8A2436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E851-B920-4D14-A491-B490ECA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CCD45-1B60-472E-B62F-670A824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F9E-0466-4E00-8055-966F20B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80176-4CD0-48EB-B99C-B904AAC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903E-97CE-48FA-B2A1-34EB7B9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3F99F-75F7-4137-8467-078B84B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6949-0238-42AB-9B23-0A913AA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BB87-FAA9-4CB3-A47C-0E4188F8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1CB9-B519-48C0-BFA7-A3A0156A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51F6C-A620-46B2-B516-3389B8C6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EBD6-B2CB-414A-9AD8-0FAE0EB70A4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3FE-9893-4910-A333-FC9E91F735E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CD1-0EB0-44BF-99B8-86483E35364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76EC-601C-4D89-99DF-A50E96DDA3D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36C-5BD0-451C-A53C-52A2BB705EE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733-52C4-4BFE-9DC8-DFBEABED6CA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609480" y="500040"/>
            <a:ext cx="24444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0134-70D3-4C15-ADE2-03C9CF098C8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874080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FFCF-1C4D-4ED2-99EB-E7450ED4ED1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9520" y="1128600"/>
            <a:ext cx="10890360" cy="55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           </a:t>
            </a: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КОРИСНА  ІНФОРМАЦІЯ ДЛЯ УЧАСНИКА ЗНО-2018</a:t>
            </a:r>
            <a:br>
              <a:rPr sz="1600"/>
            </a:b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 </a:t>
            </a:r>
            <a:br>
              <a:rPr sz="16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ТЕРМІН ДІЇ СЕРТИФІКАТІВ ЗОВНІШНЬОГО НЕЗАЛЕЖНОГО ОЦІНЮВ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ідповідно до Умов прийому на навчання до закладів вищої освіти України в 2018 році приймаються сертифікати зовнішнього незалежного оцінювання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2016, 2017 та 2018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років, крім оцінок з англійської, французької, німецької та іспанської мов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цінка з англійської, французької, німецької та іспанської мов приймаються лише з сертифікатів зовнішнього незалежного оцінювання 2018 року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ступники можуть подати до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семи заяв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на місця державного та регіонального замовлення  не більше ніж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на чотири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спеціальності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МЕДИЧНИЙ НАПРЯМ НАВЧ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Мінімальні значення кількості балів з вступних випробувань для вступу на основі повної загальної середньої освіти для спеціальностей «Стоматологія», «Медицина», «Педіатрія» галузі знань «Охорона здоров’я» не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менше 150 балів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 ПРО ВИБІР ПРЕДМЕТІВ ДЛЯ РЕЄСТРАЦІЇ НА ЗНО (ДЛЯ ВСТУПУ НА НАВЧАННЯ ДО ВНЗ)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собливістю вибору предметів на ЗНО-2018 для будь-якої спеціальності є те, що уніфікований Перелік конкурсних предметів вже відомий (Умови прийому на навчання до закладів вищої освіти України в 2018 році, наказ МОНУ від 13.10.2017 року № 1378  Додаток 4). 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крім першого обов’язкового конкурсного предмету для усіх спеціальностей та галузей знань – української мови і літератури, у додатку зазначені другий та третій конкурсні предмети з усіх спеціальностей.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048120" y="415800"/>
            <a:ext cx="69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КОРИСНА  ІНФОРМАЦІЯ ДЛЯ УЧАСНИКА ЗНО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617400" y="1068480"/>
            <a:ext cx="1102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 ЗМІСТ СЕРТИФІКАЦІЙНИХ РОБІТ ЗНО-2018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айті Українського ЦОЯО оприлюднено характеристики сертифікаційних робіт ЗНО 2018 року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ено порівняно з 2017 роком кількість завдань в предметах: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біль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ількість завдань у тестах фізики (38) й хімії (52);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мен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біології (48), географії (56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суттєвіші зміни відбулися у структурі сертифікаційних робіт з іноземних мов: додано нову частину «Розуміння мови на слух (аудіювання)», суттєво збільшено кількість завдань – 59 (було 43)  і час виконання - 150 хвилин (було 120 хв.), визначено порядок зарахування результатів для визначення оцінки державної підсумкової атестації випускників 2018 року, які вивчали мову на рівні стандарту або академічному та профільному рівні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і складність тестів з усіх предметів ЗНО відповідатиме Програмам зовнішнього незалежного оцінювання (наказ МОНУ від 03.02.2016 №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5:18Z</dcterms:created>
  <dc:creator>Валерия А. Ханикова</dc:creator>
  <dc:description/>
  <dc:language>en-US</dc:language>
  <cp:lastModifiedBy>user</cp:lastModifiedBy>
  <dcterms:modified xsi:type="dcterms:W3CDTF">2018-02-27T06:36:36Z</dcterms:modified>
  <cp:revision>106</cp:revision>
  <dc:subject/>
  <dc:title>Особливості ЗНО-2018</dc:title>
</cp:coreProperties>
</file>