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135-5E9D-4136-A335-945214FA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62E-5F6C-4BDB-94AC-D33D80F5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B16-81D2-4E24-B428-4183D488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C7-9737-478F-A8EA-C29FB86E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8E7D-6160-45ED-8CAD-CF84C60B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835-3851-4A53-9832-8EB296E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F9D0-01D2-4F74-B171-5829828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A43B-5623-4AB4-94F8-024A1AA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15D-E8D7-4BE9-916D-2731BAC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131-53F5-441C-9E8C-6B85F800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AFFD-F944-4A88-9A0E-C4E81E8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F36-10F2-4F5E-9DA1-D547490F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779E-450D-496B-9DEA-F3367C3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B3D0-9725-471D-B02A-7C215DF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0DB-D375-47D7-B194-0B13FB4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AAD-21E7-4588-8C4C-18836D9F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4B7B-670F-40B5-9456-9F02C6D6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647-9F64-4D6D-98B0-7638D4A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067-6214-43D2-9F5D-12D7A09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0C4-EC37-4AFF-8749-BE57D240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06F-3D59-4FF4-A694-06A566BA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518-A04F-4841-BC5A-E1B6B61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B61-984F-4769-92A7-8A4B8A0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688-F182-491D-8126-70E95D7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B7B-0539-4FB8-904A-4F3383A6ED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628-C233-4797-93C5-3EEC95334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Verdana"/>
              </a:rPr>
              <a:t>Шкільний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 семінар-практику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Інноваційне середовище навчального заклад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у форматі Концепції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Нова українська школ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Засідання № 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«Професійна компетентність вчите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як передумо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Verdana"/>
              </a:rPr>
              <a:t>творчого розвитку особистості учн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етод “Джигсоу”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Фрейм-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Професійна компетентність вчителя як передумова творчого розвитку особистості учня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Етапи 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теріалу для спостереження і спонукання до самостійного її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будови плану розв'язан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улювання розв'язку або пояснення проблем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ного застосування сформульованих положень (джигсоу-презентаці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Роз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язання проблем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НОУ-ХА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БЛЕМНЕ ПИТАНН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(РОБОТА У РОТАЦІЙНИХ ТРІЙКАХ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офесійна компетентність вчител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ворчий розвиток учнів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860640"/>
            <a:ext cx="485640" cy="1214640"/>
          </a:xfrm>
          <a:prstGeom prst="upDownArrow">
            <a:avLst>
              <a:gd name="adj1" fmla="val 50000"/>
              <a:gd name="adj2" fmla="val 4979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і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остереження і спонуканн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 самостійного розв'язання пробл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3141360"/>
            <a:ext cx="795636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новацій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езентація “Інформаційно-комунікативні технології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000000"/>
                </a:solidFill>
                <a:uFillTx/>
                <a:latin typeface="Verdana"/>
              </a:rPr>
              <a:t>Техніка “Брунькування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ідсумкова прес-конференція «Робота МОН: підсумки 2018-го/візія 2019-го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Практичне застосування</a:t>
            </a:r>
            <a:r>
              <a:rPr b="1" lang="ru-RU" sz="3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сформульованих положень (джигсоу-презентаці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ючові компоненти професійної            компетентності педагогічного працівника, якими він повинен володіти для розвитку власної професійної майстерності та творчих здібностей здобувачів освіти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028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Інформацій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яка передбачає володіння інформаційними технологіями, уміння опрацьовувати різні види інформації. Серед них уміння й навички роботи з друкованими джерелами, уміння здобувати інформацію з інших джерел, переробляти її відповідно до цілей і завдань педагогічного процес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Комуніка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вступати в комунікацію (спілкування), бути зрозумілим, спілкування без обмежень. Ці вміння допомагають зрозуміти інших (учнів, учителів, батькі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 Продуктив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, отримувати результат, ухвалювати рішення та відповідати за них. Більшість науковців серед ключових компетенцій учителя на перше місце ставить саме продуктивну компетент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 Автономізація 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до саморозвитку, творчості, самовизначення, самоосвіти, конкурентоспроможність. Адже вчитель перш за все вчиться сам, це вічний учен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 Мор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готовність, спроможність і потреба жити за традиційними моральними норм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. Психологі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здатність використовувати психологічні засоби навчання в організації взаємодії в освітній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. Предмет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до змісту якої входить володіння певними засобами навчання у сфері навчального процесу (спеціальність). Це сукупність умінь і навичок, необхідних для стимулювання активності як окремих учнів, так і колективу в цілому. До неї входять уміння вибирати правильний стиль і тон у спілкуванні, управляти їх увагою, темпом діяльності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. Соціаль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жити та працювати з оточуючи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. Математична компетентніс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- це вміння працювати з числом, числовою інформаціє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. Особисті якості вчител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(це теж одна з найголовніших складових професійної компетентності) - доброзичливість, чуйність, урівноваженість, витонченість, толерантність, рефлексія, людяніст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Verdana"/>
              </a:rPr>
              <a:t>Основні показники педагогічної компетентності вчителя - це передусім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обистісні якості, особливо перетворювальні та психологіч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відомлення ролі педагога у вихованні громадянина, патріот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езперервне підвищення загальної та професійної культур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шукова діяльність педагог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лодіння методами педагогічного дослідженн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струювання власного педагогічного досвід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зультативність навчально-виховного процес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тивна педагогічна діяльність, спрямована на перетворення особистості учня й учител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Основними проблемами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, </a:t>
            </a:r>
            <a:br>
              <a:rPr sz="2000"/>
            </a:br>
            <a:r>
              <a:rPr b="1" lang="ru-RU" sz="2000" spc="-1" strike="noStrike" u="sng">
                <a:solidFill>
                  <a:srgbClr val="336699"/>
                </a:solidFill>
                <a:uFillTx/>
                <a:latin typeface="Verdana"/>
              </a:rPr>
              <a:t>з якими зустрічаються вчителі в цьому тисячолітті, є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стійне ускладнення змісту освіти, гарантування високого рівня освітніх стандарті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складнення проблем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езперервне оволодіння прогресивними технологіями навчання й вихова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зв’язання складних професійно-педагогічних проблем, які вимагають інтеграції знань, практичних умінь і навичок з таких суміжних з педагогікою наук, як філософія, психологія, медицина, економіка, кібернетика та ін.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обота в єдиному інформаційному середовищі, що передбачає раціональне використання інформаційних технологій у навчально-виховному процесі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660066"/>
                </a:solidFill>
                <a:uFillTx/>
                <a:latin typeface="Verdana"/>
              </a:rPr>
              <a:t>Усе це може здійснювати тільки вчитель з високою професійною компетентністю, розвиненими творчими здібностями, високим рівнем інтелігентності, ерудованості, здібностей до неперервної осві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20:19:06Z</dcterms:created>
  <dc:creator>Пользователь</dc:creator>
  <dc:description/>
  <dc:language>en-US</dc:language>
  <cp:lastModifiedBy>Пользователь</cp:lastModifiedBy>
  <dcterms:modified xsi:type="dcterms:W3CDTF">2019-03-13T20:41:28Z</dcterms:modified>
  <cp:revision>8</cp:revision>
  <dc:subject/>
  <dc:title>Фрейм-проблема</dc:title>
</cp:coreProperties>
</file>