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96A-4BB7-4802-9500-5F1CEEE5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4F8-0FA9-468A-A1DC-51E3D45D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245-0621-4FBB-89E6-22826D24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1F5-CE41-413A-9610-BE670146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7A71-005B-4900-971D-14D1C4B9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E58B-BCE9-4532-8C67-E2DE357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BE93-3582-461A-8449-EFB95B43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94A2-5F45-4E7E-A101-470D439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2A67-E6E2-498B-B069-F387142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06C0-FE40-4DD9-97F9-6B3DD713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328A-71E6-4E26-851C-8A06B8B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947-43B0-44A3-B59B-7BD64584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7C05-5E5C-427D-A6E1-C6B6208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8E9C-D676-4E81-B533-2AEA850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B9A9-76A6-4CDA-A4A5-9DEF06D3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A331-3BBD-4610-B035-34BE4785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66BE-A8DB-4B0B-B863-F1E16E97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EE6-8307-4719-A7CD-26E14B9C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2C0-80A2-438F-8B06-39E0D809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0BD-E4A7-42FA-BFD7-035A9BE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688-47DD-4161-9D42-C17AE2ED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A7D-CFB0-4ADD-A8BC-12FE8303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68B-7427-46C8-A6EA-0D71AABD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19F-3876-4A16-9A4B-5D3B339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1A3-25BF-418A-A1B8-3DB4506023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974-E627-4DF9-9AAA-F52843814C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66"/>
                </a:solidFill>
                <a:latin typeface="Verdana"/>
              </a:rPr>
              <a:t>Шкільний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семінар-практику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Інноваційне середовище навчального заклад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у форматі Концепції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Нова українська школ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Засідання № 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Професійна компетентність вчите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як передумо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творчого розвитку особистості учн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Метод “Джигсоу”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Фрейм-пробле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Професійна компетентність вчителя як передумова творчого розвитку особистості учня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Етапи роз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язання проблем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улювання проблем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теріалу для спостереження і спонукання до самостійного її розв'язан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будови плану розв'язан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улювання розв'язку або пояснення проблем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ного застосування сформульованих положень (джигсоу-презентаці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Роз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язання проблем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00"/>
                </a:solidFill>
                <a:uFillTx/>
                <a:latin typeface="Verdana"/>
              </a:rPr>
              <a:t>ТЕХНІКА НОУ-ХА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БЛЕМНЕ ПИТАНН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(РОБОТА У РОТАЦІЙНИХ ТРІЙКАХ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фесійна компетентність вчител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ворчий розвиток учнів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860640"/>
            <a:ext cx="485640" cy="1214640"/>
          </a:xfrm>
          <a:prstGeom prst="upDownArrow">
            <a:avLst>
              <a:gd name="adj1" fmla="val 50000"/>
              <a:gd name="adj2" fmla="val 4979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іа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остереження і спонуканн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 самостійного розв'язання пробл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3141360"/>
            <a:ext cx="795636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езентація “Інноваційні технології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езентація “Інформаційно-комунікативні технології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000000"/>
                </a:solidFill>
                <a:uFillTx/>
                <a:latin typeface="Verdana"/>
              </a:rPr>
              <a:t>Техніка “Брунькування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 Unicode MS"/>
              </a:rPr>
              <a:t>П</a:t>
            </a: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ідсумкова прес-конференція «Робота МОН: підсумки 2018-го/візія 2019-го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Практичне застосування</a:t>
            </a:r>
            <a:r>
              <a:rPr b="1" lang="ru-RU" sz="3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формульованих положень (джигсоу-презентаці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ючові компоненти професійної            компетентності педагогічного працівника, якими він повинен володіти для розвитку власної професійної майстерності та творчих здібностей здобувачів освіти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028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Інформацій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яка передбачає володіння інформаційними технологіями, уміння опрацьовувати різні види інформації. Серед них уміння й навички роботи з друкованими джерелами, уміння здобувати інформацію з інших джерел, переробляти її відповідно до цілей і завдань педагогічного процес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Комунікатив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вступати в комунікацію (спілкування), бути зрозумілим, спілкування без обмежень. Ці вміння допомагають зрозуміти інших (учнів, учителів, батькі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 Продуктив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працювати, отримувати результат, ухвалювати рішення та відповідати за них. Більшість науковців серед ключових компетенцій учителя на перше місце ставить саме продуктивну компетентніст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. Автономізація 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здатність до саморозвитку, творчості, самовизначення, самоосвіти, конкурентоспроможність. Адже вчитель перш за все вчиться сам, це вічний учен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. Мораль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готовність, спроможність і потреба жити за традиційними моральними норм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6. Психологіч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здатність використовувати психологічні засоби навчання в організації взаємодії в освітній діяльності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7. Предмет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до змісту якої входить володіння певними засобами навчання у сфері навчального процесу (спеціальність). Це сукупність умінь і навичок, необхідних для стимулювання активності як окремих учнів, так і колективу в цілому. До неї входять уміння вибирати правильний стиль і тон у спілкуванні, управляти їх увагою, темпом діяльності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. Соціаль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жити та працювати з оточуючи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9. Математич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працювати з числом, числовою інформаціє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. Особисті якості вчител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(це теж одна з найголовніших складових професійної компетентності) - доброзичливість, чуйність, урівноваженість, витонченість, толерантність, рефлексія, людяніст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Verdana"/>
              </a:rPr>
              <a:t>Основні показники педагогічної компетентності вчителя - це передусім:</a:t>
            </a:r>
            <a:br>
              <a:rPr sz="3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обистісні якості, особливо перетворювальні та психологіч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відомлення ролі педагога у вихованні громадянина, патріот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езперервне підвищення загальної та професійної культур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шукова діяльність педагог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лодіння методами педагогічного дослідженн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струювання власного педагогічного досвід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зультативність навчально-виховного процес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ктивна педагогічна діяльність, спрямована на перетворення особистості учня й учител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Основними проблемами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, </a:t>
            </a:r>
            <a:br>
              <a:rPr sz="2000"/>
            </a:b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з якими зустрічаються вчителі в цьому тисячолітті, є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стійне ускладнення змісту освіти, гарантування високого рівня освітніх стандарті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складнення проблем вихова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езперервне оволодіння прогресивними технологіями навчання й вихова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зв’язання складних професійно-педагогічних проблем, які вимагають інтеграції знань, практичних умінь і навичок з таких суміжних з педагогікою наук, як філософія, психологія, медицина, економіка, кібернетика та ін.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бота в єдиному інформаційному середовищі, що передбачає раціональне використання інформаційних технологій у навчально-виховному процесі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660066"/>
                </a:solidFill>
                <a:uFillTx/>
                <a:latin typeface="Verdana"/>
              </a:rPr>
              <a:t>Усе це може здійснювати тільки вчитель з високою професійною компетентністю, розвиненими творчими здібностями, високим рівнем інтелігентності, ерудованості, здібностей до неперервної освіт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20:19:06Z</dcterms:created>
  <dc:creator>Пользователь</dc:creator>
  <dc:description/>
  <dc:language>en-US</dc:language>
  <cp:lastModifiedBy>Пользователь</cp:lastModifiedBy>
  <dcterms:modified xsi:type="dcterms:W3CDTF">2019-03-13T20:41:28Z</dcterms:modified>
  <cp:revision>8</cp:revision>
  <dc:subject/>
  <dc:title>Фрейм-проблема</dc:title>
</cp:coreProperties>
</file>