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7D0-99BA-473D-84B9-8F7FB097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045-E520-4FE0-B556-B1D9B3DB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8CF-AFA8-4610-8288-847F3B7C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CB9-1C7F-446A-8855-0F2CD9EA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E7B0-D1BB-46B7-A67D-618868CE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86C-12FA-42B8-B2E8-894E8A3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762-932A-441A-BF50-0B81619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4C39-6266-4868-80A7-BD6F8D95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1C2-A9CB-4700-AAF1-0AA57B2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69A1-EAB3-4765-A988-1FBE54F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88E-8A4F-4326-80D0-5993915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0E0-CE5D-4086-B56E-92DD39C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1507-D7C9-40F9-9F3C-8177521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DBC7-59A7-49FF-90EC-7800D4D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51DC-C3DD-4398-ACC7-60652CF9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0B1-71FA-4821-B7D6-5E6CF47D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436E-CA70-4E9B-9524-BE276394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92D-2AB4-4048-99FD-E903D13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C98-1D9F-487B-BC69-5E82E79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69C-5EC4-410B-A116-3A4AF233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6F4-180C-464E-BCAC-C7538D7F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89F-BF60-4046-90FF-8856CED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44F-5F52-4ADF-B283-0138858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6CA-8BAE-4C8C-A7D9-B03B705B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7D8-EDFE-43F2-B630-45E6F286C4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7951-B715-4404-BB86-90F0FD6218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Verdana"/>
              </a:rPr>
              <a:t>Шкільний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семінар-практику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Інноваційне середовище навчального закла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у форматі Концепції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Нова українська школ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Засідання № 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Професійна компетентність вчите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як передумо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творчого розвитку особистості учн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етод “Джигсоу”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Фрейм-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рофесійна компетентність вчителя як передумова творчого розвитку особистості учня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Етапи 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теріалу для спостереження і спонукання до самостійного її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будови плану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розв'язку або поясне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ного застосування сформульованих положень (джигсоу-презентаці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НОУ-ХА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БЛЕМНЕ ПИТАНН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(РОБОТА У РОТАЦІЙНИХ ТРІЙКАХ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фесійна компетентність вчител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ворчий розвиток учнів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86064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і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остереження і спонуканн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 самостійного розв'язання пробл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3141360"/>
            <a:ext cx="795636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новацій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формаційно-комунікатив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“Брунькування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ідсумкова прес-конференція «Робота МОН: підсумки 2018-го/візія 2019-го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Практичне застосування</a:t>
            </a:r>
            <a:r>
              <a:rPr b="1" lang="ru-RU" sz="3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формульованих положень (джигсоу-презентаці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ючові компоненти професійної            компетентності педагогічного працівника, якими він повинен володіти для розвитку власної професійної майстерності та творчих здібностей здобувачів освіти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028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Інформацій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яка передбачає володіння інформаційними технологіями, уміння опрацьовувати різні види інформації. Серед них уміння й навички роботи з друкованими джерелами, уміння здобувати інформацію з інших джерел, переробляти її відповідно до цілей і завдань педагогічного процес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Комуніка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вступати в комунікацію (спілкування), бути зрозумілим, спілкування без обмежень. Ці вміння допомагають зрозуміти інших (учнів, учителів, батькі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 Продук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, отримувати результат, ухвалювати рішення та відповідати за них. Більшість науковців серед ключових компетенцій учителя на перше місце ставить саме продуктивну компетент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 Автономізація 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до саморозвитку, творчості, самовизначення, самоосвіти, конкурентоспроможність. Адже вчитель перш за все вчиться сам, це вічний учен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 Мор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готовність, спроможність і потреба жити за традиційними моральними норм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. Психологі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використовувати психологічні засоби навчання в організації взаємодії в освітній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. Предмет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до змісту якої входить володіння певними засобами навчання у сфері навчального процесу (спеціальність). Це сукупність умінь і навичок, необхідних для стимулювання активності як окремих учнів, так і колективу в цілому. До неї входять уміння вибирати правильний стиль і тон у спілкуванні, управляти їх увагою, темпом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. Соці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жити та працювати з оточуючи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. Математи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 з числом, числовою інформаціє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. Особисті якості вчител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(це теж одна з найголовніших складових професійної компетентності) - доброзичливість, чуйність, урівноваженість, витонченість, толерантність, рефлексія, людя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Verdana"/>
              </a:rPr>
              <a:t>Основні показники педагогічної компетентності вчителя - це передусім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обистісні якості, особливо перетворювальні та психологіч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відомлення ролі педагога у вихованні громадянина, патріо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езперервне підвищення загальної та професійної культур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шукова діяльність педагог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лодіння методами педагогічного дослідженн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струювання власного педагогічного досвід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зультативність навчально-виховного процес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тивна педагогічна діяльність, спрямована на перетворення особистості учня й учител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Основними проблемами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, </a:t>
            </a: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з якими зустрічаються вчителі в цьому тисячолітті, є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стійне ускладнення змісту освіти, гарантування високого рівня освітніх стандарті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складнення проблем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зперервне оволодіння прогресивними технологіями навчання й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зв’язання складних професійно-педагогічних проблем, які вимагають інтеграції знань, практичних умінь і навичок з таких суміжних з педагогікою наук, як філософія, психологія, медицина, економіка, кібернетика та ін.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бота в єдиному інформаційному середовищі, що передбачає раціональне використання інформаційних технологій у навчально-виховному процесі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660066"/>
                </a:solidFill>
                <a:uFillTx/>
                <a:latin typeface="Verdana"/>
              </a:rPr>
              <a:t>Усе це може здійснювати тільки вчитель з високою професійною компетентністю, розвиненими творчими здібностями, високим рівнем інтелігентності, ерудованості, здібностей до неперервної осві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20:19:06Z</dcterms:created>
  <dc:creator>Пользователь</dc:creator>
  <dc:description/>
  <dc:language>en-US</dc:language>
  <cp:lastModifiedBy>Пользователь</cp:lastModifiedBy>
  <dcterms:modified xsi:type="dcterms:W3CDTF">2019-03-13T20:41:28Z</dcterms:modified>
  <cp:revision>8</cp:revision>
  <dc:subject/>
  <dc:title>Фрейм-проблема</dc:title>
</cp:coreProperties>
</file>